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A77-3B19-4119-936E-3E6194F6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E487-5C1D-40CD-ABC4-92ADAEC7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5A2-002B-41CB-AF16-2307449C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DE2-4ACB-4043-A3E2-A78A4BAA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8590-6918-4963-BA0B-2FC4590D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DBB2-ABDA-4627-8EF3-EE2CAE45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1C82-7CFC-4AAE-A73D-8C56173E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F86E-10B3-406A-A075-B948C579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4406-2958-4CFD-A301-67AE5CEB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1895-FE77-4807-91E1-A7B8FEF5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B083-A921-41DE-9B60-3B3A9C16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650-3FC6-44F9-9371-FD1349BA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C4DE-4AA9-4F85-AB47-3F7FEE03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ADA4-3779-4F2B-A00F-33CB71DE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AAF6-80CA-4D15-ACA5-72A5FD09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DA60-2FF9-4D6E-BAEC-77C7E8DF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1724-4813-4967-BC49-ABFD6113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8E4-C8B3-453F-9D1F-5F328520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A98-E74D-4971-B751-A13BA7A5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EDC-3F5B-4B52-A6DA-4B73A798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66F-BF5E-4373-9AF2-AEE2D491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948-A891-47B8-B797-563472AC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441-5DC6-4E36-8E82-B0C1DCB8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137-0065-4C63-A775-FB25AF2D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F798-EF95-428D-81E9-89123827D4C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85D7-EED9-4AEA-B730-7E302592B0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3A43-3ADC-4B2B-87D5-669B551F000C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97FC-9334-401B-BAB6-0F0A52E1BC43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9080" y="1488600"/>
            <a:ext cx="58784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淡黄色稳重型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PPT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模板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3"/>
          <p:cNvSpPr/>
          <p:nvPr/>
        </p:nvSpPr>
        <p:spPr>
          <a:xfrm>
            <a:off x="7032600" y="3951360"/>
            <a:ext cx="1509840" cy="1512720"/>
          </a:xfrm>
          <a:prstGeom prst="ellipse">
            <a:avLst/>
          </a:prstGeom>
          <a:solidFill>
            <a:srgbClr val="003366">
              <a:alpha val="20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6456240" y="3951360"/>
            <a:ext cx="971640" cy="973080"/>
          </a:xfrm>
          <a:prstGeom prst="ellipse">
            <a:avLst/>
          </a:prstGeom>
          <a:solidFill>
            <a:srgbClr val="003366">
              <a:alpha val="2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8156520" y="4692600"/>
            <a:ext cx="771480" cy="771480"/>
          </a:xfrm>
          <a:prstGeom prst="ellipse">
            <a:avLst/>
          </a:prstGeom>
          <a:solidFill>
            <a:srgbClr val="003366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0" y="2714760"/>
            <a:ext cx="51786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00B0-4C26-4230-8223-16A2C54FCC1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"/>
          <p:cNvGrpSpPr/>
          <p:nvPr/>
        </p:nvGrpSpPr>
        <p:grpSpPr>
          <a:xfrm>
            <a:off x="1538280" y="1057320"/>
            <a:ext cx="6058080" cy="3332160"/>
            <a:chOff x="1538280" y="1057320"/>
            <a:chExt cx="6058080" cy="3332160"/>
          </a:xfrm>
        </p:grpSpPr>
        <p:sp>
          <p:nvSpPr>
            <p:cNvPr id="127" name="Rectangle 4"/>
            <p:cNvSpPr/>
            <p:nvPr/>
          </p:nvSpPr>
          <p:spPr>
            <a:xfrm>
              <a:off x="4815000" y="1844280"/>
              <a:ext cx="18568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文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3205440" y="3202560"/>
              <a:ext cx="278532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文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2462760" y="1844280"/>
              <a:ext cx="18568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文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1753200" y="1057320"/>
              <a:ext cx="5843160" cy="3229920"/>
            </a:xfrm>
            <a:custGeom>
              <a:avLst/>
              <a:gdLst>
                <a:gd name="textAreaLeft" fmla="*/ 855360 w 5843160"/>
                <a:gd name="textAreaRight" fmla="*/ 4987800 w 5843160"/>
                <a:gd name="textAreaTop" fmla="*/ 472680 h 3229920"/>
                <a:gd name="textAreaBottom" fmla="*/ 2757240 h 3229920"/>
              </a:gdLst>
              <a:ahLst/>
              <a:rect l="textAreaLeft" t="textAreaTop" r="textAreaRight" b="textAreaBottom"/>
              <a:pathLst>
                <a:path w="23080" h="18012">
                  <a:moveTo>
                    <a:pt x="19625" y="14829"/>
                  </a:moveTo>
                  <a:cubicBezTo>
                    <a:pt x="20203" y="13564"/>
                    <a:pt x="20502" y="12190"/>
                    <a:pt x="20502" y="10800"/>
                  </a:cubicBezTo>
                  <a:cubicBezTo>
                    <a:pt x="20502" y="5441"/>
                    <a:pt x="16158" y="1098"/>
                    <a:pt x="10800" y="1098"/>
                  </a:cubicBezTo>
                  <a:cubicBezTo>
                    <a:pt x="10799" y="1098"/>
                    <a:pt x="10798" y="1098"/>
                    <a:pt x="10798" y="1098"/>
                  </a:cubicBezTo>
                  <a:lnTo>
                    <a:pt x="10798" y="0"/>
                  </a:lnTo>
                  <a:cubicBezTo>
                    <a:pt x="10798" y="0"/>
                    <a:pt x="10799" y="0"/>
                    <a:pt x="10799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2347"/>
                    <a:pt x="21267" y="13877"/>
                    <a:pt x="20624" y="15285"/>
                  </a:cubicBezTo>
                  <a:lnTo>
                    <a:pt x="23080" y="16407"/>
                  </a:lnTo>
                  <a:lnTo>
                    <a:pt x="18775" y="18012"/>
                  </a:lnTo>
                  <a:lnTo>
                    <a:pt x="17169" y="13708"/>
                  </a:lnTo>
                  <a:lnTo>
                    <a:pt x="19625" y="14829"/>
                  </a:lnTo>
                  <a:close/>
                </a:path>
              </a:pathLst>
            </a:custGeom>
            <a:solidFill>
              <a:srgbClr val="b0bfd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0"/>
            <p:cNvSpPr/>
            <p:nvPr/>
          </p:nvSpPr>
          <p:spPr>
            <a:xfrm>
              <a:off x="1645560" y="1159560"/>
              <a:ext cx="5843160" cy="3229920"/>
            </a:xfrm>
            <a:custGeom>
              <a:avLst/>
              <a:gdLst>
                <a:gd name="textAreaLeft" fmla="*/ 855360 w 5843160"/>
                <a:gd name="textAreaRight" fmla="*/ 4987800 w 5843160"/>
                <a:gd name="textAreaTop" fmla="*/ 472680 h 3229920"/>
                <a:gd name="textAreaBottom" fmla="*/ 2757240 h 3229920"/>
              </a:gdLst>
              <a:ahLst/>
              <a:rect l="textAreaLeft" t="textAreaTop" r="textAreaRight" b="textAreaBottom"/>
              <a:pathLst>
                <a:path w="20348" h="21600">
                  <a:moveTo>
                    <a:pt x="2898" y="16429"/>
                  </a:moveTo>
                  <a:cubicBezTo>
                    <a:pt x="4718" y="18984"/>
                    <a:pt x="7662" y="20502"/>
                    <a:pt x="10800" y="20502"/>
                  </a:cubicBezTo>
                  <a:cubicBezTo>
                    <a:pt x="14265" y="20502"/>
                    <a:pt x="17468" y="18653"/>
                    <a:pt x="19201" y="15652"/>
                  </a:cubicBezTo>
                  <a:lnTo>
                    <a:pt x="20152" y="16201"/>
                  </a:lnTo>
                  <a:cubicBezTo>
                    <a:pt x="18222" y="19542"/>
                    <a:pt x="14657" y="21600"/>
                    <a:pt x="10800" y="21600"/>
                  </a:cubicBezTo>
                  <a:cubicBezTo>
                    <a:pt x="7307" y="21600"/>
                    <a:pt x="4030" y="19911"/>
                    <a:pt x="2003" y="17066"/>
                  </a:cubicBezTo>
                  <a:lnTo>
                    <a:pt x="-196" y="18633"/>
                  </a:lnTo>
                  <a:lnTo>
                    <a:pt x="565" y="14102"/>
                  </a:lnTo>
                  <a:lnTo>
                    <a:pt x="5097" y="14862"/>
                  </a:lnTo>
                  <a:lnTo>
                    <a:pt x="2898" y="16429"/>
                  </a:lnTo>
                  <a:close/>
                </a:path>
              </a:pathLst>
            </a:custGeom>
            <a:solidFill>
              <a:srgbClr val="b0bfd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>
              <a:off x="1538280" y="1057320"/>
              <a:ext cx="5843160" cy="3229920"/>
            </a:xfrm>
            <a:custGeom>
              <a:avLst/>
              <a:gdLst>
                <a:gd name="textAreaLeft" fmla="*/ 855360 w 5843160"/>
                <a:gd name="textAreaRight" fmla="*/ 4987800 w 5843160"/>
                <a:gd name="textAreaTop" fmla="*/ 472680 h 3229920"/>
                <a:gd name="textAreaBottom" fmla="*/ 2757240 h 3229920"/>
              </a:gdLst>
              <a:ahLst/>
              <a:rect l="textAreaLeft" t="textAreaTop" r="textAreaRight" b="textAreaBottom"/>
              <a:pathLst>
                <a:path w="13060" h="18839">
                  <a:moveTo>
                    <a:pt x="9878" y="1141"/>
                  </a:moveTo>
                  <a:cubicBezTo>
                    <a:pt x="4899" y="1616"/>
                    <a:pt x="1098" y="5798"/>
                    <a:pt x="1098" y="10800"/>
                  </a:cubicBezTo>
                  <a:cubicBezTo>
                    <a:pt x="1098" y="12503"/>
                    <a:pt x="1546" y="14176"/>
                    <a:pt x="2397" y="15651"/>
                  </a:cubicBezTo>
                  <a:lnTo>
                    <a:pt x="1446" y="16200"/>
                  </a:lnTo>
                  <a:cubicBezTo>
                    <a:pt x="499" y="14558"/>
                    <a:pt x="0" y="12695"/>
                    <a:pt x="0" y="10800"/>
                  </a:cubicBezTo>
                  <a:cubicBezTo>
                    <a:pt x="0" y="5232"/>
                    <a:pt x="4232" y="577"/>
                    <a:pt x="9774" y="48"/>
                  </a:cubicBezTo>
                  <a:lnTo>
                    <a:pt x="9517" y="-2639"/>
                  </a:lnTo>
                  <a:lnTo>
                    <a:pt x="13060" y="286"/>
                  </a:lnTo>
                  <a:lnTo>
                    <a:pt x="10135" y="3829"/>
                  </a:lnTo>
                  <a:lnTo>
                    <a:pt x="9878" y="1141"/>
                  </a:lnTo>
                  <a:close/>
                </a:path>
              </a:pathLst>
            </a:custGeom>
            <a:solidFill>
              <a:srgbClr val="b0bfd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41CD-FC63-45E1-BA91-844C7225780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标题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Calibri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7AF4-B549-4E78-904D-56242F22C5A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7280" y="1574640"/>
          <a:ext cx="6851520" cy="3127320"/>
        </p:xfrm>
        <a:graphic>
          <a:graphicData uri="http://schemas.openxmlformats.org/drawingml/2006/table">
            <a:tbl>
              <a:tblPr/>
              <a:tblGrid>
                <a:gridCol w="1141560"/>
                <a:gridCol w="1141200"/>
                <a:gridCol w="1141560"/>
                <a:gridCol w="1141200"/>
                <a:gridCol w="1141560"/>
                <a:gridCol w="114444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85"/>
          <p:cNvSpPr/>
          <p:nvPr/>
        </p:nvSpPr>
        <p:spPr>
          <a:xfrm>
            <a:off x="1411560" y="593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497d"/>
                </a:solidFill>
                <a:latin typeface="Arial"/>
                <a:ea typeface="微软雅黑"/>
              </a:rPr>
              <a:t>相关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B2E7-C4A5-4702-8706-664B8802B0B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"/>
          <p:cNvSpPr/>
          <p:nvPr/>
        </p:nvSpPr>
        <p:spPr>
          <a:xfrm>
            <a:off x="3492360" y="1128600"/>
            <a:ext cx="0" cy="237672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>
            <a:off x="5435640" y="1128600"/>
            <a:ext cx="0" cy="237672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987360" y="13446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f497d"/>
                </a:solidFill>
                <a:latin typeface="Estrangelo Edessa"/>
                <a:ea typeface="微软雅黑"/>
              </a:rPr>
              <a:t>谢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987360" y="22971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f497d"/>
                </a:solidFill>
                <a:latin typeface="Estrangelo Edessa"/>
                <a:ea typeface="微软雅黑"/>
              </a:rPr>
              <a:t>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7032600" y="3951360"/>
            <a:ext cx="1509840" cy="1512720"/>
          </a:xfrm>
          <a:prstGeom prst="ellipse">
            <a:avLst/>
          </a:prstGeom>
          <a:solidFill>
            <a:srgbClr val="003366">
              <a:alpha val="20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6456240" y="3951360"/>
            <a:ext cx="971640" cy="973080"/>
          </a:xfrm>
          <a:prstGeom prst="ellipse">
            <a:avLst/>
          </a:prstGeom>
          <a:solidFill>
            <a:srgbClr val="003366">
              <a:alpha val="2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8156520" y="4692600"/>
            <a:ext cx="771480" cy="771480"/>
          </a:xfrm>
          <a:prstGeom prst="ellipse">
            <a:avLst/>
          </a:prstGeom>
          <a:solidFill>
            <a:srgbClr val="003366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148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7"/>
            <p:cNvSpPr/>
            <p:nvPr/>
          </p:nvSpPr>
          <p:spPr>
            <a:xfrm rot="20926800">
              <a:off x="2360160" y="2964960"/>
              <a:ext cx="38898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9:30:48Z</dcterms:created>
  <dc:creator>yellownancy</dc:creator>
  <dc:description/>
  <dc:language>en-US</dc:language>
  <cp:lastModifiedBy>a</cp:lastModifiedBy>
  <dcterms:modified xsi:type="dcterms:W3CDTF">2015-01-14T08:25:11Z</dcterms:modified>
  <cp:revision>1</cp:revision>
  <dc:subject/>
  <dc:title>蓝色稳重型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