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427-BA4D-40BD-B81F-EA0888CD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D36-D7FF-4272-997F-CA8190C4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592-7BEA-46FB-934D-9F9ED205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02EA-6FC2-4A26-B4D1-91F6B80D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9331-14B9-4849-A6A1-9CBD9BF2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90A9-58CB-4F5C-A5C5-D1A7E478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9A12-490D-4BE9-95DB-CF250BF2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2947-849E-4978-9F99-E0F76563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B712-4113-450B-8FC4-C2E14F43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0609-31B6-4E11-8795-0FA75589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1D2A-74AC-4EB4-AE39-E5E8C703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F49-BC19-46D3-BFA7-90E6A363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80D5-5988-43A5-B2BB-1BE7987B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0F71-8AB3-46E0-8B1B-FF51079A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8FE8-F8C9-4007-BB5D-182860B1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A200-6E36-4A19-9B96-68835654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3997-2458-4447-A0C4-7885B932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64FE-13E4-4C32-9271-D54D897E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FB811-447E-490F-9E90-ABD3A2C3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1566-7DAD-475A-872F-A0B7E321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9AA3-3DED-48C5-9179-96A7120C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A78C5-2F29-4462-B24D-8D226498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DCB-4E3E-4247-8360-FB59B138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81411-D9BC-47BD-9C1A-7F0E9D6E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637BB-28F3-4A19-820D-6232A579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CC7F-6876-412C-8FBB-745EBE3E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FCB89-7DDA-4188-8401-3B061B20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CC55B-D4B6-4ABF-ACB9-8F560BE2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8E3A3-59DB-4482-9F9C-AEFB56F9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71776-46EA-48EB-8B6F-931F7E7E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BFB-E4DD-4216-B72C-DCB9CDC4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E6B-E9BB-4AF1-A9C2-0B7995C1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93CF-EC6E-467C-B2AD-6C72D367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2E1-C255-4CB7-993E-B8C59DD1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0ED-82F4-43D8-AF14-04AAAA86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7A8-8942-4A21-B135-4EA0D696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7196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487196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871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7196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487196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4871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7196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487196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4871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7196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487196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4871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7196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487196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4871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7196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487196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7196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487196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7196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487196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557C-C914-4B96-AB45-0E74BFC18E5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7196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487196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871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7196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487196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4871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7196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487196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4871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7196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487196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4871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7196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487196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4871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7196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487196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7196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487196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7196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487196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303D-5BE6-4E0D-BF0E-CF4E4EE1E81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11A8-05F7-497D-8984-6209F0A4EEB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3A5F-A7A8-4D95-9889-6A47046824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87196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3573360"/>
            <a:ext cx="640080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48719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7196"/>
              </a:solidFill>
              <a:latin typeface="微软雅黑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871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719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6:05:09Z</dcterms:created>
  <dc:creator>Eric</dc:creator>
  <dc:description/>
  <dc:language>en-US</dc:language>
  <cp:lastModifiedBy>a</cp:lastModifiedBy>
  <dcterms:modified xsi:type="dcterms:W3CDTF">2015-01-12T13:27:09Z</dcterms:modified>
  <cp:revision>33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