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C57-9BBE-41EC-B23D-6356DAB8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EB3-A209-4749-9BCD-2DAEE2BB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AF2-351A-45DF-B7A0-29909384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D8B-98B9-4B8D-8B7C-AF461447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30B-C755-4C14-8885-69D63316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6CA3-F1A3-4924-87E1-6F88D46A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50E5-0938-49EF-94B5-9AC28823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3AF-2E6A-4A11-B96A-04C94EE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D161-94DF-4364-A9DC-FE737012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5C78-E256-4146-A182-A001B1F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C75E-831D-4019-A080-EE070CB3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1A5-D1EA-4605-9B99-F1590A86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6AF7-827D-4E8A-8F8F-5A7EB9FD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5ABD-842E-4523-ACB7-116AD37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7B7-0F0F-4D5F-B8D8-7842519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F8AF-C699-4047-8676-C8632EC6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D84-5729-48A2-9981-54F44336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2C3-DC4A-4ECB-9403-1D0AA18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4B-C807-4334-ABDC-353C310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A79-7EDA-4E77-A843-12BE50E0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436-4C4D-4803-8352-313A31A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333-C61E-468C-A6F7-67126786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971-C2EF-46D2-952B-383BEA28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28B-F3B2-46A6-8077-06D0E4D5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FF5-D16A-4D63-8F21-7FF1C21DF4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DEEF-A3EF-457D-8E0E-5E9C972FCD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39F2-98A8-40D3-B2EE-BB7BE01B5B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.baidu.com/i?ct=503316480&amp;z=0&amp;tn=baiduimagedetail&amp;word=%B8%E7%B0%D7%C4%E1&amp;in=28015&amp;cl=2&amp;cm=1&amp;sc=0&amp;lm=-1&amp;pn=17&amp;rn=1&amp;di=986594029&amp;ln=1057&amp;fr=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547640" y="981000"/>
            <a:ext cx="5400000" cy="5184000"/>
            <a:chOff x="1547640" y="981000"/>
            <a:chExt cx="5400000" cy="5184000"/>
          </a:xfrm>
        </p:grpSpPr>
        <p:sp>
          <p:nvSpPr>
            <p:cNvPr id="83" name="Oval 3"/>
            <p:cNvSpPr/>
            <p:nvPr/>
          </p:nvSpPr>
          <p:spPr>
            <a:xfrm>
              <a:off x="1547640" y="981000"/>
              <a:ext cx="5400000" cy="511776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地球自转"/>
            <p:cNvPicPr/>
            <p:nvPr/>
          </p:nvPicPr>
          <p:blipFill>
            <a:blip r:embed="rId2"/>
            <a:stretch/>
          </p:blipFill>
          <p:spPr>
            <a:xfrm>
              <a:off x="1547640" y="981000"/>
              <a:ext cx="5400000" cy="51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5"/>
          <p:cNvSpPr/>
          <p:nvPr/>
        </p:nvSpPr>
        <p:spPr>
          <a:xfrm>
            <a:off x="2268360" y="2852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1.2  </a:t>
            </a:r>
            <a:r>
              <a:rPr b="0" lang="zh-CN" sz="4000" spc="-1" strike="noStrike">
                <a:solidFill>
                  <a:srgbClr val="ff9933"/>
                </a:solidFill>
                <a:latin typeface="Arial"/>
                <a:ea typeface="黑体"/>
              </a:rPr>
              <a:t>地球的运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56000" y="386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井中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----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赵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地球上的五带"/>
          <p:cNvPicPr/>
          <p:nvPr/>
        </p:nvPicPr>
        <p:blipFill>
          <a:blip r:embed="rId2"/>
          <a:srcRect l="46667" t="8959" r="14165" b="7461"/>
          <a:stretch/>
        </p:blipFill>
        <p:spPr>
          <a:xfrm>
            <a:off x="611280" y="1413000"/>
            <a:ext cx="4410000" cy="4392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"/>
          <p:cNvSpPr/>
          <p:nvPr/>
        </p:nvSpPr>
        <p:spPr>
          <a:xfrm>
            <a:off x="1158480" y="54936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地球自转与公转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743120" y="31608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684360" y="4221000"/>
            <a:ext cx="41749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684360" y="2997360"/>
            <a:ext cx="424800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1547640" y="1916280"/>
            <a:ext cx="2448000" cy="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1547640" y="5229360"/>
            <a:ext cx="2448000" cy="0"/>
          </a:xfrm>
          <a:prstGeom prst="line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292720" y="981000"/>
            <a:ext cx="31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太阳直射点的回归运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期为一回归年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364000" y="27082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北回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往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2700360" y="285264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11280" y="3573360"/>
            <a:ext cx="432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2700360" y="342900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2700360" y="400536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5"/>
          <p:cNvSpPr/>
          <p:nvPr/>
        </p:nvSpPr>
        <p:spPr>
          <a:xfrm>
            <a:off x="2627280" y="2997360"/>
            <a:ext cx="0" cy="50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571000" y="3645000"/>
            <a:ext cx="26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赤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继续往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482080" y="4437000"/>
            <a:ext cx="26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直射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归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往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>
            <a:off x="2627280" y="3645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9"/>
          <p:cNvSpPr/>
          <p:nvPr/>
        </p:nvSpPr>
        <p:spPr>
          <a:xfrm flipV="1">
            <a:off x="3132000" y="3645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5292720" y="537372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又赤道直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后继续往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V="1">
            <a:off x="3132000" y="3068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50920" y="162864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地球的自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4000" y="3500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西向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0920" y="3933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自左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50920" y="4365720"/>
            <a:ext cx="34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俯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逆时针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5229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仰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顺时针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2349360"/>
            <a:ext cx="2737080" cy="703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概念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地球绕其自转轴的旋转运动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地轴北端始终指向北极星附近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675040" y="1561680"/>
            <a:ext cx="754920" cy="47408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us_9718"/>
          <p:cNvPicPr/>
          <p:nvPr/>
        </p:nvPicPr>
        <p:blipFill>
          <a:blip r:embed="rId2"/>
          <a:stretch/>
        </p:blipFill>
        <p:spPr>
          <a:xfrm>
            <a:off x="3995640" y="198900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395280" y="2205000"/>
            <a:ext cx="3200400" cy="3200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"/>
          <p:cNvSpPr/>
          <p:nvPr/>
        </p:nvSpPr>
        <p:spPr>
          <a:xfrm>
            <a:off x="4876920" y="2209680"/>
            <a:ext cx="3200400" cy="3200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943600" y="3200400"/>
            <a:ext cx="1066680" cy="83808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01640" y="571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顺时针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116000" y="836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 flipH="1">
            <a:off x="1186560" y="2852640"/>
            <a:ext cx="1441800" cy="1152720"/>
          </a:xfrm>
          <a:custGeom>
            <a:avLst/>
            <a:gdLst>
              <a:gd name="textAreaLeft" fmla="*/ 210960 w 1441800"/>
              <a:gd name="textAreaRight" fmla="*/ 1230840 w 144180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4300" h="162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042920" y="56610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逆时针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27440" y="105264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俯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131080" y="1125360"/>
            <a:ext cx="235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极上空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仰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24000" y="549000"/>
            <a:ext cx="28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球的公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20090507100909916"/>
          <p:cNvPicPr/>
          <p:nvPr/>
        </p:nvPicPr>
        <p:blipFill>
          <a:blip r:embed="rId2"/>
          <a:stretch/>
        </p:blipFill>
        <p:spPr>
          <a:xfrm>
            <a:off x="468360" y="549360"/>
            <a:ext cx="5329080" cy="382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68360" y="4653000"/>
          <a:ext cx="8229600" cy="1689120"/>
        </p:xfrm>
        <a:graphic>
          <a:graphicData uri="http://schemas.openxmlformats.org/drawingml/2006/table">
            <a:tbl>
              <a:tblPr/>
              <a:tblGrid>
                <a:gridCol w="2835360"/>
                <a:gridCol w="1268280"/>
                <a:gridCol w="1536840"/>
                <a:gridCol w="1164960"/>
                <a:gridCol w="142416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节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日期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春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夏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秋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冬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太阳直射点的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"/>
          <p:cNvSpPr/>
          <p:nvPr/>
        </p:nvSpPr>
        <p:spPr>
          <a:xfrm>
            <a:off x="3419640" y="570852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赤道     北回归线    赤道     南回归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517440" y="162864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谁提出了“日心说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6"/>
          <p:cNvGrpSpPr/>
          <p:nvPr/>
        </p:nvGrpSpPr>
        <p:grpSpPr>
          <a:xfrm>
            <a:off x="6156360" y="2205000"/>
            <a:ext cx="2369880" cy="1944720"/>
            <a:chOff x="6156360" y="2205000"/>
            <a:chExt cx="2369880" cy="1944720"/>
          </a:xfrm>
        </p:grpSpPr>
        <p:pic>
          <p:nvPicPr>
            <p:cNvPr id="110" name="Picture 27" descr="u=544600802,2895111796&amp;fm=3&amp;gp=29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56360" y="2205000"/>
              <a:ext cx="145584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28"/>
            <p:cNvSpPr/>
            <p:nvPr/>
          </p:nvSpPr>
          <p:spPr>
            <a:xfrm>
              <a:off x="7934040" y="3722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哥白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684360" y="1773360"/>
            <a:ext cx="3962160" cy="38098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2438280" y="1773360"/>
            <a:ext cx="609840" cy="378936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108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2742840" y="1508400"/>
            <a:ext cx="5472360" cy="5000040"/>
            <a:chOff x="2742840" y="1508400"/>
            <a:chExt cx="5472360" cy="5000040"/>
          </a:xfrm>
        </p:grpSpPr>
        <p:sp>
          <p:nvSpPr>
            <p:cNvPr id="115" name="Line 5"/>
            <p:cNvSpPr/>
            <p:nvPr/>
          </p:nvSpPr>
          <p:spPr>
            <a:xfrm flipH="1">
              <a:off x="2742840" y="175248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 flipH="1">
              <a:off x="4419720" y="2514600"/>
              <a:ext cx="266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 flipH="1">
              <a:off x="4647960" y="327636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H="1">
              <a:off x="4267080" y="4800600"/>
              <a:ext cx="2819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2742840" y="5562360"/>
              <a:ext cx="4419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7547400" y="1508400"/>
              <a:ext cx="667800" cy="5000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太   阳   平   行   光   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2"/>
          <p:cNvSpPr/>
          <p:nvPr/>
        </p:nvSpPr>
        <p:spPr>
          <a:xfrm>
            <a:off x="3508200" y="2955240"/>
            <a:ext cx="546120" cy="149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昼 半 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356480" y="3124080"/>
            <a:ext cx="9118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 半 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4800600" y="6095880"/>
            <a:ext cx="914400" cy="457200"/>
          </a:xfrm>
          <a:prstGeom prst="wedgeRectCallout">
            <a:avLst>
              <a:gd name="adj1" fmla="val -242884"/>
              <a:gd name="adj2" fmla="val -434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黄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533520" y="685800"/>
            <a:ext cx="609480" cy="838080"/>
          </a:xfrm>
          <a:prstGeom prst="wedgeRectCallout">
            <a:avLst>
              <a:gd name="adj1" fmla="val 265365"/>
              <a:gd name="adj2" fmla="val 176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304920" y="3048120"/>
            <a:ext cx="457200" cy="1066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1763280" y="1268280"/>
            <a:ext cx="1800360" cy="446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793621817491"/>
          <p:cNvPicPr/>
          <p:nvPr/>
        </p:nvPicPr>
        <p:blipFill>
          <a:blip r:embed="rId2"/>
          <a:srcRect l="0" t="2044" r="0" b="4026"/>
          <a:stretch/>
        </p:blipFill>
        <p:spPr>
          <a:xfrm>
            <a:off x="539640" y="928800"/>
            <a:ext cx="8001000" cy="549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11280" y="765000"/>
            <a:ext cx="244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季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4195800" y="64152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1128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3564000" y="537372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795672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729320" y="4888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说出太阳直射的移动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23800" y="201456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219320" y="19810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66080" y="207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自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3276720" y="16765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114800" y="1392120"/>
            <a:ext cx="32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定义：地球绕着地轴不停地旋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：自西向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期：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昼夜交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理意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月星辰东升西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952880" y="26668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666080" y="413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球的公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276720" y="36576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024080" y="3578400"/>
            <a:ext cx="32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：地球绕太阳不停地旋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方向：自西向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期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征：地轴倾斜，且空间指向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季变化（昼夜长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理意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带的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4800600" y="49528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214600" y="281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799200" y="6206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地球的公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158120" y="1268280"/>
            <a:ext cx="26982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概念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地球绕太阳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6400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方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地球自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1476360" y="2563920"/>
            <a:ext cx="468000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us_9718"/>
          <p:cNvPicPr/>
          <p:nvPr/>
        </p:nvPicPr>
        <p:blipFill>
          <a:blip r:embed="rId2"/>
          <a:stretch/>
        </p:blipFill>
        <p:spPr>
          <a:xfrm>
            <a:off x="3781440" y="2421000"/>
            <a:ext cx="358920" cy="36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us_9718"/>
          <p:cNvPicPr/>
          <p:nvPr/>
        </p:nvPicPr>
        <p:blipFill>
          <a:blip r:embed="rId3"/>
          <a:stretch/>
        </p:blipFill>
        <p:spPr>
          <a:xfrm>
            <a:off x="1332000" y="3139920"/>
            <a:ext cx="358560" cy="37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us_9718"/>
          <p:cNvPicPr/>
          <p:nvPr/>
        </p:nvPicPr>
        <p:blipFill>
          <a:blip r:embed="rId4"/>
          <a:stretch/>
        </p:blipFill>
        <p:spPr>
          <a:xfrm>
            <a:off x="3781440" y="3932280"/>
            <a:ext cx="358920" cy="36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us_9718"/>
          <p:cNvPicPr/>
          <p:nvPr/>
        </p:nvPicPr>
        <p:blipFill>
          <a:blip r:embed="rId5"/>
          <a:stretch/>
        </p:blipFill>
        <p:spPr>
          <a:xfrm>
            <a:off x="5940360" y="3139920"/>
            <a:ext cx="358920" cy="370080"/>
          </a:xfrm>
          <a:prstGeom prst="rect">
            <a:avLst/>
          </a:prstGeom>
          <a:ln w="0">
            <a:noFill/>
          </a:ln>
        </p:spPr>
      </p:pic>
      <p:sp>
        <p:nvSpPr>
          <p:cNvPr id="155" name="Oval 10"/>
          <p:cNvSpPr/>
          <p:nvPr/>
        </p:nvSpPr>
        <p:spPr>
          <a:xfrm>
            <a:off x="3637080" y="2995560"/>
            <a:ext cx="698400" cy="6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6013440" y="29955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1405080" y="2995560"/>
            <a:ext cx="21564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852720" y="378792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4"/>
          <p:cNvSpPr/>
          <p:nvPr/>
        </p:nvSpPr>
        <p:spPr>
          <a:xfrm>
            <a:off x="3852720" y="2276640"/>
            <a:ext cx="21600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V="1">
            <a:off x="5653080" y="3139560"/>
            <a:ext cx="100800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V="1">
            <a:off x="3637080" y="249228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1081080" y="3139560"/>
            <a:ext cx="90000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3565440" y="4003200"/>
            <a:ext cx="71928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9"/>
          <p:cNvSpPr/>
          <p:nvPr/>
        </p:nvSpPr>
        <p:spPr>
          <a:xfrm>
            <a:off x="4429080" y="3355920"/>
            <a:ext cx="14414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"/>
          <p:cNvSpPr/>
          <p:nvPr/>
        </p:nvSpPr>
        <p:spPr>
          <a:xfrm flipH="1">
            <a:off x="1765440" y="3355920"/>
            <a:ext cx="18000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3995640" y="3645000"/>
            <a:ext cx="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3997440" y="256356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H="1" flipV="1">
            <a:off x="4644720" y="2563920"/>
            <a:ext cx="1152360" cy="288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95280" y="4941720"/>
            <a:ext cx="38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球公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需时间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一恒星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211640" y="4941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日点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日点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4427640" y="54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一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4427640" y="602136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速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6554520" y="314172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近日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7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2340000" y="184464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春分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前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0" y="3213000"/>
            <a:ext cx="143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远日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2691360" y="4292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秋分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(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前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2"/>
          <p:cNvSpPr/>
          <p:nvPr/>
        </p:nvSpPr>
        <p:spPr>
          <a:xfrm flipH="1">
            <a:off x="1763640" y="2565360"/>
            <a:ext cx="115272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3"/>
          <p:cNvSpPr/>
          <p:nvPr/>
        </p:nvSpPr>
        <p:spPr>
          <a:xfrm>
            <a:off x="1692360" y="3789360"/>
            <a:ext cx="1008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4"/>
          <p:cNvSpPr/>
          <p:nvPr/>
        </p:nvSpPr>
        <p:spPr>
          <a:xfrm flipV="1">
            <a:off x="4572000" y="3860280"/>
            <a:ext cx="1224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793621817491"/>
          <p:cNvPicPr/>
          <p:nvPr/>
        </p:nvPicPr>
        <p:blipFill>
          <a:blip r:embed="rId2"/>
          <a:srcRect l="0" t="2044" r="0" b="4026"/>
          <a:stretch/>
        </p:blipFill>
        <p:spPr>
          <a:xfrm>
            <a:off x="539640" y="928800"/>
            <a:ext cx="8001000" cy="5491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0" y="189000"/>
            <a:ext cx="2448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季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4195800" y="641520"/>
            <a:ext cx="43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WordArt 5"/>
          <p:cNvSpPr txBox="1"/>
          <p:nvPr/>
        </p:nvSpPr>
        <p:spPr>
          <a:xfrm>
            <a:off x="61128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3564000" y="537372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7956720" y="3860640"/>
            <a:ext cx="43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ffff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</a:t>
            </a:r>
            <a:endParaRPr b="0" lang="en-US" sz="2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ffff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643280" y="26028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说出太阳直射的移动规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611280" y="692280"/>
            <a:ext cx="2520720" cy="1152360"/>
          </a:xfrm>
          <a:prstGeom prst="wedgeRoundRectCallout">
            <a:avLst>
              <a:gd name="adj1" fmla="val 57680"/>
              <a:gd name="adj2" fmla="val 92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２１日前后，太阳光直射在赤道上，这一天称为春分日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４、５为北半球春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0" y="4797360"/>
            <a:ext cx="2232000" cy="1008000"/>
          </a:xfrm>
          <a:prstGeom prst="wedgeRoundRectCallout">
            <a:avLst>
              <a:gd name="adj1" fmla="val 1351"/>
              <a:gd name="adj2" fmla="val -78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前后，太阳光照北回归线上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夏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6227640" y="5157720"/>
            <a:ext cx="2303640" cy="935280"/>
          </a:xfrm>
          <a:prstGeom prst="wedgeRoundRectCallout">
            <a:avLst>
              <a:gd name="adj1" fmla="val -62611"/>
              <a:gd name="adj2" fmla="val -10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前后，太阳光照在赤道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6227640" y="620640"/>
            <a:ext cx="2519640" cy="1079640"/>
          </a:xfrm>
          <a:prstGeom prst="wedgeRoundRectCallout">
            <a:avLst>
              <a:gd name="adj1" fmla="val -5449"/>
              <a:gd name="adj2" fmla="val 680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前后，太阳光照在北回归线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冬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32:11Z</dcterms:created>
  <dc:creator>微软用户</dc:creator>
  <dc:description/>
  <dc:language>en-US</dc:language>
  <cp:lastModifiedBy>a</cp:lastModifiedBy>
  <dcterms:modified xsi:type="dcterms:W3CDTF">2015-01-12T08:59:21Z</dcterms:modified>
  <cp:revision>19</cp:revision>
  <dc:subject/>
  <dc:title>地球的运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