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A4570-8B54-4A95-B4C0-B4468753E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1973-245E-4474-AF54-57701FBB5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F215D-F7B8-4CF9-B1E0-0815E748C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7B97-2E5C-491C-B8C2-373184F5C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DDD0-43D1-46A5-B1CB-FBCE69473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CEF48-374C-4496-8A35-631D93D1B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6514-304A-407F-8B20-911A219E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6C86-3087-4547-81A5-1CB2817E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ACD4-8A14-436D-B7ED-DC3691F9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3F17-A538-4D40-99D8-B8DDC947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0CC38-7CFE-45F5-B2AE-A1EB64CB7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EE3C8-E5C1-416B-8427-D6C12184F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fd gz er azre "/>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8285B515-8C68-4B3D-9106-6EF89E24B90F}"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8E7A-75BF-401C-BA8B-D25E55883447}"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6C69-B94A-4572-84CA-DF5B5CB3031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ds fsd a re yytr("/>
          <p:cNvPicPr/>
          <p:nvPr/>
        </p:nvPicPr>
        <p:blipFill>
          <a:blip r:embed="rId1"/>
          <a:stretch/>
        </p:blipFill>
        <p:spPr>
          <a:xfrm>
            <a:off x="0" y="0"/>
            <a:ext cx="9144000" cy="6858000"/>
          </a:xfrm>
          <a:prstGeom prst="rect">
            <a:avLst/>
          </a:prstGeom>
          <a:ln w="0">
            <a:noFill/>
          </a:ln>
        </p:spPr>
      </p:pic>
      <p:sp>
        <p:nvSpPr>
          <p:cNvPr id="80" name="Text Box 3"/>
          <p:cNvSpPr/>
          <p:nvPr/>
        </p:nvSpPr>
        <p:spPr>
          <a:xfrm>
            <a:off x="1788120" y="5253120"/>
            <a:ext cx="58514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53240" y="11592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466560" y="83664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99320" y="1159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466560" y="83664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5T06:16:47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