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D81D-D638-4AB8-B089-AD8197ACF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F99D-C530-4528-AC19-E4B1EC71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BA48-2193-4098-8661-00DF7E816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E222-E4CF-4986-9F48-D1263EF6B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300B-7B51-4FC9-A5C4-6C35076B4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DE8B5-3BEF-43A7-B0DC-F9A5728C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926D-60B5-4783-B3FF-ED4224E2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327A-FAFB-4154-A9F6-586E0EC4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8BD7-AF07-40C3-9CC0-D1C82BC6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4797-5B42-4F5A-95DF-E736C3AA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67074-CE17-4901-982E-A521A05F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B4C6-6337-4946-B9D6-CCEF7216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5891-B549-4E55-9B5C-9B311210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9E06-F8F3-4A64-92BC-C110BE77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4FCE-DB08-4EC4-AE7D-E83B2615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CDF7-8BDC-4776-8D6F-1B6D3FB51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1F41-FD26-4279-B8BC-57DDA686B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704C-8088-4735-8F49-D2469DE7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64DD-E0F0-47D4-A868-45F35634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377E-1707-4EF8-B824-076CFB1A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7B2E-3191-4491-8032-B8957F72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A006-6DA9-40EE-952C-9FF6295D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1FB6-A3A5-4925-9633-892A23E0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4D15-F5E7-4AA6-8A69-EB909685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1165320"/>
            <a:ext cx="9144000" cy="397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media1.wmv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1168560"/>
          </a:xfrm>
          <a:prstGeom prst="rect">
            <a:avLst/>
          </a:prstGeom>
          <a:ln w="0">
            <a:noFill/>
          </a:ln>
        </p:spPr>
      </p:pic>
      <p:pic>
        <p:nvPicPr>
          <p:cNvPr id="2" name="Content Placeholder 3" descr=""/>
          <p:cNvPicPr/>
          <p:nvPr/>
        </p:nvPicPr>
        <p:blipFill>
          <a:blip r:embed="rId3"/>
          <a:stretch/>
        </p:blipFill>
        <p:spPr>
          <a:xfrm>
            <a:off x="1066680" y="0"/>
            <a:ext cx="8077320" cy="1168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94920" y="132840"/>
            <a:ext cx="7620120" cy="9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200240"/>
            <a:ext cx="8686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08440" indent="-221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551960" indent="-2214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1995480" indent="-2214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1995480" indent="-221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1995480" indent="-221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2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BAB5-76D0-4C4C-AF14-4E9F4A8554A0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813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638C-8610-431C-B9B1-0A32C116C20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9539-9704-4D4A-BFED-9C987C122BC1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6A11-93CB-41FE-96BA-5B1E7C4E093C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media1.wmv" descr=""/>
          <p:cNvPicPr/>
          <p:nvPr/>
        </p:nvPicPr>
        <p:blipFill>
          <a:blip r:embed="rId1"/>
          <a:stretch/>
        </p:blipFill>
        <p:spPr>
          <a:xfrm>
            <a:off x="0" y="0"/>
            <a:ext cx="7715160" cy="5143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90760" y="244080"/>
            <a:ext cx="4724280" cy="17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409720" y="2952360"/>
            <a:ext cx="35053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132840"/>
            <a:ext cx="7620120" cy="9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28600" y="1200240"/>
            <a:ext cx="8686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1143000" y="0"/>
            <a:ext cx="6350040" cy="5143680"/>
            <a:chOff x="1143000" y="0"/>
            <a:chExt cx="6350040" cy="5143680"/>
          </a:xfrm>
        </p:grpSpPr>
        <p:sp>
          <p:nvSpPr>
            <p:cNvPr id="92" name="矩形 4"/>
            <p:cNvSpPr/>
            <p:nvPr/>
          </p:nvSpPr>
          <p:spPr>
            <a:xfrm>
              <a:off x="1605600" y="0"/>
              <a:ext cx="5108400" cy="55080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143000" y="1285920"/>
              <a:ext cx="635004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Box 7"/>
            <p:cNvSpPr/>
            <p:nvPr/>
          </p:nvSpPr>
          <p:spPr>
            <a:xfrm rot="20926800">
              <a:off x="2573280" y="2665080"/>
              <a:ext cx="3500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4T08:52:59Z</dcterms:created>
  <dc:creator>a</dc:creator>
  <dc:description/>
  <cp:keywords/>
  <dc:language>en-US</dc:language>
  <cp:lastModifiedBy>a</cp:lastModifiedBy>
  <dcterms:modified xsi:type="dcterms:W3CDTF">2014-08-11T07:17:42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  <property fmtid="{D5CDD505-2E9C-101B-9397-08002B2CF9AE}" pid="3" name="NXTAG2">
    <vt:lpwstr>0008005404000000000001024140</vt:lpwstr>
  </property>
  <property fmtid="{D5CDD505-2E9C-101B-9397-08002B2CF9AE}" pid="4" name="_TemplateID">
    <vt:lpwstr>TC101881347</vt:lpwstr>
  </property>
</Properties>
</file>