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B64-3791-4C4B-9861-C9284C0A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6BF-D56C-4B05-9543-0DFD3D40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9EAA-713E-4740-87A7-86C0838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F0928-B19E-4934-8BDA-A2773684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57505-ECEA-4980-8642-F479C87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72D0E-4E8C-4FCE-AA53-0C8509B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2E1B-50E5-4356-90A3-F5CD520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E0E9-07AD-4764-9CDC-9CC9AA7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ACA53-41C8-4BC8-9374-41DE9821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DCEBE-84C1-41F5-95F3-23595E20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12BB0-2182-480D-A826-D4F61248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98FAB-9D96-4A87-8878-1AECA3E4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790-E279-49FB-9D52-0A43216C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C4ECA-A37E-415A-81A5-B6C454F4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9DF7F-A471-4311-99C2-33D38DA1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C0DC0-3F24-4645-86A4-270FAB2B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C2370-1B0A-417F-9AC5-22C103B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B416E-95AC-48A9-8AB4-AD86ACCD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73A91-30AF-44E4-9D63-77B4C30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48CFA-B4B2-4B59-89A5-17D0FF7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006CF-7899-4725-B5DD-0DF35CA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55DF-6D49-48DD-8F9F-399C9193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2C1E1-88EA-4673-883B-600A0444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8AA-407D-4044-B168-26D9CD12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63A2C-7137-4807-BD8F-4B5992F8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590C-B34A-40FF-BA28-509C1CE3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E80E4-1FBD-4AF2-8E83-F7B59133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167FF-5A6A-4D42-AB9A-943E36FC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E394-D04C-45D6-8D37-7AD3D02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34FE0-43DE-4579-B816-197C6ADC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76CD7-54E8-45E2-880C-142F1682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F9694-CEB4-48B7-9F50-3EC36683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3F1DE-5C1A-4E9F-B527-5269529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CAF47-97DA-4818-AB30-2476BD3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66CD-5EB7-4F6E-9063-35FC0375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DAE67-BB4F-4044-B368-6AE19137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CE737-609B-48F4-904C-049839F2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B3A25-169D-47E9-BBDE-3C100A0C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300EB-0370-40DC-8EB9-B9284BA8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2AA4E-6002-41FB-8196-BDBC82F6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535D6-5441-45C3-B833-5A6D381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02DD4-E862-4D0F-8A73-AD10065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1778F-CE98-468A-9AAC-AC788A75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B73E6-D13E-41C8-B205-1686420E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FCE27-6745-4E81-8DE8-49D5C9A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618C-6B6F-4252-87DC-A1D45B4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0651E-590C-4BD3-85F4-895B4A6B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0668F-EBDA-4DB1-9701-19E549D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63A92-B816-40C4-B7DC-53E744F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1D39C-7D52-40A6-8014-DC93A9CC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ABEB8-AAFA-411F-AA6E-6D4486E9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F64B2-F1D9-487D-B996-BCE52427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7C334-174C-49DC-98FD-F275538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9EA48-FAD5-4893-8F7B-50EA554F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1EB6B-4D77-44DC-BA9B-F6C694E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A3E98-82FC-4D87-9A18-32E1891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23D-7BFF-4E35-97FA-BE45BC9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CE008-CC8C-466A-8F0E-7162E33B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D16AD-30D6-482C-B7E9-3AB47D5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0C911-C703-4E98-9AEA-5BAC04A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0A5C6-CAD6-4966-A1D6-72FEED8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5730A-604B-4E5F-BF09-A7CA27C7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E877A-FF06-429A-9724-29A45468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80230-05EA-4FF5-8C00-61202D25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99AAA-EC55-4BF8-AF26-C525E651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ABFB9-BB59-43AD-A20F-2487FB7B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2A483-4641-42A0-98B7-A38865F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5BB2-9FEC-4AEB-A1BB-E68D1699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493D1-937E-4DBA-877F-5FB4557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1C6A1-596B-4681-A4EC-372F6B0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09CA7-7301-4758-B6D6-9FD9414F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8D7D5-A898-4478-8C43-185AB9D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8E8B3-9F1B-4FCE-A66F-851AAD9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E424E-6BB7-4BC9-9028-30E85C8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F9469-E574-4DDA-9027-3DF896A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3A6F0-BB1D-4D90-8D4A-2636D656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CDDAA-91F3-4A90-A646-F1EF288C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9DD5-C3D0-4AE4-AE2E-B4D9C25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1AF4-566B-4FBB-AE9A-ECCF97B6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1FEB-51BC-4452-A28B-08D4787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A52-1E07-4C33-8C3F-D71F6BB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C1AD-06CB-4C01-8BAB-BAAE0C0E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9602-E432-4D31-8026-EFB3752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62DE-849A-4A04-A853-1E21BC6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271-7D30-4827-A1D6-70E4404F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A61-E59E-4B40-87FF-AFEC690E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57A0-C506-49AB-9F45-C933698B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9175-2374-4652-B92C-B225AA0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BF06-B323-4E5C-BCA1-F5D0271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8747-24D3-4B8C-9DC6-C77911F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5EE0-AE82-4FE8-AB9F-5B60E43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1ED-4752-453F-834A-3D81653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B40C-5103-4981-9E21-00F6DDD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2C8C-4C1F-4AB1-B4EC-8B69548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2DBF-B1D6-44CA-B7D1-EA2C4E1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17BF-0EB2-4992-B04C-58E6825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1B71-F9FE-43DC-ADD0-1074076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B895-A329-4F17-AD00-5F769F9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5605-CC8C-47B3-85A0-03584605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EBC4-A972-420E-9983-35FD13AB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98A7-B624-425A-B4C3-84B74332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90F2-0557-4C1B-B4A0-BB537E1E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843-4E66-431D-B8AB-C85DE7C1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299B-1989-4B8B-A632-BA6EE4D6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E61B-081A-41CA-AA25-D5D6C910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E55C-CB39-45BB-8688-A61B4EF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78BD-B4B5-4FC2-B352-71AB2832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EF65C-087D-47E3-A6AC-DC348B0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CF27-1D67-412C-AD12-1C7CA81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A5C7-43C9-465B-A1A1-026C5D9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2E41-E6BC-45C4-9CC8-52D0665B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EC31-C9D1-4B66-A84E-FEE49E1D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A5F4F-80D5-45E7-97D0-1DB6F315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E94-6862-4C52-9AC8-62ECAB81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086D-6191-4CBA-9729-E9D5DA27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EDB4-AA84-49E4-9240-2F618FD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F487D-A767-4909-8911-969032B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7393-E700-4E4A-A08C-2FA5CEB6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F4163-947A-49BE-9656-25448B4E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CAA9-3863-4A7B-9DB3-998993B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629B9-E924-4D01-B6C4-8AD8D6EF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3C35-2233-487E-849B-71B89D2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9466C-4FB4-465A-8448-9A13EF3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E6ED-0094-4B31-AA6E-0B7BF791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B12-11A1-4303-B71C-5527E1A3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5F132-2EBB-47C4-AD22-B81B37B4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5D1C-9476-4FE8-BBB2-80832136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9315-C7BC-4BC3-866C-1A9727E6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7A285-2E17-46B2-A060-94FBA86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ABEE-973B-4CE9-BC54-F95EE71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CC406-71F3-4A1F-BE9A-CB86334B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8F7A-A099-4085-A5C9-3FCB9FBB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B5C9-62B7-44FC-9EAE-6B95D25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0741-2EE5-49D6-B792-DE943D86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44D8-8C33-47E5-A0EF-A2CA8B1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423-7B7D-48D5-B1DC-6B4534B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88CC-5C48-4E65-8FFB-0A78717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E249B-F3B9-44BE-B77F-0726FA48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E2F5-A23E-44D7-9958-97D8F775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0CAE-6A11-4957-90D1-CF822800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E351-0D7B-4B6D-93E0-46673204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C941-DF1E-4B90-B9FC-B52839C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C299-0B16-48DF-8C05-C6E15BC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8A22-EC33-4C91-BD20-BE43C69A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5523D-A14E-4B95-A4B2-E5164A6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35F3-1F4D-444C-89B7-2F77370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EA4-770A-45C9-8FD1-1CE0C0D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4C8C-7940-4CB0-BD54-A9594A8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FC97-89EC-4497-997E-60D1B7A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35908-65F7-4BC3-AE0D-CFBA8A90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C284-AC74-4DB5-A49C-1179D40D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5E93-DA3D-4DF4-ACB2-3AF754CB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E618-4917-4D81-A270-1B9EAB64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7291-C182-4222-8141-5A6CF0B5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B5C5-7E30-4F1B-BD34-EA867029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1BF88-02D0-43D2-8E6C-D5E8E023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B1A3A-1EF5-434F-90F1-D066B3A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6A4-8AB7-4655-A9CE-8987B1A6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7D9D-F1B6-4B01-AE36-28EDDFE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06BA-EAAA-4E18-A57E-5416275E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665D-B0DC-4D4B-8E32-586B7B4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FF28-F006-4C43-B39F-0AF7183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4869-3200-4684-BEF5-E0E7D5B8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0EFF-7267-4045-BFE9-50624382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2209-5FF2-49F0-9123-292B37C5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5C7D-6884-48C0-A92A-B6AD8173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78E45-6D56-4926-9C23-CA75E8E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5F039-C923-4BC5-B544-B3CC6A00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2316240" cy="1447920"/>
          </a:xfrm>
          <a:prstGeom prst="rect">
            <a:avLst/>
          </a:prstGeom>
          <a:ln w="0">
            <a:noFill/>
          </a:ln>
        </p:spPr>
      </p:pic>
      <p:pic>
        <p:nvPicPr>
          <p:cNvPr id="2" name="Straight Connector 7" descr=""/>
          <p:cNvPicPr/>
          <p:nvPr/>
        </p:nvPicPr>
        <p:blipFill>
          <a:blip r:embed="rId4"/>
          <a:stretch/>
        </p:blipFill>
        <p:spPr>
          <a:xfrm>
            <a:off x="-76320" y="755640"/>
            <a:ext cx="9317160" cy="1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35160"/>
            <a:ext cx="77724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893-0615-4A35-84A1-115B0C40A32A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8D5-4959-492C-ACBB-9622BA35D2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9BB6-3776-4207-9CBE-B2C08E959F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372B-62E8-4916-A2B7-ABC49428E9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2975-8232-4AE6-A048-94065128CE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222-91C0-46B4-913E-88525E5FA0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7EC5-2FDA-4CD6-81B1-6001416A08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597-A796-44C9-9A80-370C201E98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725A-08F2-4B20-8284-8CB50EE869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563F-0C8D-477F-851A-32A3F97802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4153-97F3-48FD-B657-C4AB2767F8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0" y="4316400"/>
            <a:ext cx="9144000" cy="2541600"/>
          </a:xfrm>
          <a:prstGeom prst="rect">
            <a:avLst/>
          </a:prstGeom>
          <a:ln w="0">
            <a:noFill/>
          </a:ln>
        </p:spPr>
      </p:pic>
      <p:grpSp>
        <p:nvGrpSpPr>
          <p:cNvPr id="45" name="Rectangle 11"/>
          <p:cNvGrpSpPr/>
          <p:nvPr/>
        </p:nvGrpSpPr>
        <p:grpSpPr>
          <a:xfrm>
            <a:off x="0" y="4290840"/>
            <a:ext cx="9144000" cy="2567160"/>
            <a:chOff x="0" y="4290840"/>
            <a:chExt cx="9144000" cy="2567160"/>
          </a:xfrm>
        </p:grpSpPr>
        <p:pic>
          <p:nvPicPr>
            <p:cNvPr id="4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4290840"/>
              <a:ext cx="914400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5"/>
            <p:cNvSpPr/>
            <p:nvPr/>
          </p:nvSpPr>
          <p:spPr>
            <a:xfrm>
              <a:off x="0" y="4292280"/>
              <a:ext cx="9144000" cy="25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Straight Connector 8" descr=""/>
          <p:cNvPicPr/>
          <p:nvPr/>
        </p:nvPicPr>
        <p:blipFill>
          <a:blip r:embed="rId5"/>
          <a:stretch/>
        </p:blipFill>
        <p:spPr>
          <a:xfrm>
            <a:off x="4468680" y="4218120"/>
            <a:ext cx="4754520" cy="19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235160"/>
            <a:ext cx="77724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CDF1-5EB1-4C75-8D06-CE7511760C35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60D5-1857-4D93-BBAC-20F42E9B2F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20B-1848-4AD0-A3B5-C86D764B4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CE83-BB06-4A20-9CF3-48D5A88819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0A1D-26A0-46B8-BEA1-98FBD94A7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C3D-BFE8-43CA-B2B2-770AC6D8D2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814-36D0-4FAC-8E65-625A5964DA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CF48-3244-44F5-AE6B-0D442EF3C2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793-90EE-4EF1-8933-DC0480561D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C813-886F-4260-A9C1-0E1BE7C381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B27-3FB0-4334-A1FC-23C143B16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0B6C-8ACF-4B96-A0D2-E13A45E134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09FC-0EFA-4DF6-B927-FD7F0F202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E312-CBC3-4C9E-8197-D97CCED626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8E2-8F6D-41EC-B657-3E94A44D4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1371600" y="4584600"/>
            <a:ext cx="7772400" cy="139536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2286000" y="5562720"/>
            <a:ext cx="685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235160"/>
            <a:ext cx="77724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3:25:59Z</dcterms:created>
  <dc:creator>sg</dc:creator>
  <dc:description/>
  <dc:language>en-US</dc:language>
  <cp:lastModifiedBy>a</cp:lastModifiedBy>
  <dcterms:modified xsi:type="dcterms:W3CDTF">2015-01-12T13:26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