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8999538" cy="6011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1953-3247-4610-AE3F-66D5EB33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C445-A097-4B3B-8DA5-F0CFFC8A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9F8E-207C-4DB9-A459-8D0DB3C07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AFB6-7089-4939-AF6F-E90A9B3DB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FB58-226E-4F81-AF28-A9E685CFC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C37A-F92B-4D8D-8CA0-115B8063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62FE-55C7-4A2F-A8F3-FB548DF7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FCE3-AF47-46E4-8C23-50889090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BA69-9423-4E68-84FC-8403B1A7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907F-6100-4148-8323-5B35CB63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480E-BB5D-482E-840E-D90DE9AD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427A-56C6-4CA2-A63F-04D1F253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BA1C-1088-4FD8-98DC-41F767CF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E4B2-CBAA-4667-89A9-CD201D23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5E04-B541-4289-8824-1CA9998E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6D92-EECF-4B43-BDC6-A03706A5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C04B-8871-4020-97D1-E35926D13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7278D-9506-4949-8B3C-0F434AA53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02AA7-ECE2-460D-981C-86DA548E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87488-5AE3-4D3B-9BB9-A3675590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36EB1-F6C0-4445-B8B1-0D754245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733C4-15A2-4079-813C-C3A62E05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B90C-01C2-4473-ACBE-896338E6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9FC6C-2F98-41D7-A287-3D02B61D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24B72-EA5E-46AC-BDA8-42AD122A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B962B-62A0-4C30-9997-E62D8801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306E8-C758-452B-AD7D-38F1F7C6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F83F0-2646-491D-B5AB-4468C5AF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6BE75-2352-4AFB-B4B6-7000DA021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D70ED-7679-4235-ACD2-43F384B37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3C8F-EA5D-42E8-B0C1-A4EF501A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64E9-702C-4744-9D2F-BF015447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1F6A-07EB-437A-A508-0ED66940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B33D-6639-44F5-8D57-7306872E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497E-9D6D-4F53-A8DF-05BA1DE9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3629-4407-4A11-B081-BC4D6689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334440" indent="-334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5760" indent="-279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5640" indent="-2228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28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08440" indent="-2232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08440" indent="-2232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08440" indent="-2232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720" y="5473800"/>
            <a:ext cx="20988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8792-CDFE-4CEB-8EAB-EE2745E19247}" type="datetime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5473800"/>
            <a:ext cx="28494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0120" y="5473800"/>
            <a:ext cx="21002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E5CF-B441-44B1-981A-B37E569EC8B3}" type="slidenum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9880" indent="-299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0880" indent="-2491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1880" indent="-200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1840" indent="-200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03240" indent="-199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03240" indent="-199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03240" indent="-199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49280" y="5475240"/>
            <a:ext cx="21002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F15C-3FF5-40CE-A1D2-0EA883A460A6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74760" y="5475240"/>
            <a:ext cx="28494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0120" y="5475240"/>
            <a:ext cx="21002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35FC-2206-45CE-8662-B6B2A1B562B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334440" indent="-334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5760" indent="-279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5640" indent="-2228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28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08440" indent="-2232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08440" indent="-2232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08440" indent="-2232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0720" y="5473800"/>
            <a:ext cx="20988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5905-23DC-46B6-87F5-28ACEBD19AA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74760" y="5473800"/>
            <a:ext cx="28494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0120" y="5473800"/>
            <a:ext cx="21002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B9B3-0168-4172-ACC7-9E6F401AFF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wg_blurred_backgrounds_8"/>
          <p:cNvPicPr/>
          <p:nvPr/>
        </p:nvPicPr>
        <p:blipFill>
          <a:blip r:embed="rId1"/>
          <a:stretch/>
        </p:blipFill>
        <p:spPr>
          <a:xfrm>
            <a:off x="0" y="6480"/>
            <a:ext cx="8999640" cy="5999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4280" y="1866600"/>
            <a:ext cx="7650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淡雅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49280" y="3293640"/>
            <a:ext cx="6300720" cy="15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zh-CN" sz="31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0360" y="1402920"/>
            <a:ext cx="8099640" cy="34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微软雅黑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wg_blurred_backgrounds_8"/>
          <p:cNvPicPr/>
          <p:nvPr/>
        </p:nvPicPr>
        <p:blipFill>
          <a:blip r:embed="rId1"/>
          <a:srcRect l="0" t="0" r="0" b="81132"/>
          <a:stretch/>
        </p:blipFill>
        <p:spPr>
          <a:xfrm>
            <a:off x="-34920" y="4876920"/>
            <a:ext cx="903456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wg_blurred_backgrounds_8"/>
          <p:cNvPicPr/>
          <p:nvPr/>
        </p:nvPicPr>
        <p:blipFill>
          <a:blip r:embed="rId1"/>
          <a:srcRect l="55631" t="0" r="29715" b="0"/>
          <a:stretch/>
        </p:blipFill>
        <p:spPr>
          <a:xfrm>
            <a:off x="0" y="0"/>
            <a:ext cx="1324080" cy="601812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3"/>
          <p:cNvGrpSpPr/>
          <p:nvPr/>
        </p:nvGrpSpPr>
        <p:grpSpPr>
          <a:xfrm>
            <a:off x="879480" y="628560"/>
            <a:ext cx="8229600" cy="4527720"/>
            <a:chOff x="879480" y="628560"/>
            <a:chExt cx="8229600" cy="4527720"/>
          </a:xfrm>
        </p:grpSpPr>
        <p:sp>
          <p:nvSpPr>
            <p:cNvPr id="131" name="Rectangle 4"/>
            <p:cNvSpPr/>
            <p:nvPr/>
          </p:nvSpPr>
          <p:spPr>
            <a:xfrm>
              <a:off x="3595320" y="628560"/>
              <a:ext cx="5513760" cy="135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5"/>
            <p:cNvSpPr/>
            <p:nvPr/>
          </p:nvSpPr>
          <p:spPr>
            <a:xfrm>
              <a:off x="3595320" y="628560"/>
              <a:ext cx="5513760" cy="13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8600" rIns="228600" tIns="228600" bIns="228600" anchor="ctr">
              <a:noAutofit/>
            </a:bodyPr>
            <a:p>
              <a:pPr algn="ctr">
                <a:lnSpc>
                  <a:spcPct val="90000"/>
                </a:lnSpc>
                <a:spcAft>
                  <a:spcPts val="21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宋体"/>
                  <a:ea typeface="微软雅黑"/>
                </a:rPr>
                <a:t>文本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6"/>
            <p:cNvSpPr/>
            <p:nvPr/>
          </p:nvSpPr>
          <p:spPr>
            <a:xfrm>
              <a:off x="879480" y="628560"/>
              <a:ext cx="2468880" cy="135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7"/>
            <p:cNvSpPr/>
            <p:nvPr/>
          </p:nvSpPr>
          <p:spPr>
            <a:xfrm>
              <a:off x="879480" y="2212560"/>
              <a:ext cx="5513760" cy="135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8"/>
            <p:cNvSpPr/>
            <p:nvPr/>
          </p:nvSpPr>
          <p:spPr>
            <a:xfrm>
              <a:off x="879480" y="2212560"/>
              <a:ext cx="5513760" cy="13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8600" rIns="228600" tIns="228600" bIns="228600" anchor="ctr">
              <a:normAutofit/>
            </a:bodyPr>
            <a:p>
              <a:pPr algn="ctr">
                <a:lnSpc>
                  <a:spcPct val="90000"/>
                </a:lnSpc>
                <a:spcAft>
                  <a:spcPts val="21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宋体"/>
                  <a:ea typeface="微软雅黑"/>
                </a:rPr>
                <a:t>文本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9"/>
            <p:cNvSpPr/>
            <p:nvPr/>
          </p:nvSpPr>
          <p:spPr>
            <a:xfrm>
              <a:off x="6640200" y="2212560"/>
              <a:ext cx="2468880" cy="135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0"/>
            <p:cNvSpPr/>
            <p:nvPr/>
          </p:nvSpPr>
          <p:spPr>
            <a:xfrm>
              <a:off x="3595320" y="3796560"/>
              <a:ext cx="5513760" cy="135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1"/>
            <p:cNvSpPr/>
            <p:nvPr/>
          </p:nvSpPr>
          <p:spPr>
            <a:xfrm>
              <a:off x="3595320" y="3796560"/>
              <a:ext cx="5513760" cy="13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8600" rIns="228600" tIns="228600" bIns="228600" anchor="ctr">
              <a:normAutofit/>
            </a:bodyPr>
            <a:p>
              <a:pPr algn="ctr">
                <a:lnSpc>
                  <a:spcPct val="90000"/>
                </a:lnSpc>
                <a:spcAft>
                  <a:spcPts val="21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宋体"/>
                  <a:ea typeface="微软雅黑"/>
                </a:rPr>
                <a:t>文本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2"/>
            <p:cNvSpPr/>
            <p:nvPr/>
          </p:nvSpPr>
          <p:spPr>
            <a:xfrm>
              <a:off x="879480" y="3796560"/>
              <a:ext cx="2468880" cy="135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wg_blurred_backgrounds_8"/>
          <p:cNvPicPr/>
          <p:nvPr/>
        </p:nvPicPr>
        <p:blipFill>
          <a:blip r:embed="rId1"/>
          <a:srcRect l="0" t="0" r="0" b="81133"/>
          <a:stretch/>
        </p:blipFill>
        <p:spPr>
          <a:xfrm>
            <a:off x="-34920" y="-11160"/>
            <a:ext cx="9032760" cy="11318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0360" y="1158840"/>
            <a:ext cx="809964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0360" y="2305080"/>
            <a:ext cx="8099640" cy="34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微软雅黑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wg_blurred_backgrounds_8"/>
          <p:cNvPicPr/>
          <p:nvPr/>
        </p:nvPicPr>
        <p:blipFill>
          <a:blip r:embed="rId1"/>
          <a:srcRect l="0" t="0" r="0" b="81132"/>
          <a:stretch/>
        </p:blipFill>
        <p:spPr>
          <a:xfrm>
            <a:off x="-34920" y="4876920"/>
            <a:ext cx="9034560" cy="1139760"/>
          </a:xfrm>
          <a:prstGeom prst="rect">
            <a:avLst/>
          </a:prstGeom>
          <a:ln w="0">
            <a:noFill/>
          </a:ln>
        </p:spPr>
      </p:pic>
      <p:grpSp>
        <p:nvGrpSpPr>
          <p:cNvPr id="144" name="Group 3"/>
          <p:cNvGrpSpPr/>
          <p:nvPr/>
        </p:nvGrpSpPr>
        <p:grpSpPr>
          <a:xfrm>
            <a:off x="1260360" y="917640"/>
            <a:ext cx="6413760" cy="3529080"/>
            <a:chOff x="1260360" y="917640"/>
            <a:chExt cx="6413760" cy="3529080"/>
          </a:xfrm>
        </p:grpSpPr>
        <p:sp>
          <p:nvSpPr>
            <p:cNvPr id="145" name="AutoShape 4"/>
            <p:cNvSpPr/>
            <p:nvPr/>
          </p:nvSpPr>
          <p:spPr>
            <a:xfrm>
              <a:off x="1260360" y="917640"/>
              <a:ext cx="2095920" cy="3529080"/>
            </a:xfrm>
            <a:custGeom>
              <a:avLst/>
              <a:gdLst>
                <a:gd name="textAreaLeft" fmla="*/ 61200 w 2095920"/>
                <a:gd name="textAreaRight" fmla="*/ 2034720 w 2095920"/>
                <a:gd name="textAreaTop" fmla="*/ 61200 h 3529080"/>
                <a:gd name="textAreaBottom" fmla="*/ 3467880 h 3529080"/>
              </a:gdLst>
              <a:ahLst/>
              <a:rect l="textAreaLeft" t="textAreaTop" r="textAreaRight" b="textAreaBottom"/>
              <a:pathLst>
                <a:path w="21600" h="36367">
                  <a:moveTo>
                    <a:pt x="2160" y="0"/>
                  </a:moveTo>
                  <a:arcTo wR="2160" hR="2160" stAng="16200000" swAng="-5400000"/>
                  <a:lnTo>
                    <a:pt x="0" y="34207"/>
                  </a:lnTo>
                  <a:arcTo wR="2160" hR="2160" stAng="10800000" swAng="-5400000"/>
                  <a:lnTo>
                    <a:pt x="19440" y="36367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5"/>
            <p:cNvSpPr/>
            <p:nvPr/>
          </p:nvSpPr>
          <p:spPr>
            <a:xfrm>
              <a:off x="1260360" y="2329200"/>
              <a:ext cx="2095920" cy="14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41000" rIns="441000" tIns="441000" bIns="441000" anchor="ctr">
              <a:noAutofit/>
            </a:bodyPr>
            <a:p>
              <a:pPr algn="ctr">
                <a:lnSpc>
                  <a:spcPct val="90000"/>
                </a:lnSpc>
                <a:spcAft>
                  <a:spcPts val="19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宋体"/>
                  <a:ea typeface="微软雅黑"/>
                </a:rPr>
                <a:t>文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6"/>
            <p:cNvSpPr/>
            <p:nvPr/>
          </p:nvSpPr>
          <p:spPr>
            <a:xfrm>
              <a:off x="1720800" y="1129320"/>
              <a:ext cx="1175040" cy="1175040"/>
            </a:xfrm>
            <a:prstGeom prst="ellipse">
              <a:avLst/>
            </a:prstGeom>
            <a:solidFill>
              <a:srgbClr val="c1cce1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7"/>
            <p:cNvSpPr/>
            <p:nvPr/>
          </p:nvSpPr>
          <p:spPr>
            <a:xfrm>
              <a:off x="3419280" y="917640"/>
              <a:ext cx="2095920" cy="3529080"/>
            </a:xfrm>
            <a:custGeom>
              <a:avLst/>
              <a:gdLst>
                <a:gd name="textAreaLeft" fmla="*/ 61200 w 2095920"/>
                <a:gd name="textAreaRight" fmla="*/ 2034720 w 2095920"/>
                <a:gd name="textAreaTop" fmla="*/ 61200 h 3529080"/>
                <a:gd name="textAreaBottom" fmla="*/ 3467880 h 3529080"/>
              </a:gdLst>
              <a:ahLst/>
              <a:rect l="textAreaLeft" t="textAreaTop" r="textAreaRight" b="textAreaBottom"/>
              <a:pathLst>
                <a:path w="21600" h="36367">
                  <a:moveTo>
                    <a:pt x="2160" y="0"/>
                  </a:moveTo>
                  <a:arcTo wR="2160" hR="2160" stAng="16200000" swAng="-5400000"/>
                  <a:lnTo>
                    <a:pt x="0" y="34207"/>
                  </a:lnTo>
                  <a:arcTo wR="2160" hR="2160" stAng="10800000" swAng="-5400000"/>
                  <a:lnTo>
                    <a:pt x="19440" y="36367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8"/>
            <p:cNvSpPr/>
            <p:nvPr/>
          </p:nvSpPr>
          <p:spPr>
            <a:xfrm>
              <a:off x="3419280" y="2329200"/>
              <a:ext cx="2095920" cy="14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41000" rIns="441000" tIns="441000" bIns="441000" anchor="ctr">
              <a:normAutofit fontScale="87000"/>
            </a:bodyPr>
            <a:p>
              <a:pPr algn="ctr">
                <a:lnSpc>
                  <a:spcPct val="90000"/>
                </a:lnSpc>
                <a:spcAft>
                  <a:spcPts val="19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宋体"/>
                  <a:ea typeface="微软雅黑"/>
                </a:rPr>
                <a:t>文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9"/>
            <p:cNvSpPr/>
            <p:nvPr/>
          </p:nvSpPr>
          <p:spPr>
            <a:xfrm>
              <a:off x="3879720" y="1129320"/>
              <a:ext cx="1175040" cy="1175040"/>
            </a:xfrm>
            <a:prstGeom prst="ellipse">
              <a:avLst/>
            </a:prstGeom>
            <a:solidFill>
              <a:srgbClr val="c1cce1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10"/>
            <p:cNvSpPr/>
            <p:nvPr/>
          </p:nvSpPr>
          <p:spPr>
            <a:xfrm>
              <a:off x="5578200" y="917640"/>
              <a:ext cx="2095920" cy="3529080"/>
            </a:xfrm>
            <a:custGeom>
              <a:avLst/>
              <a:gdLst>
                <a:gd name="textAreaLeft" fmla="*/ 61200 w 2095920"/>
                <a:gd name="textAreaRight" fmla="*/ 2034720 w 2095920"/>
                <a:gd name="textAreaTop" fmla="*/ 61200 h 3529080"/>
                <a:gd name="textAreaBottom" fmla="*/ 3467880 h 3529080"/>
              </a:gdLst>
              <a:ahLst/>
              <a:rect l="textAreaLeft" t="textAreaTop" r="textAreaRight" b="textAreaBottom"/>
              <a:pathLst>
                <a:path w="21600" h="36367">
                  <a:moveTo>
                    <a:pt x="2160" y="0"/>
                  </a:moveTo>
                  <a:arcTo wR="2160" hR="2160" stAng="16200000" swAng="-5400000"/>
                  <a:lnTo>
                    <a:pt x="0" y="34207"/>
                  </a:lnTo>
                  <a:arcTo wR="2160" hR="2160" stAng="10800000" swAng="-5400000"/>
                  <a:lnTo>
                    <a:pt x="19440" y="36367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1"/>
            <p:cNvSpPr/>
            <p:nvPr/>
          </p:nvSpPr>
          <p:spPr>
            <a:xfrm>
              <a:off x="5578200" y="2329200"/>
              <a:ext cx="2095920" cy="14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41000" rIns="441000" tIns="441000" bIns="441000" anchor="ctr">
              <a:normAutofit fontScale="87000"/>
            </a:bodyPr>
            <a:p>
              <a:pPr algn="ctr">
                <a:lnSpc>
                  <a:spcPct val="90000"/>
                </a:lnSpc>
                <a:spcAft>
                  <a:spcPts val="19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宋体"/>
                  <a:ea typeface="微软雅黑"/>
                </a:rPr>
                <a:t>文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2"/>
            <p:cNvSpPr/>
            <p:nvPr/>
          </p:nvSpPr>
          <p:spPr>
            <a:xfrm>
              <a:off x="6038640" y="1129320"/>
              <a:ext cx="1175040" cy="1175040"/>
            </a:xfrm>
            <a:prstGeom prst="ellipse">
              <a:avLst/>
            </a:prstGeom>
            <a:solidFill>
              <a:srgbClr val="c1cce1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13"/>
            <p:cNvSpPr/>
            <p:nvPr/>
          </p:nvSpPr>
          <p:spPr>
            <a:xfrm>
              <a:off x="1515600" y="3741120"/>
              <a:ext cx="5903280" cy="529200"/>
            </a:xfrm>
            <a:prstGeom prst="leftRightArrow">
              <a:avLst>
                <a:gd name="adj1" fmla="val 50000"/>
                <a:gd name="adj2" fmla="val 49991"/>
              </a:avLst>
            </a:prstGeom>
            <a:solidFill>
              <a:srgbClr val="b0bfda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76360" y="240840"/>
            <a:ext cx="70740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76360" y="1403280"/>
            <a:ext cx="70740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微软雅黑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wg_blurred_backgrounds_8"/>
          <p:cNvPicPr/>
          <p:nvPr/>
        </p:nvPicPr>
        <p:blipFill>
          <a:blip r:embed="rId1"/>
          <a:srcRect l="55631" t="0" r="29715" b="0"/>
          <a:stretch/>
        </p:blipFill>
        <p:spPr>
          <a:xfrm>
            <a:off x="0" y="0"/>
            <a:ext cx="1324080" cy="60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wg_blurred_backgrounds_8"/>
          <p:cNvPicPr/>
          <p:nvPr/>
        </p:nvPicPr>
        <p:blipFill>
          <a:blip r:embed="rId1"/>
          <a:stretch/>
        </p:blipFill>
        <p:spPr>
          <a:xfrm>
            <a:off x="0" y="6480"/>
            <a:ext cx="8999640" cy="59990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74280" y="2285640"/>
            <a:ext cx="7650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zh-CN" sz="6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赏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0080" y="165240"/>
            <a:ext cx="80787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0440" y="1206360"/>
            <a:ext cx="8292960" cy="41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7172280" y="291960"/>
            <a:ext cx="1366920" cy="3063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533520" y="3701880"/>
            <a:ext cx="8150040" cy="15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dc:language>en-US</dc:language>
  <cp:lastModifiedBy>a</cp:lastModifiedBy>
  <dcterms:modified xsi:type="dcterms:W3CDTF">2015-01-12T13:28:17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