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0238-9CC5-463D-9CCF-E71546191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71C4-CD79-444B-A460-DCC08102C77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E9CD01-99D0-4126-8671-CDB93BD2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48E7CA-4F79-4526-9034-36D3B6EE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814CAB-1278-412A-8621-51CCD47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AE9145-1F42-4764-ADDA-1DCC558B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4A8227-B0A6-40FB-B929-B906DC32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97A378-BA52-4358-B530-8274569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9029A1-BD84-4FEA-AEFD-716C7589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74C779-7190-43D1-A5C5-BC652699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9B6518-890D-4437-8575-E065471C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4FD0F-2C3F-466E-A2B9-E447FC67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D1EC-3399-4DD6-91E9-17A0DDE3E4F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BDBD8-A9D9-4DCB-A385-241EB2E1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E613D-EE40-4A63-8286-3BBBD522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6E390-6907-4F75-B014-06E182FD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35836-291B-4EFF-ABCB-FEE5C72F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F2F85-4A1C-419C-BBA9-16FCAD7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6843B-FD51-4204-A0FC-6B22749F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B3EEB-E7B9-4646-943D-A7F999BE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BC137-974F-4B36-9EBC-C3933B03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D3545-79D8-45B9-BEC9-BFC32462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4A97D-2818-48BA-BC3A-CEC38528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A280-FB1E-49C8-AA2D-A7D4816C15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878AD-105E-4663-8897-9824F926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6666D-B0D9-4114-AE1C-09681700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97BD8-6C61-4C19-9BF1-8E32D3AC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68C8C-533C-4202-8384-B198FB4A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C1163-9131-4BF7-8525-1AC308A3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994B6-B941-4EA0-A120-C07C2021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14426-34C9-448F-B857-7B4D4B54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C91FB-A109-4864-BECC-FC29A1C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FF916-0C1A-43EA-AA7A-9DDE7AB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921F5-55A5-4D90-835F-4221BC2C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5E365-B2ED-4A2C-9CB6-7861DAE2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6CE0C-682F-4CC1-9A7D-954EC40D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521B4-E516-43E9-9743-87B26AFD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84E3A4-824C-4E8C-A49F-825AAAB1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C6C1B4-EB6F-4E55-B5D1-7287CAC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9DC47-6ACF-4F2E-8222-0902C60F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8B234C-C1FA-45F6-A6A1-492B4080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BD6094-BC3A-4493-8FF3-553E5C34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8841EF-8DDA-456B-B710-4419A886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CDBF6C-0D38-479B-9403-EFC853E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3F8B65-4434-4A8D-88FA-25579B0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692B24-62A4-4FB6-A2D4-A86C8774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1FE4E6-CFFC-4109-B676-1858D12F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1D73EF-3A50-46FF-AC0B-98ADEC79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4481BC-D30B-4804-9E7E-38EF0FB4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DD122-A81E-4A83-B3BA-39940784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53673-715A-4A1B-936F-515C1394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6C07A-786A-451B-9701-8EB27290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D1362-A987-463E-99B7-395C2614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77A81-14AF-4473-9157-0F17A155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B7E67-9227-4F4F-B448-6344A189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2221C-3A6B-4B65-A216-0244AF7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2D9A8-C789-4968-8DFD-35A4BF6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09C97-EA21-49E6-80ED-24FD07E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9851F-79D4-4F43-9F2B-997BF81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2F082-514E-4C9E-8063-BF11AB0C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33AD5-5643-4829-A031-5DD584BE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BF090F-FC3E-4127-9FE1-8E859F4B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D7D434-F875-4621-AFDE-4B30F226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5A6815-3BAD-461C-89B3-DCCAF1B3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43FDB4-1914-492B-AFD8-1BFAF79B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EC3CA2-FD1E-473F-ACC3-ADE5DDB5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C24B31-342A-4408-9D90-1CF6FC4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2CC956-F1B7-41C7-948D-D72555F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D2B90F-DB04-4A19-BA78-5F33EADA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278216-5C25-494B-83D0-C77EFA4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4E528F-2DE6-43AD-89E4-969E2607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E8FD44-21BD-4BB7-A98B-079D6113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B460DE-C431-4393-B536-4A5B1F1F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FD03-AE3D-459B-B3A2-555E4669D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6BE19-471E-4215-A66C-877B8124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CBC75-3CAF-4F17-B786-2E038471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65DAC-71D9-4451-B6A0-422E2A34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F8664-7614-46EF-BAD0-45719C6C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9E040-737C-4D83-B9D5-D0ACB2E9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76DF-C4B9-4596-9D9D-9331314A86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4FEA6-002B-4DE9-852C-3A49EDD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82B14-4942-4A7B-B2C0-C874F6E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9784F-7D5B-4B28-920D-60134E31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0E182-E70E-4DDF-BB13-B2DEDAA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830E6-2E39-4088-919F-36B14AE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F05D-65C5-4302-B0FE-4729834C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EB728-17B0-4A83-A15A-82542E41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BF80B-9E02-4033-B02F-7408AA31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BD6E9-1BCB-47F2-9FF3-145E5D4E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4C356-6394-4BD1-AF7D-94CCD7A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996F-B718-434F-8EB1-532288547D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4F790-530C-4151-865E-66062EC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4C822C-326D-4332-AF47-AD097D2B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48B0F-CC62-48BD-9B45-D9338C8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41FF2-B6F2-4C20-95B9-E9F1573C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467F7-E40B-4B80-BB81-610EC3CD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EFDEFA-8048-469E-8700-FB0276C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58313-9C62-48F4-B44A-EE304172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45FBB-0289-4510-8679-010C281D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3EF03-6130-460A-945F-299D1745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270BF-3EB2-44C6-9CB7-9A8319BE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BDC9-29B4-4F4B-ABE9-AFF8B238F7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1514B-B806-43A1-9104-3D21AD3D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4BBE4-3370-4880-8B26-4F47ECEC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A6EB7-6EDD-4049-9159-0EFAC98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A0832-3B5C-4CDF-B1EB-867E74F7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F55B4-7DDF-4474-A9A2-8AB66A51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00715-731C-454E-9FF0-C4625EAA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FB81E4-9D97-4F58-888C-B8017F7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6A94E-415C-4350-98EF-EBF785C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7325B-D2F1-410F-9316-EE89B3D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678BE-A62E-4747-8D7F-B12A7AEF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6B81-07D0-438F-9961-0418A35125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C2BA3-C0EA-479E-A49C-52FD1E15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BDA41-FD5F-4A75-9027-AEC29D1E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4DE02-2C67-4FDE-B21D-171B810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A77FFA-70FB-4880-8B4A-274D108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1B418-E016-40A8-A599-DAEA2C07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0DAC2-88C5-4D74-A4E3-751B499C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8834E-5F1D-428B-BCFF-8EF12001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872323-C338-4C09-9BD8-2D780F8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B168F9-20A7-4B5B-B0AE-5DF068A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E1D622-F3BA-4B97-B8E5-763D0756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457A-DB34-4BB9-864E-368865EEB5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B69C5-36AB-4433-AFF6-6AA799A1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947263-4E59-41C3-AEC9-6461B367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CFEFF8-8B07-4295-87CA-2395D8B2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E34D77-54C9-4B5D-BB2C-F1DD4B05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F3D1B-F0A0-4306-9B3F-EF7D5CAF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3F96D5-1E45-4543-B958-31EE34BB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46E34-B4B5-48FF-B844-6345BB86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28901D-C70E-4494-B32C-C023B522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A19638-0CE3-49AF-AC29-EF450CAA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21CBBF-B82E-479F-86F0-D541990E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6042-F448-4371-8681-E8B0B71EE3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577A5-AE8C-4241-9F21-3680A62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855705-84AB-4044-8766-72B635B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19877C-0969-462A-A2B6-7EA59957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955FD9-A585-46F1-A407-49FFF35B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D6F33A-2E3D-4D6B-82B9-20ACB15D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525833-7498-4048-9AF9-280C4BC9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7F4538-C600-4C72-87EB-99D0D23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BC3ED-954C-471E-A6E8-1A31AEB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D77AE-A126-46CA-8F06-8BF68150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58298A-1673-4E80-A873-A33C2FD0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E441-E050-46E6-97CF-077D2D4C9AE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60E4E-0B5D-461A-8B23-BCFF6014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18DD81-350A-4711-857D-E82FB6A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2CE8D-9E57-4ADE-8FAB-EBACDC1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47D25-7520-4F98-B9D0-0D5EA262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C3583-D26A-48F5-AF68-DF879758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09C9E-8FED-49EF-8F20-1DEEE2A4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14089-C52A-4759-BE70-593D8338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32E58-DA67-43C3-AEFF-AD82A77B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EB100-4120-4260-B6F0-2A644AF4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68D27D-15E6-4F15-8A25-531BA51A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2" descr="bg2"/>
          <p:cNvPicPr/>
          <p:nvPr/>
        </p:nvPicPr>
        <p:blipFill>
          <a:blip r:embed="rId2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36000" y="63086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381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E4C2E1B-35BB-4CCC-BB59-F96B5009662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310A-B45D-4352-80A9-0047547892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3A1-EF13-4AE1-8A78-7DC2ADAA63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D0AB-5BA4-48ED-8AE9-CEE3EB2BE8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019B-B145-456C-9C18-A898B93F5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B46D-ED2A-4F50-8302-967EF4ACBC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6F63-7177-40E2-97B8-2B014423C0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FBB-1696-456B-B713-E09A786213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73CB-BAC8-4559-9C79-BBCD15600D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9699-AEFF-48B6-93BE-7947598700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C6F-E039-4548-85BE-71BA76A308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5" descr="bg1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0CCC-0E9E-4D85-B84C-3522B2CA84F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BAFC-7FA5-4230-816D-A6830E88B4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6E81-9EC1-44C5-A161-0D3F595240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2D21-9621-4461-ACAD-5D0CBF82AB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504A-658C-4664-B7C5-D5676F8AE6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C065-2CA9-4EB6-8004-A2C48879CB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C7BA-10B1-42C1-9342-09665F8533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69A-4570-4256-8311-E89C21EFFA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9BD-D25C-4FF5-A4A7-C09C161038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8D1F-B861-43CA-B4B6-35BD875E8E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2061-D9A8-4566-A726-0E605FAB2D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705B-B0F4-43CC-82D4-D4E612F548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C27B-4656-4C7D-A4A6-CF2178F58C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E717-E966-4741-882B-F509427C24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635280" y="59241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1"/>
          <p:cNvSpPr txBox="1"/>
          <p:nvPr/>
        </p:nvSpPr>
        <p:spPr>
          <a:xfrm>
            <a:off x="3780000" y="5205240"/>
            <a:ext cx="4667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单击此处添加标题文字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0"/>
          <p:cNvSpPr/>
          <p:nvPr/>
        </p:nvSpPr>
        <p:spPr>
          <a:xfrm>
            <a:off x="468360" y="6381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44534DB-5C13-4D9E-996A-D3782D8B3CD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</cp:lastModifiedBy>
  <dcterms:modified xsi:type="dcterms:W3CDTF">2014-07-17T05:51:43Z</dcterms:modified>
  <cp:revision>2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