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964-B1B8-4053-8DE3-B3BC43D6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084-9B2E-4808-830A-9B8EA768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46D-A0AC-417E-9896-C0FC7097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794-592D-44D1-A5B6-2E2E0461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CE4C-25C7-4522-B7E2-63507565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958A-E32F-41DE-9424-5741145F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895B-C7AE-4B9C-8BF4-467FE77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A29-DF42-49C3-A856-20E532C2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72D7-1355-4385-B022-D5D498DB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E93A-57EC-4855-A956-14F3DE4A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F16E-4B4F-4D22-980F-BC00C62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41B-29DB-426A-8857-A88BF752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3559-B199-4D80-817A-1D2411C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7248-1F1B-49A1-AF7E-00A0E1F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26DA-9DBC-4323-A546-BD422BF3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5505-9A62-4DBF-9AB6-D97B5D0D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40EF-B226-43EF-8087-E4D3139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134F-568C-4E5E-ADC8-2ACEB994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C34C-CF97-4866-9D3D-C4E79DB3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8AD7-60AC-4A8B-858D-9B1389CF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C8C4-CF85-47EB-9A1E-A85A7387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13442-AA8A-440C-AE52-763D948B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8DA-6316-4D7F-B99E-D1EDA76A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9159-C35F-494E-9355-7F0E2289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32FE-C97E-4EB6-BE07-30D6E60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9C98B-0D28-47F5-A90E-CFE8E444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9F64-77A5-4FD0-99E4-50999D64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DD7E-B1D6-4E73-A846-51A020D0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2267-3EF1-4256-92B5-C95CD73C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0350-8FD1-4A8B-AFFF-571432E0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4AE-BE28-4D85-A4A8-8F3EDA7B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602-ED22-4132-A056-88DC5BA0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2FE-76BD-4036-99EB-0776978E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F4D-2B78-4C2C-B752-BE765CA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EFE-FD1C-477A-9B0F-A118C75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FD7-4B53-4394-8C57-DE62914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E43-BD87-42FF-8042-542BA9CC89A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5C05-0B41-4A6C-8FAA-A7256A8604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1B66-CFAB-4C23-910A-A09623135B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6311-58A5-42E0-AD18-823897A72C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p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pt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pt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ppt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9T06:45:49Z</dcterms:modified>
  <cp:revision>1</cp:revision>
  <dc:subject/>
  <dc:title>PowerPoint 演示文稿</dc:title>
</cp:coreProperties>
</file>