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8999538" cy="6011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07E8-1B68-4322-B029-46213408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9FC2-3B3E-4D4E-87D1-BFA34450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A6AF-6F98-4E1A-B97E-D092E599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E1AF-2732-4C3B-A7DB-8D864C6B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4238-4FDD-4BA1-9A01-8310AA3B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DE87-A76C-4210-8B3A-6A58FA5D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34F2-2650-40AE-A445-5393C67C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7DB9-3CA1-409E-87CC-3817FC57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4301-7D4A-4D3D-A416-D4F28D49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28FE-69E7-4680-AE02-A526946D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68C6-8E88-438E-8A87-ECD559DF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55CA-D216-48D4-B04C-9DA22C0A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17E4-18CE-4330-8FD3-EBB2F614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5D5F-9271-47D8-A15A-C41B0D39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44A1-3B2C-4CDF-A971-ADBC8EB6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E232-4EB3-4537-966C-9386A582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C8E4-4151-4B06-9F04-09A1CAA0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AA027-A22E-4E3E-AE4C-681379E7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075C5-0085-4B3A-B713-EA1D4B03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DE755-DC7A-40CF-B337-0326F6BC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90D9C-DF85-4CB3-8E53-AD7F5A96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8315D-B0F9-4044-91DB-DD19FA1E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856A-1D3D-4E51-B777-3E8FE856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F7981-6393-4F60-BFBA-E1644721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E68CD-CDE5-4684-9F97-2DFCC587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79170-AC5B-4269-8F89-66F4C07E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8803-54D7-4722-96B3-3DBEE91C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23AE3-AACE-4564-BFF7-B36795B0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06687-D518-4711-AB77-CA9D8F59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9C8AE-4025-4A11-AE77-54EB2DDD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BA81-E4B2-4576-AC91-6066176A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DB8D-EC99-4059-802F-B7071907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3DAE-85A8-4B40-8F3F-63C60C87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AED-4FDB-4146-BC67-F5DDE6BA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AD6-B0F0-46BF-BCB1-7B0A96E2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CB90-C844-4090-B4D0-C33F0095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1FE8-8FDB-429B-A0B4-0994094736AA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A493-8678-4645-855F-9B19352FFEF7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0880" indent="-2491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1880" indent="-200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4928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2608-A37B-4E46-AE41-DEF7E9C437AC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74760" y="5475240"/>
            <a:ext cx="28494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012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BA58-999D-402D-A872-50C53A6FC65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63F5-F3F6-4C0C-9157-D58DF850F04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D7D8-064D-462A-B3ED-802387DDF9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wg_blurred_backgrounds_1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4280" y="1898640"/>
            <a:ext cx="7650360" cy="12873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</a:rPr>
              <a:t>古典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49280" y="3406320"/>
            <a:ext cx="63007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29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0360" y="1402920"/>
            <a:ext cx="8099640" cy="32590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wg_blurred_backgrounds_1"/>
          <p:cNvPicPr/>
          <p:nvPr/>
        </p:nvPicPr>
        <p:blipFill>
          <a:blip r:embed="rId1"/>
          <a:srcRect l="0" t="0" r="0" b="79604"/>
          <a:stretch/>
        </p:blipFill>
        <p:spPr>
          <a:xfrm>
            <a:off x="0" y="4807080"/>
            <a:ext cx="8999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63640" y="240840"/>
            <a:ext cx="678672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63640" y="1403280"/>
            <a:ext cx="678672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文本文本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wg_blurred_backgrounds_1"/>
          <p:cNvPicPr/>
          <p:nvPr/>
        </p:nvPicPr>
        <p:blipFill>
          <a:blip r:embed="rId1"/>
          <a:srcRect l="54112" t="0" r="29296" b="0"/>
          <a:stretch/>
        </p:blipFill>
        <p:spPr>
          <a:xfrm>
            <a:off x="0" y="0"/>
            <a:ext cx="148896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 rot="10800000">
            <a:off x="2590920" y="1364760"/>
            <a:ext cx="3836880" cy="882720"/>
          </a:xfrm>
          <a:custGeom>
            <a:avLst/>
            <a:gdLst>
              <a:gd name="textAreaLeft" fmla="*/ 0 w 3836880"/>
              <a:gd name="textAreaRight" fmla="*/ 3837240 w 383688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07210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811600" y="1366920"/>
            <a:ext cx="36162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4400" rIns="3913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2149560" y="1366920"/>
            <a:ext cx="882720" cy="880920"/>
          </a:xfrm>
          <a:prstGeom prst="ellipse">
            <a:avLst/>
          </a:prstGeom>
          <a:solidFill>
            <a:srgbClr val="b07210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 rot="10800000">
            <a:off x="2590920" y="2511360"/>
            <a:ext cx="3836880" cy="881280"/>
          </a:xfrm>
          <a:custGeom>
            <a:avLst/>
            <a:gdLst>
              <a:gd name="textAreaLeft" fmla="*/ 0 w 3836880"/>
              <a:gd name="textAreaRight" fmla="*/ 3837240 w 3836880"/>
              <a:gd name="textAreaTop" fmla="*/ 0 h 881280"/>
              <a:gd name="textAreaBottom" fmla="*/ 881640 h 8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07210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811600" y="2511360"/>
            <a:ext cx="36162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4400" rIns="3913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2149560" y="2511360"/>
            <a:ext cx="882720" cy="882720"/>
          </a:xfrm>
          <a:prstGeom prst="ellipse">
            <a:avLst/>
          </a:prstGeom>
          <a:solidFill>
            <a:srgbClr val="b07210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 rot="10800000">
            <a:off x="2590920" y="3655800"/>
            <a:ext cx="3836880" cy="880920"/>
          </a:xfrm>
          <a:custGeom>
            <a:avLst/>
            <a:gdLst>
              <a:gd name="textAreaLeft" fmla="*/ 0 w 3836880"/>
              <a:gd name="textAreaRight" fmla="*/ 3837240 w 3836880"/>
              <a:gd name="textAreaTop" fmla="*/ 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07210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2811600" y="3656160"/>
            <a:ext cx="361620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4400" rIns="3913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2149560" y="3656160"/>
            <a:ext cx="882720" cy="882360"/>
          </a:xfrm>
          <a:prstGeom prst="ellipse">
            <a:avLst/>
          </a:prstGeom>
          <a:solidFill>
            <a:srgbClr val="b07210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5106960" y="950760"/>
            <a:ext cx="11192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5313240" y="1057320"/>
            <a:ext cx="11192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rm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2471760" y="919080"/>
            <a:ext cx="4199040" cy="4199040"/>
          </a:xfrm>
          <a:custGeom>
            <a:avLst/>
            <a:gdLst>
              <a:gd name="textAreaLeft" fmla="*/ 614880 w 4199040"/>
              <a:gd name="textAreaRight" fmla="*/ 3584160 w 4199040"/>
              <a:gd name="textAreaTop" fmla="*/ 614880 h 4199040"/>
              <a:gd name="textAreaBottom" fmla="*/ 3584160 h 4199040"/>
            </a:gdLst>
            <a:ahLst/>
            <a:rect l="textAreaLeft" t="textAreaTop" r="textAreaRight" b="textAreaBottom"/>
            <a:pathLst>
              <a:path w="21600" h="21600">
                <a:moveTo>
                  <a:pt x="20439" y="9939"/>
                </a:moveTo>
                <a:cubicBezTo>
                  <a:pt x="20311" y="8505"/>
                  <a:pt x="19865" y="7117"/>
                  <a:pt x="19132" y="5877"/>
                </a:cubicBezTo>
                <a:lnTo>
                  <a:pt x="20098" y="5306"/>
                </a:lnTo>
                <a:cubicBezTo>
                  <a:pt x="20916" y="6690"/>
                  <a:pt x="21414" y="8239"/>
                  <a:pt x="21557" y="9840"/>
                </a:cubicBezTo>
                <a:lnTo>
                  <a:pt x="24246" y="9600"/>
                </a:lnTo>
                <a:lnTo>
                  <a:pt x="21288" y="13137"/>
                </a:lnTo>
                <a:lnTo>
                  <a:pt x="17750" y="10179"/>
                </a:lnTo>
                <a:lnTo>
                  <a:pt x="20439" y="9939"/>
                </a:lnTo>
                <a:close/>
              </a:path>
            </a:pathLst>
          </a:custGeom>
          <a:solidFill>
            <a:srgbClr val="b07210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5783400" y="3033720"/>
            <a:ext cx="11188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5807160" y="3171960"/>
            <a:ext cx="1119240" cy="11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rm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2471760" y="919080"/>
            <a:ext cx="4199040" cy="4199040"/>
          </a:xfrm>
          <a:custGeom>
            <a:avLst/>
            <a:gdLst>
              <a:gd name="textAreaLeft" fmla="*/ 614880 w 4199040"/>
              <a:gd name="textAreaRight" fmla="*/ 3584160 w 4199040"/>
              <a:gd name="textAreaTop" fmla="*/ 614880 h 4199040"/>
              <a:gd name="textAreaBottom" fmla="*/ 3584160 h 4199040"/>
            </a:gdLst>
            <a:ahLst/>
            <a:rect l="textAreaLeft" t="textAreaTop" r="textAreaRight" b="textAreaBottom"/>
            <a:pathLst>
              <a:path w="21600" h="21600">
                <a:moveTo>
                  <a:pt x="14593" y="19703"/>
                </a:moveTo>
                <a:cubicBezTo>
                  <a:pt x="16123" y="19051"/>
                  <a:pt x="17459" y="18016"/>
                  <a:pt x="18473" y="16697"/>
                </a:cubicBezTo>
                <a:lnTo>
                  <a:pt x="19363" y="17381"/>
                </a:lnTo>
                <a:cubicBezTo>
                  <a:pt x="18231" y="18853"/>
                  <a:pt x="16740" y="20008"/>
                  <a:pt x="15032" y="20735"/>
                </a:cubicBezTo>
                <a:lnTo>
                  <a:pt x="16091" y="23219"/>
                </a:lnTo>
                <a:lnTo>
                  <a:pt x="11812" y="21497"/>
                </a:lnTo>
                <a:lnTo>
                  <a:pt x="13534" y="17219"/>
                </a:lnTo>
                <a:lnTo>
                  <a:pt x="14593" y="19703"/>
                </a:lnTo>
                <a:close/>
              </a:path>
            </a:pathLst>
          </a:custGeom>
          <a:solidFill>
            <a:srgbClr val="b07210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4011480" y="4321080"/>
            <a:ext cx="11192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011480" y="4321080"/>
            <a:ext cx="11192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rm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471760" y="919080"/>
            <a:ext cx="4199040" cy="4199040"/>
          </a:xfrm>
          <a:custGeom>
            <a:avLst/>
            <a:gdLst>
              <a:gd name="textAreaLeft" fmla="*/ 614880 w 4199040"/>
              <a:gd name="textAreaRight" fmla="*/ 3584160 w 4199040"/>
              <a:gd name="textAreaTop" fmla="*/ 614880 h 4199040"/>
              <a:gd name="textAreaBottom" fmla="*/ 3584160 h 4199040"/>
            </a:gdLst>
            <a:ahLst/>
            <a:rect l="textAreaLeft" t="textAreaTop" r="textAreaRight" b="textAreaBottom"/>
            <a:pathLst>
              <a:path w="21600" h="21600">
                <a:moveTo>
                  <a:pt x="3738" y="17417"/>
                </a:moveTo>
                <a:cubicBezTo>
                  <a:pt x="4875" y="18631"/>
                  <a:pt x="6306" y="19531"/>
                  <a:pt x="7893" y="20031"/>
                </a:cubicBezTo>
                <a:lnTo>
                  <a:pt x="7556" y="21101"/>
                </a:lnTo>
                <a:cubicBezTo>
                  <a:pt x="5785" y="20543"/>
                  <a:pt x="4188" y="19539"/>
                  <a:pt x="2919" y="18184"/>
                </a:cubicBezTo>
                <a:lnTo>
                  <a:pt x="949" y="20031"/>
                </a:lnTo>
                <a:lnTo>
                  <a:pt x="1098" y="15421"/>
                </a:lnTo>
                <a:lnTo>
                  <a:pt x="5708" y="15571"/>
                </a:lnTo>
                <a:lnTo>
                  <a:pt x="3738" y="17417"/>
                </a:lnTo>
                <a:close/>
              </a:path>
            </a:pathLst>
          </a:custGeom>
          <a:solidFill>
            <a:srgbClr val="b07210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2239920" y="3033720"/>
            <a:ext cx="11192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2239920" y="3033720"/>
            <a:ext cx="11192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2471760" y="919080"/>
            <a:ext cx="4199040" cy="4199040"/>
          </a:xfrm>
          <a:custGeom>
            <a:avLst/>
            <a:gdLst>
              <a:gd name="textAreaLeft" fmla="*/ 614880 w 4199040"/>
              <a:gd name="textAreaRight" fmla="*/ 3584160 w 4199040"/>
              <a:gd name="textAreaTop" fmla="*/ 614880 h 4199040"/>
              <a:gd name="textAreaBottom" fmla="*/ 3584160 h 4199040"/>
            </a:gdLst>
            <a:ahLst/>
            <a:rect l="textAreaLeft" t="textAreaTop" r="textAreaRight" b="textAreaBottom"/>
            <a:pathLst>
              <a:path w="21600" h="21600">
                <a:moveTo>
                  <a:pt x="2027" y="6713"/>
                </a:moveTo>
                <a:cubicBezTo>
                  <a:pt x="1430" y="7993"/>
                  <a:pt x="1122" y="9387"/>
                  <a:pt x="1122" y="10800"/>
                </a:cubicBezTo>
                <a:cubicBezTo>
                  <a:pt x="1122" y="10827"/>
                  <a:pt x="1122" y="10855"/>
                  <a:pt x="1122" y="10883"/>
                </a:cubicBezTo>
                <a:lnTo>
                  <a:pt x="0" y="10893"/>
                </a:lnTo>
                <a:cubicBezTo>
                  <a:pt x="0" y="10862"/>
                  <a:pt x="0" y="10831"/>
                  <a:pt x="0" y="10800"/>
                </a:cubicBezTo>
                <a:cubicBezTo>
                  <a:pt x="0" y="9224"/>
                  <a:pt x="344" y="7667"/>
                  <a:pt x="1010" y="6239"/>
                </a:cubicBezTo>
                <a:lnTo>
                  <a:pt x="-1438" y="5099"/>
                </a:lnTo>
                <a:lnTo>
                  <a:pt x="2895" y="3520"/>
                </a:lnTo>
                <a:lnTo>
                  <a:pt x="4474" y="7853"/>
                </a:lnTo>
                <a:lnTo>
                  <a:pt x="2027" y="6713"/>
                </a:lnTo>
                <a:close/>
              </a:path>
            </a:pathLst>
          </a:custGeom>
          <a:solidFill>
            <a:srgbClr val="b07210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2917800" y="950760"/>
            <a:ext cx="11178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2917800" y="950760"/>
            <a:ext cx="11178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rm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6"/>
          <p:cNvSpPr/>
          <p:nvPr/>
        </p:nvSpPr>
        <p:spPr>
          <a:xfrm>
            <a:off x="2471760" y="919080"/>
            <a:ext cx="4199040" cy="4199040"/>
          </a:xfrm>
          <a:custGeom>
            <a:avLst/>
            <a:gdLst>
              <a:gd name="textAreaLeft" fmla="*/ 614880 w 4199040"/>
              <a:gd name="textAreaRight" fmla="*/ 3584160 w 4199040"/>
              <a:gd name="textAreaTop" fmla="*/ 614880 h 4199040"/>
              <a:gd name="textAreaBottom" fmla="*/ 3584160 h 4199040"/>
            </a:gdLst>
            <a:ahLst/>
            <a:rect l="textAreaLeft" t="textAreaTop" r="textAreaRight" b="textAreaBottom"/>
            <a:pathLst>
              <a:path w="21600" h="21600">
                <a:moveTo>
                  <a:pt x="12664" y="1303"/>
                </a:moveTo>
                <a:cubicBezTo>
                  <a:pt x="12050" y="1182"/>
                  <a:pt x="11425" y="1122"/>
                  <a:pt x="10799" y="1122"/>
                </a:cubicBezTo>
                <a:cubicBezTo>
                  <a:pt x="9857" y="1122"/>
                  <a:pt x="8920" y="1259"/>
                  <a:pt x="8018" y="1530"/>
                </a:cubicBezTo>
                <a:lnTo>
                  <a:pt x="7695" y="455"/>
                </a:lnTo>
                <a:cubicBezTo>
                  <a:pt x="8702" y="153"/>
                  <a:pt x="9748" y="0"/>
                  <a:pt x="10799" y="0"/>
                </a:cubicBezTo>
                <a:cubicBezTo>
                  <a:pt x="11498" y="0"/>
                  <a:pt x="12195" y="67"/>
                  <a:pt x="12880" y="202"/>
                </a:cubicBezTo>
                <a:lnTo>
                  <a:pt x="13401" y="-2448"/>
                </a:lnTo>
                <a:lnTo>
                  <a:pt x="15972" y="1380"/>
                </a:lnTo>
                <a:lnTo>
                  <a:pt x="12144" y="3952"/>
                </a:lnTo>
                <a:lnTo>
                  <a:pt x="12664" y="1303"/>
                </a:lnTo>
                <a:close/>
              </a:path>
            </a:pathLst>
          </a:custGeom>
          <a:solidFill>
            <a:srgbClr val="b07210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wg_blurred_backgrounds_1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4280" y="198864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</a:rPr>
              <a:t>谢谢观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492120" y="0"/>
            <a:ext cx="7421400" cy="6012000"/>
            <a:chOff x="492120" y="0"/>
            <a:chExt cx="7421400" cy="6012000"/>
          </a:xfrm>
        </p:grpSpPr>
        <p:sp>
          <p:nvSpPr>
            <p:cNvPr id="159" name="矩形 4"/>
            <p:cNvSpPr/>
            <p:nvPr/>
          </p:nvSpPr>
          <p:spPr>
            <a:xfrm>
              <a:off x="1030680" y="0"/>
              <a:ext cx="5930640" cy="6274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492120" y="1503000"/>
              <a:ext cx="7421400" cy="450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Box 7"/>
            <p:cNvSpPr/>
            <p:nvPr/>
          </p:nvSpPr>
          <p:spPr>
            <a:xfrm rot="20926800">
              <a:off x="2163600" y="3123000"/>
              <a:ext cx="4091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a</cp:lastModifiedBy>
  <dcterms:modified xsi:type="dcterms:W3CDTF">2014-08-13T02:04:21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