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95EF-8E94-4F26-8032-BE2BD152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40C6-1601-46E5-85B5-11F3EA39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7E7A6-D8AF-4ADB-89B4-00166D3E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1F0EF-8AC4-46EE-BA4A-6E387B88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CEFC9-66DF-496E-9747-DA4A63E6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EEDFE-2450-43E0-936A-E653BE9E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15A40-9D05-4010-BDC6-1E19761B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BFC77-D3B7-428E-B6BE-B89CBDB8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00762-F00C-44D1-AB0C-A70AFF52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2AF7D-40D7-47ED-AEDC-6513BE48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CCFE1-74C0-425F-AEF1-5A5B147D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AE056-EF07-498E-9C6B-F9340FEB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FF1-3F07-4F5D-A5C9-993F9306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DFF51-6D84-4AC1-A932-2E9A9626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6B806-7CC2-4609-9AA6-662CE59B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70114-EC85-4A7F-98D9-E17CB29F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62998-206A-4BFD-9472-BE6D99F1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9F8D6-D074-42FF-8A0E-32E55EB1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63554-DEDF-4240-9F1E-B3C2D796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52B9B-FDF7-440D-B6DD-D93689E2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94E7E-F77E-4F61-83EC-C717BCB2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14B7C-AF67-415E-B817-5B618D93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4DD2C-E7CA-437F-8B96-739BBB2B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D2C-D9AA-4834-91F6-D0275DFF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41924-4112-4DEB-A010-86FE3804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267B9-F42E-4F17-ACF1-B7676F18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7C1D4-45CC-4130-9326-5110749C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1082D-C69E-4C05-887D-354423A7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03798-FB4D-44AB-B43D-29F45839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EC865-19E1-4DAE-B1E9-8BE344A4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5E38B-0D58-4D77-B192-B1829D3B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D4F71-EC6A-49FE-BCAD-56B085C2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BB044-4BA4-48E9-B287-025C2F38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DE498-5C76-4B83-A2EA-3175F10A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2BEB-8ACC-4127-A38B-1A7D121E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0B719-08CF-486D-956B-89FFF7C0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10528-BD86-477E-9190-2D8DA50E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087F6-C202-487A-B85D-12D9F38D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322E8-CC22-463A-82AA-B42C4180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83920-6E96-4FE4-876B-A92C74F1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EFB32-F739-4F36-8F2E-7E84ACB1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2AD70-A43A-4786-81F8-A65C290D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4C361-25FE-49FB-B802-FE486478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2E510-D011-4A1F-9059-A46197A2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AF8E4-08E6-4AC8-94E8-352EE8A7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94A0-7412-4296-BC93-B15E9248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B17AD-5075-43F9-A979-2447322A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07530-2570-405C-B042-32DE8166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EDF88-80AA-4144-8973-FFB8B7C1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FF83E-C1B5-4200-A11D-18A6BB81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CB134-BD8E-43B8-8EA7-17C2CCF9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06703-3F14-4963-BE8F-E310249E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B1EE0-AF08-4E7A-B563-CAFD4595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88E78-70B7-4088-A983-8A8682F4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45A56-68FA-4516-AD32-4FB02A95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B5311-E931-43A4-87A7-7CFAA32B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D5B7-E67D-4302-BAA0-F72BC34F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67ABF-CA73-4393-993D-4F9A6503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9484A-0025-441D-8A1E-9F55F81D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4A5F3-2C92-4AB6-BF3F-4A479EA0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18A48-4CCE-4228-839E-E475B1D3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080D6-084D-4C72-8709-A813C9D3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60C3DE-3D65-49D0-9A5B-BFF7B93F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471DE-49CC-42FA-A14D-09EE0346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A8E6-8FDE-4CC4-826E-7AAD912E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E19E-6794-4CD8-A14B-89176367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93C6-9A70-479C-A24C-A152C9D3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FB1C-008A-404A-8CA4-DD18B56B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576-5F24-435B-9151-4A118563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C938-2280-4986-A6FB-684A8DA1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A967-37FE-4DBF-A647-B8D34238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BC60-EEBA-4DD1-842B-8444CC23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71D1-9FA3-49E0-944E-E84BD151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319D-D21B-4DD2-97DE-F92251FB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DF546-9C2C-4C6B-B45F-DFD8C16C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B93F-281E-473B-8E9F-A1946A55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6694F-AA4F-423E-AE44-B172D746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B666-96C0-4E18-8F2C-BAFFEE55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5CAF5-C8C1-4F90-9C60-B08AA68F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5B6-6A7D-4CFD-8FE8-386A6703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306F0-8BF7-493B-AA5F-CCFF65CB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67257-6DCE-4255-92DB-F9EE4D7E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B3189-AC45-425B-911C-EA995197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460D8-A3C8-4780-8D2D-90568C5F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7A6B0-C025-4567-8972-41AFF29C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02183-4445-4051-9559-25B44464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367D6-518E-4D5D-AEE9-1DF37233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8DD35-E123-4315-BC22-582766AC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E8509-0DA5-4F97-8962-622DF45D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9B71C-E4B4-4255-9A2C-5366A3D5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1A0-B3BF-47C6-8BB6-B64A2898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2F116-C2B3-4431-9452-989A6131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7B8E5-FC88-47FB-9CA1-BD1F1F8D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39327-A7EB-4E4F-BA29-008C5DB5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E5EF9-54E2-4887-B62B-CBF22293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690B-24C0-475B-A0DC-C7458868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92519-E773-45CF-9958-7476B86B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D467E-0FBC-4F4F-A1D0-02D4C75D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30B9F-7AEA-4E5B-8A69-57ED594A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F8D4E-1067-4EB1-A968-AB720CF2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C8B96-56C7-49B6-8723-DDA975AD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5F96-3746-48D6-B063-5B44D7FC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710D7-8C41-4367-B336-714E6A26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67700-D4E8-475B-BBBD-CF0A29C8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8CDE4-FEEB-4AA5-BA09-96055AAD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06127-6725-42E8-A9AA-296E4C1A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36C88-9DC5-424D-83B6-63C20411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05A98-01D4-4CF7-8AF8-1B1C00B6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8D5AA-9FE8-4D04-BDBF-A499D608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18EFD-AD4F-4B6B-A3CF-0A10EBCD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4FEDD-3380-474E-BF61-337B190B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62C8C-D21E-4A57-A3EF-21900BC7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2BC-A5A6-4027-9A6D-D342FE2A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6FBF7-C62C-46C4-A785-D37C657B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124F9-5D55-457C-9E37-EE2B465B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AF15A-51A5-4FD6-B833-DE242D69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68928-857F-4D56-993F-1E2A9E0E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24085-08E8-4AD9-8718-D4B83D74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C7104-142A-4A91-B49C-173D3C47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D7629-8149-4560-9FDC-F0FA141D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4CE13-1A38-45E2-AC8F-4BC497E4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02F1A-8ADF-46ED-B7A8-B407153C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35BCF-90E8-4FC9-B234-57E1D0E1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964-9A52-47CC-A453-881DE35E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233AD-884A-4F19-A65D-04DECB3E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18034-161C-4398-9E59-7C747767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F2A24-19D1-4A2D-A474-70850423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22FE2-DF1D-4AED-A2EF-C739BA7C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23ABC-887C-4B94-8B38-27D61C6E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40100-F379-4679-AA62-9B41AEFD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904D5-47C8-4251-B5F0-90FE997F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ABD8A-3591-4071-9D37-355CE2C9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0D464-B5D3-467E-A4B4-82A580C9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B4DF9-2A27-470F-9D14-DE8E035A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0B7-0F9A-4F53-9BFA-0F99FEAC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1E0A9-B0E8-415B-BD18-0DE3C594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FCFF9-B3DE-4D25-9529-96F164B8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38AD3-FF39-4A12-B427-4FAAEFAD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93A8D-8EE5-4F9A-8A46-32FBE670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C716E-5681-4A41-A5C1-E91C9731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38D7C-960B-4E99-A1AE-FF226AA6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5BFD2-18D4-4C1F-A1BE-8E9FC425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B083E-12F8-47BF-8F00-376BB647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47496-A09C-45FE-B900-7882EDDF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3F53E-124F-41C6-AD13-B8EA366B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D2D-CB60-4920-B3E7-A297E164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D9163-7537-4F8F-A7F2-FBA75008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D1246-2EFD-4126-80C0-9A22CF6D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E354E-19D4-4DFE-A217-12EF54C8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D8A4E-A792-4CCE-9C7C-B602A408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03821-E1B9-4100-AD6B-70D3D99C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989B0-BA09-4B1A-92C0-3FA3B0C4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52418-12B0-4CEB-970F-B11E1DC6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AA67C-52D2-4578-BF7C-52B02462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A5DD8-9407-490A-8764-CF3E74C2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86F91-2FD4-4974-9777-8A13F63A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1D2B-A634-433E-BBCB-447AE5DE85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EC46-7777-45CE-A91C-EAE2D93F393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1D04-B044-4D10-A05A-1AB2A483C8A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E67A-1E65-4AD3-8CCB-605FCC77C3A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FC63-C8B7-412A-8EB3-63E511B8794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FF2F-1212-4A5B-926A-7E8C4684DF6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ADD4-40DB-4197-AB19-A1A6E6A11F3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5538-0A77-42B4-87EC-444130F1B13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8C59-52E1-4A99-9487-2C6120F8919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2FC4-AE99-48CD-86FB-B07E7524F0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F77B-BA68-4D60-AE37-B7CDC32B6A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7A66-EFF1-4FE2-B532-575CEEFDD02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A3E4-4710-4616-B23F-ABDE9448F73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FC32-B395-4518-B843-511502FF7EB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5DD7-2795-4C91-8B08-D8418F76AEB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AF30-DFB0-4A7C-9A13-7139ADDE9AB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3E45-1657-4C06-9478-878C510C8CF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7CD3-2888-4EE6-BD3C-7F3FBFF343C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4329-294E-465F-8C13-D6DA6A03738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C82E-CE5E-4DAB-BFCB-848F4D1B843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AA66-2C28-40CB-A903-9ACD6B770B0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A2DE-D927-4F13-9664-447F93A7EF2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6AD6-3CC0-4A5D-9B35-8136440B216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C7B4-4809-4A14-BFEA-F56C4559CAC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FBCE-45AB-4AC5-AF21-E3F48CC0973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封面页"/>
          <p:cNvPicPr/>
          <p:nvPr/>
        </p:nvPicPr>
        <p:blipFill>
          <a:blip r:embed="rId1"/>
          <a:stretch/>
        </p:blipFill>
        <p:spPr>
          <a:xfrm>
            <a:off x="0" y="0"/>
            <a:ext cx="121921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目录页"/>
          <p:cNvPicPr/>
          <p:nvPr/>
        </p:nvPicPr>
        <p:blipFill>
          <a:blip r:embed="rId1"/>
          <a:stretch/>
        </p:blipFill>
        <p:spPr>
          <a:xfrm>
            <a:off x="0" y="0"/>
            <a:ext cx="121921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过渡页"/>
          <p:cNvPicPr/>
          <p:nvPr/>
        </p:nvPicPr>
        <p:blipFill>
          <a:blip r:embed="rId1"/>
          <a:stretch/>
        </p:blipFill>
        <p:spPr>
          <a:xfrm>
            <a:off x="0" y="0"/>
            <a:ext cx="121921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内容页"/>
          <p:cNvPicPr/>
          <p:nvPr/>
        </p:nvPicPr>
        <p:blipFill>
          <a:blip r:embed="rId1"/>
          <a:stretch/>
        </p:blipFill>
        <p:spPr>
          <a:xfrm>
            <a:off x="0" y="0"/>
            <a:ext cx="121921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结束页01"/>
          <p:cNvPicPr/>
          <p:nvPr/>
        </p:nvPicPr>
        <p:blipFill>
          <a:blip r:embed="rId1"/>
          <a:stretch/>
        </p:blipFill>
        <p:spPr>
          <a:xfrm>
            <a:off x="0" y="0"/>
            <a:ext cx="12192120" cy="6867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结束页02"/>
          <p:cNvPicPr/>
          <p:nvPr/>
        </p:nvPicPr>
        <p:blipFill>
          <a:blip r:embed="rId2"/>
          <a:stretch/>
        </p:blipFill>
        <p:spPr>
          <a:xfrm>
            <a:off x="2971800" y="1320840"/>
            <a:ext cx="61088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40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13T01:59:2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