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425-9FEC-41AF-B49C-0B6FDF2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103-FAA8-462E-9952-A710E873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EF87E-D4D3-44B3-A9A2-873AE5DE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3C6BC-E1E5-4295-9FF3-6741B7F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FEC1-2296-47A6-805D-C54488F3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30837-40FB-4552-B079-BAC7183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650E4-21C1-4E68-9813-0D79C501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49581-1316-40A1-9C84-97AEE99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7EC1E-4740-46CC-B31A-29CF4B5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FDC2B-A202-4782-9825-CBC48FC1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08DE4-FAB4-425A-A15D-B07153AC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002E4-FE19-486A-8EE3-920D719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3BA-7556-40D2-9541-F2BABB9B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FEB26-504E-46CF-9032-71CF3B6F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0185E-8DDE-4A7F-988E-4435CBAE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4FD7A-B367-4835-88F7-A2DBBB08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C6371-FAD3-49FA-AA93-2B832C87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F28F4-D0BB-4B2B-A7D2-7C93CDE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D60B6-5A0C-468A-8817-5D5E207B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15FC5-FB4B-4775-B8C8-4902D1F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DB028-40FF-4F13-A68B-A04B510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92A34-DAB5-4280-9455-41180F2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CF551-7B92-4D02-9250-A8417CC2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7F0-E7F2-4944-B97E-C35E66F7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277C9-6C56-4F68-9592-3E7DEA34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E67E-5B04-4787-9C9F-3DB1288B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A5060-F0C7-4BB5-82FE-57FE4B56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827B9-334F-47B6-99A4-DDDA1C84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0B132-C1CA-41CC-87AC-83E96C75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3389A-75F0-4E66-A2A5-5F1E81EF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B8C88-4472-44ED-8F2F-54876F35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5A18E-B8B5-48FF-A144-06FDD45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3C35-E6E3-48DE-A7CD-8EB48E6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F701A-7D7A-4B52-9452-29F42AD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3AD8-1F1A-49CA-B1CF-2BDD2D95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91608-2BB1-451D-B5F0-925191E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39822-BE0C-46F9-AA61-BA47972F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BB45A-D3A4-4FA2-94D4-1EB3169E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757E4-6C0A-4C08-9077-E090381F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70AC8-062F-4AD5-BC03-25A7A475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155C0-9BC6-40CC-8BC9-B7CD21AE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778AF-3033-4DFF-8006-9E2B56B4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613F1-706D-4D3E-80B0-C93AD474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D5630-2856-4C1F-94D8-45CA014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7F6C1-8E0B-4F95-A02A-F5D34D3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EC9-A11F-4216-852A-2B06D2C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1EF09-BC09-4A71-8BB4-C217605A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9ADD6-1E73-435C-9DEA-A3FEFE4C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0841D-B5B3-473B-AF2A-689AF25E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6382D-A89E-4B10-8210-2B1F200D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BB079-9DBE-4C43-AFB7-A6E5347A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CBA44-6DCE-4170-9850-5167A582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53550-65AA-45C3-BB1A-9DD136B2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A1FF3-EC50-48BD-BB39-730AF8AB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E780C-F822-4D46-842B-C16CB07E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A7141-2AB8-4D09-AD3A-4DED4350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4E1D-E6B3-47F1-891D-80982250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9F3E1-FB16-418F-9743-AFD7EE5D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8C462-5A26-4759-B186-DD8C8D3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4F457-8733-44F2-A2FF-B60539EA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1874B-1DA4-4840-B4C5-18EFE99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56BB3-2112-448E-BB18-F07543DE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21390-18A3-4B0E-8457-AA4A935A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8D167-9178-4571-BCD5-5B6AB620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3533-3709-4B6B-80F1-43541BFE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DC53-2361-4479-B35F-7957E51A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DA72-8352-444E-B1A8-7A1CA11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D958-B772-4307-B17C-6A990E4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2E4-F607-48DD-86C8-955F30A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5842-847B-446F-B185-3DC16212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5A52-3373-49EE-B7C3-65B6668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DDFD-55C2-463E-895E-951E0E32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A91D-CC70-470B-A681-5145B2BD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B80-EDD5-4A9E-A00C-54FCC8C2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6B55-2CAB-4712-9982-34E707C1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BF2A-B3BE-4941-89CC-AA2411B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3B73-8618-4A21-9872-73B88E4C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C4C4-066F-4799-9F30-0319921F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E162-6195-43A3-914A-58B8CC17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6C8-A379-451C-99B2-3D668355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CD22A-DE81-4FF8-81AA-1ADD7690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1288D-FB56-418B-BE0A-330A2A5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D4EC-9202-46C7-B65D-87E0456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1A8EC-6A89-4B40-8523-3000ED7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7E44-CB11-4094-9A98-44E920CD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C226-E9A4-4485-9532-71A9858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5AFD-D356-48FD-AE7B-F8DBB50A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BACF-2D31-4026-ADA0-284DB741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70DC-4AE5-4085-A42C-026EEDCE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C602-BD10-4B5B-83D3-8C2917E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7AA-F3CE-48A6-A800-11E85BD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F9E1-C22C-4BFF-8EAA-B50115E5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AAFE-2F8B-4760-9604-0A64DB8E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4D3C-4E49-440D-B884-FC736F4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A072B-71D9-4B9F-9F31-A019DA45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13BC-26DC-472D-BDCC-E2FA742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4469-8CF7-4322-958D-8352886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D8BF-5AED-4998-9385-93C25090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BCE9-5435-48C7-8A6D-CF93536B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EFBB-4C4B-4ADD-BDBC-1378F6EE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FD71A-6DEB-420D-8E05-D035029A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D1C-6618-4B24-83F5-404A7666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27C1-A312-4646-8C04-7E48BE9A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0E937-4CBE-48EF-8046-75F9E89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A1647-9DF6-4E5F-A321-EFB6C657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114F-A078-46F9-88A3-A0FA2799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76DE-503D-4507-9B48-F479BF6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8F22F-90BB-4936-89FD-005510AD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2521-5C72-47D3-94F0-0D69ED0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89B2-A355-4FA1-B4CC-A34C13A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A5F5-81E6-4544-A6C1-63F23E28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124D-05AD-4A34-A328-9858D866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59B-B9AF-4BF7-970C-D81BC5A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E37E-DECE-4AB2-8E0F-AA4A5108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D3043-E13E-4EC4-B9A2-F11CFD8A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9F436-C8F0-42A4-823F-A2C6199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6B9D-317A-4107-A87B-D257B794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B098E-0008-4D67-896D-85D87AC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B89C6-9F7A-42A8-B36E-19907F10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6D35F-C972-49F2-ABC2-9DA2E45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E0DD-0D27-4798-92D3-219E57C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D536-B2D1-46F3-A3CA-C0FA30FB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5FBC6-492B-48C9-860B-2B191B64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60D-DDEF-4078-B45B-905EC3F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867F-70C7-4D7F-B7C9-D7F747E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87A10-4162-4060-8C4F-70D35AF4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8547-3661-49CE-91D4-29FFC0FB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66C2-38E4-47D8-8703-E933F140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3127-2680-4F1C-9319-764D8E84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5169-BA14-40B7-8CD3-47ECCD75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58B4-188F-4467-B820-09434B0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F491-2F24-482C-B5B2-29E7CFB7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C3CF2-A097-44E5-A894-7C66A02D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2399-3999-46C2-9335-46AAFAB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14F-F2C6-4528-8438-3ACC391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CB8F-B25C-4805-A12C-7B84E65D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7BC7-55F8-4A3A-8A56-8C15EC4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9AFE9-740A-4482-B785-A6C0AB07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4024-3EC6-4976-8C91-254B1744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2CCCC-ACEE-4814-9AB7-75594DC5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E49B-2779-4E25-9A76-88CBAE7F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3D4E-F56D-4420-9D71-65BDAD3A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E8B3A-EF02-4FBD-B439-335CC897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2D84-9B30-402C-B095-1BCC35D7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B5DE-823D-4CFE-8764-A3484EB3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5EC-B698-443F-BB8C-31289838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D181-FF62-42A6-808D-8EBA3E6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B0DC9-6328-4682-9192-CBAC0A01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819E-CBB1-458B-80B5-BFAE767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93CA3-4D86-45E6-BF50-403CF7F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74DE5-3981-41FF-A890-C32E7BF3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FC461-7754-419A-AE86-AC80FA7E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DFA3-0B7D-45E0-AA71-92DB61DD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A015-2585-4809-A7F4-BC0DBB22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4D8F9-B72C-4D41-9A8B-A4AF1D0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A5788-2C00-44C1-84E1-106AF5EE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B840-E46A-4699-A757-C2182D02C9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41D2-1E81-42B9-B368-EF9504875C5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DB06-CB7F-4BF7-AAA6-B7B205101A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B16C-1E1A-4669-913C-E76F838CE88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74B-B1B0-4CA3-BFD8-FED2DAAB231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2C7-FAF8-4E07-9315-DFD5BA05A6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B16F-7BE1-4545-AD47-2C3897044F1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C09D-6B71-4412-A6CE-25655CF48A8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6303-D975-4C90-AEB9-F7572368960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69D8-AB8C-4745-A951-B2C417BF29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E3D-7FFE-46B1-A53E-C52EA55D4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895-7484-4E03-ACD7-A688FFC37D5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0FE-9029-4E3D-A868-5AAD8E78E6E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D5CE-A10F-4B64-B28D-9BB26473532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9B0-318F-4DB5-9A67-19B6CF0850C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CBC1-7BD9-4F44-AA48-AA893330F0A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61A7-1C15-413E-8608-0BA621FEA09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BD97-FA81-49EB-A283-4C36BF68B3C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B3D-9498-460E-8787-0675E392B5D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F60-84A7-493D-89F9-CC0DA806C90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1F0-78F1-443A-9DEE-0E779F6E137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CD8-A53D-4B7E-B636-0A67A87E223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3DA6-421C-41F9-A193-CE5049A677C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5C37-A181-44D4-BE58-B9BA175A039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381-AC94-482D-8147-39DAA9F1009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1" descr=""/>
          <p:cNvPicPr/>
          <p:nvPr/>
        </p:nvPicPr>
        <p:blipFill>
          <a:blip r:embed="rId1"/>
          <a:stretch/>
        </p:blipFill>
        <p:spPr>
          <a:xfrm>
            <a:off x="-11160" y="0"/>
            <a:ext cx="121856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2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2" descr=""/>
          <p:cNvPicPr/>
          <p:nvPr/>
        </p:nvPicPr>
        <p:blipFill>
          <a:blip r:embed="rId1"/>
          <a:stretch/>
        </p:blipFill>
        <p:spPr>
          <a:xfrm>
            <a:off x="1440" y="0"/>
            <a:ext cx="121906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0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11T07:15:1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