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08A-D61B-4955-BB9F-C4D5E72A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7F5-F80E-4B31-A992-F9F0BF4C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330-B3C2-4DC9-A2C1-C1193ABC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3EC-0915-4907-90AD-D1608294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59A-4843-4CD4-9F46-448F64D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E44-791B-4D94-BDD8-AC975D4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69A-6867-42B6-8583-272FE900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F1D-512C-46D9-9CEF-E2210CE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AF18-6612-4FE0-9611-1C5E96C7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4E2-7D18-48EE-96E6-A167912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F49-7A5E-45F1-871F-CA9EC87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413-4FBD-4481-AB98-AAFED1F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465-5BC1-4A1B-AAAB-EC2A8EF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28D-6EC8-41E2-A1B6-137EFC0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5827-A539-4978-9E91-A301667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C15-4766-413E-B6BB-8FB49A5A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B61-3D3B-47CB-A729-26884853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8740-3974-4DD9-9F3A-1EA74D3D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0E5F-A520-499A-B492-D417027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91F2-61F2-4B79-849B-10618AD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ABF3-5F17-48B4-8453-D922AE5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F288-97EF-4806-ABEB-2E00FCF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A62-3EC5-414D-A348-DA7813D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67B4-33CE-4C3E-9FBF-99C7E4BA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10E9-47A2-45F0-B82A-A1427F0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6AA2-BE04-4C60-ACE0-4BD7A89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8294-7B0F-433F-9DBC-3DBD3AF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5977-A5AB-4306-B135-C6A1C0F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1929-BFB6-4223-9880-4476D99B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43FA-C53B-40E9-B239-FEA4AAC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6C7-7608-4017-B257-60FEF981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B53-AB33-466A-91C3-B00FCFB4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6E1-1253-4C4D-8EF3-3B1F4349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4B7-CCD3-4DA6-A78E-CE0E90B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2C9-56BF-4471-9C8E-9C14AF9E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331-5FFE-41D9-912A-DB05302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9C6C-34F8-400E-A507-9CDA64ECE8B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7CDE-4876-49F1-BDC5-A63059CE44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309-B591-4737-AFE3-F439A1C75D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35FD-A28B-4B1F-8E4C-62E802495C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979640" y="2556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Easy Off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02:57Z</dcterms:created>
  <dc:creator>sg</dc:creator>
  <dc:description/>
  <dc:language>en-US</dc:language>
  <cp:lastModifiedBy>a</cp:lastModifiedBy>
  <dcterms:modified xsi:type="dcterms:W3CDTF">2015-01-12T08:03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