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34D2-E8EB-438C-BED6-8D4281EED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765E-EC9C-4F6D-B972-DE528D473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5693-D5F3-455F-A0B8-2537AD062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9FDD-E291-4F95-9541-762CCE353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427E8-86A1-4C66-9583-217102AE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64BC-480A-4376-8450-613EB49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D4528-E556-4B1F-8E48-DF10901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6540E-1209-41FF-AD18-27F9A714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71018-261E-4EF7-85A5-14B72B5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C014-173C-4188-B662-57658C0D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5DE01-62DE-4256-B8A1-EC3D5497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26BD-0FC1-45FD-BFA6-2BDFD7300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4438-82BB-4A21-9B8F-7E11E68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C92F-B6E7-4893-B6B7-AF538417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C2641-171D-427C-8EF8-97F7B312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143B-3660-41E5-AA79-40768BE4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8233B-85C7-4C5A-8586-B7306FB3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38F52-9138-4849-A631-F2E905A7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B72EA-7CAA-489E-84EC-E3FFFC4B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20746-6F67-4DD6-9EF7-4DC8B6E1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86E62-2D14-41F2-9F28-9D0B8383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13335-8401-4F65-94C3-63E61122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045D-95CC-4643-A057-B8784F906C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AC1F8-9640-4371-9E14-AE68E6D9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5C1EA-2A2B-4BBB-9338-46DE7763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897B4-9640-4934-91E6-DD69E9C3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DEC67-86DB-47A4-91FB-B50CD573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D924B-6CC2-408A-BFD7-628FF1E7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1FDB5-6B7B-4A37-87AA-02088F0B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648A9-4FC1-4143-BAEC-915B2454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7CFC2-9FF6-4BF2-86E5-DFA98A18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586FCB-1017-412A-925F-6A06E231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9238B-38B4-4FCE-91DF-19A1596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6120-553D-4BD5-BAB7-B171D44267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6B8D6-9D49-41E2-8D77-13DD5D80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C85A7-7138-42F8-87E7-F32472D2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902CF-E446-47EF-8A86-7637E98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26A9B-E020-454C-9C3B-44D14B65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571E7-69E9-43B7-B9B4-CAA09152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7402E-D85C-4586-90BB-AFB35757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E3D9E-0113-4029-8ACF-8A789A5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10531-D41F-411C-AAC0-5E7B074E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B3D83-6FC8-46A6-B018-B41EF750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C158-613E-4A8C-8660-4A39B9E83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09A7-5423-4B29-83D2-27424D7B1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C0DF-4290-4C15-8363-0552CB7AD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1B3A-BB7E-4C37-BAB5-1621AA4E0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4574-9D45-46F4-85D7-F9AB510E7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25973" t="0" r="0" b="0"/>
          <a:stretch/>
        </p:blipFill>
        <p:spPr>
          <a:xfrm>
            <a:off x="0" y="0"/>
            <a:ext cx="76104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rcRect l="0" t="0" r="88308" b="0"/>
          <a:stretch/>
        </p:blipFill>
        <p:spPr>
          <a:xfrm>
            <a:off x="0" y="0"/>
            <a:ext cx="890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900000" y="0"/>
            <a:ext cx="82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4894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857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36D9-55CF-4FE7-AF12-705159008D90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2895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3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69D-54B6-4850-9E1D-4EAE4A2A5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未标题1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F9EA-9973-4BE2-8555-0A7737EF6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60B-3AA8-4842-878E-2DDD75A51F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814-F24C-4238-B55B-2CBBBCF0E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863640" y="4076640"/>
            <a:ext cx="828036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9640" y="2852640"/>
            <a:ext cx="1433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MV Boli"/>
              </a:rPr>
              <a:t>s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119320" y="5427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MV Boli"/>
              </a:rPr>
              <a:t>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592440" y="4032360"/>
            <a:ext cx="184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MV Boli"/>
              </a:rPr>
              <a:t>P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356000" y="5468760"/>
            <a:ext cx="247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MV Boli"/>
              </a:rPr>
              <a:t>ower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364520" y="4032360"/>
            <a:ext cx="116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0000"/>
                </a:solidFill>
                <a:latin typeface="MV Boli"/>
              </a:rPr>
              <a:t>F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7880400" y="5500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MV Boli"/>
              </a:rPr>
              <a:t>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561000" y="5025960"/>
            <a:ext cx="60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V Boli"/>
              </a:rPr>
              <a:t>&amp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andari-Dreamcatcher(追梦人).mp3" descr="Bandari-Dreamcatcher(追梦人)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542 -0.014537 L 0.150069 -0.014537 E">
                                      <p:cBhvr>
                                        <p:cTn id="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7 0.349356 L -0.001737 0.016026 E">
                                      <p:cBhvr>
                                        <p:cTn id="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444 -0.00074 L -0.235069 -0.00074 E">
                                      <p:cBhvr>
                                        <p:cTn id="1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139 -0.013148 L 0.008264 -0.014537 E">
                                      <p:cBhvr>
                                        <p:cTn id="1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4931 -0.000648 L -0.014583 -0.000741 E">
                                      <p:cBhvr>
                                        <p:cTn id="1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未知"/>
          <p:cNvSpPr/>
          <p:nvPr/>
        </p:nvSpPr>
        <p:spPr>
          <a:xfrm rot="19620000">
            <a:off x="2340000" y="3317400"/>
            <a:ext cx="6518160" cy="248760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gradFill rotWithShape="0">
            <a:gsLst>
              <a:gs pos="0">
                <a:srgbClr val="e7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60360" y="1285920"/>
            <a:ext cx="626436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Simple 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 rot="6780000">
            <a:off x="-243000" y="1911240"/>
            <a:ext cx="8156520" cy="37656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969696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260360" y="4941720"/>
            <a:ext cx="540072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Free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 rot="5040000">
            <a:off x="407880" y="379080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gradFill rotWithShape="0">
            <a:gsLst>
              <a:gs pos="0">
                <a:srgbClr val="5b9bd5">
                  <a:alpha val="62352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260360" y="3162240"/>
            <a:ext cx="9070920" cy="91692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V Boli"/>
              </a:rPr>
              <a:t>Powerful</a:t>
            </a:r>
            <a:r>
              <a:rPr b="0" lang="zh-CN" sz="5400" spc="-1" strike="noStrike">
                <a:solidFill>
                  <a:srgbClr val="000000"/>
                </a:solidFill>
                <a:latin typeface="MV Boli"/>
              </a:rPr>
              <a:t> Action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60185 E">
                                      <p:cBhvr>
                                        <p:cTn id="7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3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a373e17c4a0a583f6039ed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16000" y="1773360"/>
            <a:ext cx="7993080" cy="5578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simple"/>
          <p:cNvPicPr/>
          <p:nvPr/>
        </p:nvPicPr>
        <p:blipFill>
          <a:blip r:embed="rId2"/>
          <a:stretch/>
        </p:blipFill>
        <p:spPr>
          <a:xfrm>
            <a:off x="0" y="128268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173240" y="12826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to make it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174680" y="246240"/>
            <a:ext cx="77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A simple goal doesn't mean an easy goa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173240" y="765000"/>
            <a:ext cx="75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Print"/>
              </a:rPr>
              <a:t>Don't make it complicated  ,  then 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yd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88" name="未知"/>
          <p:cNvSpPr/>
          <p:nvPr/>
        </p:nvSpPr>
        <p:spPr>
          <a:xfrm rot="19620000">
            <a:off x="2340000" y="3317400"/>
            <a:ext cx="6518160" cy="248760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gradFill rotWithShape="0">
            <a:gsLst>
              <a:gs pos="0">
                <a:srgbClr val="e7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60360" y="1285920"/>
            <a:ext cx="626436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Simple 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 rot="6780000">
            <a:off x="-243000" y="1911240"/>
            <a:ext cx="8156520" cy="37656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969696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260360" y="4941720"/>
            <a:ext cx="5400720" cy="100836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MV Boli"/>
              </a:rPr>
              <a:t>Free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 rot="5040000">
            <a:off x="407880" y="379080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gradFill rotWithShape="0">
            <a:gsLst>
              <a:gs pos="0">
                <a:srgbClr val="5b9bd5">
                  <a:alpha val="62352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1260360" y="3162240"/>
            <a:ext cx="9070920" cy="916920"/>
          </a:xfrm>
          <a:prstGeom prst="rect">
            <a:avLst/>
          </a:prstGeom>
          <a:gradFill rotWithShape="0">
            <a:gsLst>
              <a:gs pos="0">
                <a:srgbClr val="cbc3c6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V Boli"/>
              </a:rPr>
              <a:t>Powerful</a:t>
            </a:r>
            <a:r>
              <a:rPr b="0" lang="zh-CN" sz="5400" spc="-1" strike="noStrike">
                <a:solidFill>
                  <a:srgbClr val="000000"/>
                </a:solidFill>
                <a:latin typeface="MV Boli"/>
              </a:rPr>
              <a:t> Action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-30240" y="27000"/>
            <a:ext cx="9137880" cy="68515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3"/>
          <p:cNvGrpSpPr/>
          <p:nvPr/>
        </p:nvGrpSpPr>
        <p:grpSpPr>
          <a:xfrm>
            <a:off x="2124000" y="549360"/>
            <a:ext cx="6982920" cy="1559520"/>
            <a:chOff x="2124000" y="549360"/>
            <a:chExt cx="6982920" cy="1559520"/>
          </a:xfrm>
        </p:grpSpPr>
        <p:grpSp>
          <p:nvGrpSpPr>
            <p:cNvPr id="196" name="Group 4"/>
            <p:cNvGrpSpPr/>
            <p:nvPr/>
          </p:nvGrpSpPr>
          <p:grpSpPr>
            <a:xfrm>
              <a:off x="2124000" y="549360"/>
              <a:ext cx="6982920" cy="862920"/>
              <a:chOff x="2124000" y="549360"/>
              <a:chExt cx="6982920" cy="862920"/>
            </a:xfrm>
          </p:grpSpPr>
          <p:sp>
            <p:nvSpPr>
              <p:cNvPr id="197" name="AutoShape 5"/>
              <p:cNvSpPr/>
              <p:nvPr/>
            </p:nvSpPr>
            <p:spPr>
              <a:xfrm>
                <a:off x="2124000" y="549360"/>
                <a:ext cx="6982920" cy="8629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>
                <a:off x="2165040" y="603360"/>
                <a:ext cx="6882120" cy="7329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7"/>
            <p:cNvSpPr/>
            <p:nvPr/>
          </p:nvSpPr>
          <p:spPr>
            <a:xfrm>
              <a:off x="2544840" y="674280"/>
              <a:ext cx="6269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Haettenschweiler"/>
                </a:rPr>
                <a:t>Powerful</a:t>
              </a:r>
              <a:r>
                <a:rPr b="0" lang="zh-CN" sz="4400" spc="-1" strike="noStrike">
                  <a:solidFill>
                    <a:srgbClr val="000000"/>
                  </a:solidFill>
                  <a:latin typeface="Haettenschweiler"/>
                  <a:ea typeface="微软雅黑"/>
                </a:rPr>
                <a:t>   Action   Pla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8"/>
          <p:cNvSpPr/>
          <p:nvPr/>
        </p:nvSpPr>
        <p:spPr>
          <a:xfrm>
            <a:off x="1116000" y="1817640"/>
            <a:ext cx="67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Segoe Print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Segoe Print"/>
              </a:rPr>
              <a:t>Powerful</a:t>
            </a:r>
            <a:r>
              <a:rPr b="0" lang="zh-CN" sz="3200" spc="-1" strike="noStrike">
                <a:solidFill>
                  <a:srgbClr val="000000"/>
                </a:solidFill>
                <a:latin typeface="Segoe Print"/>
              </a:rPr>
              <a:t> Action Plan mea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 rot="18840000">
            <a:off x="1863720" y="2374200"/>
            <a:ext cx="10335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 les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 rot="19200000">
            <a:off x="6026400" y="3003120"/>
            <a:ext cx="32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t more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475080" y="5229360"/>
            <a:ext cx="31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 rot="18780000">
            <a:off x="1308600" y="2790000"/>
            <a:ext cx="103356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righ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3"/>
          <p:cNvGrpSpPr/>
          <p:nvPr/>
        </p:nvGrpSpPr>
        <p:grpSpPr>
          <a:xfrm>
            <a:off x="2833560" y="4134600"/>
            <a:ext cx="1487880" cy="1487880"/>
            <a:chOff x="2833560" y="4134600"/>
            <a:chExt cx="1487880" cy="1487880"/>
          </a:xfrm>
        </p:grpSpPr>
        <p:sp>
          <p:nvSpPr>
            <p:cNvPr id="206" name="AutoShape 14"/>
            <p:cNvSpPr/>
            <p:nvPr/>
          </p:nvSpPr>
          <p:spPr>
            <a:xfrm rot="2700000">
              <a:off x="2799360" y="4604400"/>
              <a:ext cx="1555920" cy="548280"/>
            </a:xfrm>
            <a:custGeom>
              <a:avLst/>
              <a:gdLst>
                <a:gd name="textAreaLeft" fmla="*/ 0 w 1555920"/>
                <a:gd name="textAreaRight" fmla="*/ 1556280 w 15559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5" y="0"/>
                  </a:lnTo>
                  <a:lnTo>
                    <a:pt x="21600" y="10800"/>
                  </a:lnTo>
                  <a:lnTo>
                    <a:pt x="17065" y="21600"/>
                  </a:lnTo>
                  <a:lnTo>
                    <a:pt x="0" y="21600"/>
                  </a:lnTo>
                  <a:lnTo>
                    <a:pt x="4535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3346920" y="4509720"/>
              <a:ext cx="7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5015880" y="4213080"/>
            <a:ext cx="1588680" cy="1341360"/>
            <a:chOff x="5015880" y="4213080"/>
            <a:chExt cx="1588680" cy="1341360"/>
          </a:xfrm>
        </p:grpSpPr>
        <p:sp>
          <p:nvSpPr>
            <p:cNvPr id="209" name="AutoShape 17"/>
            <p:cNvSpPr/>
            <p:nvPr/>
          </p:nvSpPr>
          <p:spPr>
            <a:xfrm rot="19500000">
              <a:off x="5032440" y="4609440"/>
              <a:ext cx="1555560" cy="54828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5" y="0"/>
                  </a:lnTo>
                  <a:lnTo>
                    <a:pt x="21600" y="10800"/>
                  </a:lnTo>
                  <a:lnTo>
                    <a:pt x="17065" y="21600"/>
                  </a:lnTo>
                  <a:lnTo>
                    <a:pt x="0" y="21600"/>
                  </a:lnTo>
                  <a:lnTo>
                    <a:pt x="4535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5437080" y="4578480"/>
              <a:ext cx="97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19" descr="sy_20111116121921297048"/>
          <p:cNvPicPr/>
          <p:nvPr/>
        </p:nvPicPr>
        <p:blipFill>
          <a:blip r:embed="rId4"/>
          <a:stretch/>
        </p:blipFill>
        <p:spPr>
          <a:xfrm>
            <a:off x="3346560" y="2397240"/>
            <a:ext cx="2520720" cy="20653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9" nodeType="after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任意多边形 227"/>
          <p:cNvSpPr/>
          <p:nvPr/>
        </p:nvSpPr>
        <p:spPr>
          <a:xfrm>
            <a:off x="5051520" y="5800680"/>
            <a:ext cx="2047680" cy="42228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047164" h="423080">
                <a:moveTo>
                  <a:pt x="0" y="0"/>
                </a:moveTo>
                <a:lnTo>
                  <a:pt x="1637731" y="0"/>
                </a:lnTo>
                <a:lnTo>
                  <a:pt x="2047164" y="42308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228"/>
          <p:cNvSpPr/>
          <p:nvPr/>
        </p:nvSpPr>
        <p:spPr>
          <a:xfrm>
            <a:off x="6969240" y="6107040"/>
            <a:ext cx="803160" cy="750960"/>
          </a:xfrm>
          <a:custGeom>
            <a:avLst/>
            <a:gdLst>
              <a:gd name="textAreaLeft" fmla="*/ 0 w 803160"/>
              <a:gd name="textAreaRight" fmla="*/ 803520 w 80316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577970" h="534838">
                <a:moveTo>
                  <a:pt x="0" y="0"/>
                </a:moveTo>
                <a:lnTo>
                  <a:pt x="577970" y="534838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229"/>
          <p:cNvSpPr/>
          <p:nvPr/>
        </p:nvSpPr>
        <p:spPr>
          <a:xfrm>
            <a:off x="4871880" y="4545000"/>
            <a:ext cx="2565720" cy="1992240"/>
          </a:xfrm>
          <a:custGeom>
            <a:avLst/>
            <a:gdLst>
              <a:gd name="textAreaLeft" fmla="*/ 0 w 2565720"/>
              <a:gd name="textAreaRight" fmla="*/ 2566080 w 256572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2565779" h="1992574">
                <a:moveTo>
                  <a:pt x="95534" y="1746914"/>
                </a:moveTo>
                <a:lnTo>
                  <a:pt x="313898" y="968992"/>
                </a:lnTo>
                <a:lnTo>
                  <a:pt x="532262" y="177421"/>
                </a:lnTo>
                <a:lnTo>
                  <a:pt x="2538483" y="0"/>
                </a:lnTo>
                <a:lnTo>
                  <a:pt x="2565779" y="54592"/>
                </a:lnTo>
                <a:lnTo>
                  <a:pt x="2047164" y="1746914"/>
                </a:lnTo>
                <a:lnTo>
                  <a:pt x="0" y="1992574"/>
                </a:lnTo>
                <a:lnTo>
                  <a:pt x="95534" y="174691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16" name="任意多边形 231"/>
            <p:cNvSpPr/>
            <p:nvPr/>
          </p:nvSpPr>
          <p:spPr>
            <a:xfrm>
              <a:off x="189000" y="2975040"/>
              <a:ext cx="1354320" cy="25938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593800"/>
                <a:gd name="textAreaBottom" fmla="*/ 2594160 h 2593800"/>
              </a:gdLst>
              <a:ahLst/>
              <a:rect l="textAreaLeft" t="textAreaTop" r="textAreaRight" b="textAreaBottom"/>
              <a:pathLst>
                <a:path w="1353403" h="2593075">
                  <a:moveTo>
                    <a:pt x="15922" y="2593075"/>
                  </a:moveTo>
                  <a:cubicBezTo>
                    <a:pt x="17059" y="2521424"/>
                    <a:pt x="18197" y="2449773"/>
                    <a:pt x="15922" y="2388358"/>
                  </a:cubicBezTo>
                  <a:cubicBezTo>
                    <a:pt x="13648" y="2326943"/>
                    <a:pt x="0" y="2279176"/>
                    <a:pt x="2275" y="2224585"/>
                  </a:cubicBezTo>
                  <a:cubicBezTo>
                    <a:pt x="4550" y="2169994"/>
                    <a:pt x="9098" y="2147248"/>
                    <a:pt x="29570" y="2060812"/>
                  </a:cubicBezTo>
                  <a:cubicBezTo>
                    <a:pt x="50042" y="1974376"/>
                    <a:pt x="97810" y="1801504"/>
                    <a:pt x="125105" y="1705970"/>
                  </a:cubicBezTo>
                  <a:cubicBezTo>
                    <a:pt x="152400" y="1610436"/>
                    <a:pt x="188794" y="1546746"/>
                    <a:pt x="193343" y="1487606"/>
                  </a:cubicBezTo>
                  <a:cubicBezTo>
                    <a:pt x="197892" y="1428466"/>
                    <a:pt x="145576" y="1382973"/>
                    <a:pt x="152400" y="1351128"/>
                  </a:cubicBezTo>
                  <a:cubicBezTo>
                    <a:pt x="159224" y="1319283"/>
                    <a:pt x="234287" y="1344304"/>
                    <a:pt x="234287" y="1296537"/>
                  </a:cubicBezTo>
                  <a:cubicBezTo>
                    <a:pt x="234287" y="1248770"/>
                    <a:pt x="159224" y="1144137"/>
                    <a:pt x="152400" y="1064525"/>
                  </a:cubicBezTo>
                  <a:cubicBezTo>
                    <a:pt x="145576" y="984913"/>
                    <a:pt x="154674" y="887105"/>
                    <a:pt x="193343" y="818866"/>
                  </a:cubicBezTo>
                  <a:cubicBezTo>
                    <a:pt x="232012" y="750627"/>
                    <a:pt x="272955" y="723331"/>
                    <a:pt x="384412" y="655092"/>
                  </a:cubicBezTo>
                  <a:cubicBezTo>
                    <a:pt x="495869" y="586853"/>
                    <a:pt x="766550" y="466299"/>
                    <a:pt x="862084" y="409433"/>
                  </a:cubicBezTo>
                  <a:cubicBezTo>
                    <a:pt x="957618" y="352567"/>
                    <a:pt x="916675" y="341193"/>
                    <a:pt x="957618" y="313898"/>
                  </a:cubicBezTo>
                  <a:cubicBezTo>
                    <a:pt x="998561" y="286603"/>
                    <a:pt x="1064525" y="272955"/>
                    <a:pt x="1107743" y="245660"/>
                  </a:cubicBezTo>
                  <a:cubicBezTo>
                    <a:pt x="1150961" y="218365"/>
                    <a:pt x="1189630" y="184244"/>
                    <a:pt x="1216925" y="150125"/>
                  </a:cubicBezTo>
                  <a:cubicBezTo>
                    <a:pt x="1244220" y="116006"/>
                    <a:pt x="1248770" y="65964"/>
                    <a:pt x="1271516" y="40943"/>
                  </a:cubicBezTo>
                  <a:cubicBezTo>
                    <a:pt x="1294262" y="15922"/>
                    <a:pt x="1323832" y="7961"/>
                    <a:pt x="135340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32"/>
            <p:cNvSpPr/>
            <p:nvPr/>
          </p:nvSpPr>
          <p:spPr>
            <a:xfrm>
              <a:off x="1260720" y="1440000"/>
              <a:ext cx="482400" cy="15364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483079" h="1535502">
                  <a:moveTo>
                    <a:pt x="284671" y="1535502"/>
                  </a:moveTo>
                  <a:cubicBezTo>
                    <a:pt x="286827" y="1506747"/>
                    <a:pt x="288984" y="1477993"/>
                    <a:pt x="284671" y="1440612"/>
                  </a:cubicBezTo>
                  <a:cubicBezTo>
                    <a:pt x="280358" y="1403231"/>
                    <a:pt x="258792" y="1311215"/>
                    <a:pt x="258792" y="1311215"/>
                  </a:cubicBezTo>
                  <a:cubicBezTo>
                    <a:pt x="253041" y="1282460"/>
                    <a:pt x="260230" y="1266645"/>
                    <a:pt x="250166" y="1268083"/>
                  </a:cubicBezTo>
                  <a:cubicBezTo>
                    <a:pt x="240102" y="1269521"/>
                    <a:pt x="221411" y="1315529"/>
                    <a:pt x="198407" y="1319842"/>
                  </a:cubicBezTo>
                  <a:cubicBezTo>
                    <a:pt x="175403" y="1324155"/>
                    <a:pt x="135147" y="1315529"/>
                    <a:pt x="112143" y="1293963"/>
                  </a:cubicBezTo>
                  <a:cubicBezTo>
                    <a:pt x="89139" y="1272397"/>
                    <a:pt x="76200" y="1237891"/>
                    <a:pt x="60385" y="1190446"/>
                  </a:cubicBezTo>
                  <a:cubicBezTo>
                    <a:pt x="44570" y="1143001"/>
                    <a:pt x="27316" y="1062487"/>
                    <a:pt x="17252" y="1009291"/>
                  </a:cubicBezTo>
                  <a:cubicBezTo>
                    <a:pt x="7188" y="956095"/>
                    <a:pt x="0" y="895709"/>
                    <a:pt x="0" y="871268"/>
                  </a:cubicBezTo>
                  <a:cubicBezTo>
                    <a:pt x="0" y="846827"/>
                    <a:pt x="12939" y="884208"/>
                    <a:pt x="17252" y="862642"/>
                  </a:cubicBezTo>
                  <a:cubicBezTo>
                    <a:pt x="21565" y="841076"/>
                    <a:pt x="23004" y="800819"/>
                    <a:pt x="25879" y="741872"/>
                  </a:cubicBezTo>
                  <a:cubicBezTo>
                    <a:pt x="28754" y="682925"/>
                    <a:pt x="23003" y="582284"/>
                    <a:pt x="34505" y="508959"/>
                  </a:cubicBezTo>
                  <a:cubicBezTo>
                    <a:pt x="46007" y="435634"/>
                    <a:pt x="54633" y="370936"/>
                    <a:pt x="94890" y="301925"/>
                  </a:cubicBezTo>
                  <a:cubicBezTo>
                    <a:pt x="135147" y="232914"/>
                    <a:pt x="211347" y="145212"/>
                    <a:pt x="276045" y="94891"/>
                  </a:cubicBezTo>
                  <a:cubicBezTo>
                    <a:pt x="340743" y="44570"/>
                    <a:pt x="411911" y="22285"/>
                    <a:pt x="48307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8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19" name="任意多边形 234"/>
            <p:cNvSpPr/>
            <p:nvPr/>
          </p:nvSpPr>
          <p:spPr>
            <a:xfrm>
              <a:off x="1716120" y="1446120"/>
              <a:ext cx="3097440" cy="4283280"/>
            </a:xfrm>
            <a:custGeom>
              <a:avLst/>
              <a:gdLst>
                <a:gd name="textAreaLeft" fmla="*/ 0 w 3097440"/>
                <a:gd name="textAreaRight" fmla="*/ 3097800 w 309744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096883" h="4281578">
                  <a:moveTo>
                    <a:pt x="0" y="2876"/>
                  </a:moveTo>
                  <a:cubicBezTo>
                    <a:pt x="49602" y="1438"/>
                    <a:pt x="99204" y="0"/>
                    <a:pt x="146649" y="2876"/>
                  </a:cubicBezTo>
                  <a:cubicBezTo>
                    <a:pt x="194094" y="5752"/>
                    <a:pt x="253041" y="10065"/>
                    <a:pt x="284671" y="20129"/>
                  </a:cubicBezTo>
                  <a:cubicBezTo>
                    <a:pt x="316301" y="30193"/>
                    <a:pt x="306238" y="51759"/>
                    <a:pt x="336430" y="63261"/>
                  </a:cubicBezTo>
                  <a:cubicBezTo>
                    <a:pt x="366622" y="74763"/>
                    <a:pt x="422694" y="67574"/>
                    <a:pt x="465826" y="89140"/>
                  </a:cubicBezTo>
                  <a:cubicBezTo>
                    <a:pt x="508958" y="110706"/>
                    <a:pt x="562154" y="153838"/>
                    <a:pt x="595222" y="192657"/>
                  </a:cubicBezTo>
                  <a:cubicBezTo>
                    <a:pt x="628290" y="231476"/>
                    <a:pt x="639793" y="277483"/>
                    <a:pt x="664234" y="322053"/>
                  </a:cubicBezTo>
                  <a:cubicBezTo>
                    <a:pt x="688676" y="366623"/>
                    <a:pt x="720305" y="399691"/>
                    <a:pt x="741871" y="460076"/>
                  </a:cubicBezTo>
                  <a:cubicBezTo>
                    <a:pt x="763437" y="520461"/>
                    <a:pt x="785003" y="634042"/>
                    <a:pt x="793630" y="684363"/>
                  </a:cubicBezTo>
                  <a:cubicBezTo>
                    <a:pt x="802257" y="734684"/>
                    <a:pt x="789317" y="726057"/>
                    <a:pt x="793630" y="762000"/>
                  </a:cubicBezTo>
                  <a:cubicBezTo>
                    <a:pt x="797943" y="797943"/>
                    <a:pt x="816634" y="854015"/>
                    <a:pt x="819509" y="900023"/>
                  </a:cubicBezTo>
                  <a:cubicBezTo>
                    <a:pt x="822384" y="946031"/>
                    <a:pt x="813758" y="999227"/>
                    <a:pt x="810883" y="1038046"/>
                  </a:cubicBezTo>
                  <a:cubicBezTo>
                    <a:pt x="808008" y="1076865"/>
                    <a:pt x="813758" y="1112808"/>
                    <a:pt x="802256" y="1132936"/>
                  </a:cubicBezTo>
                  <a:cubicBezTo>
                    <a:pt x="790754" y="1153064"/>
                    <a:pt x="751935" y="1153064"/>
                    <a:pt x="741871" y="1158815"/>
                  </a:cubicBezTo>
                  <a:cubicBezTo>
                    <a:pt x="731807" y="1164566"/>
                    <a:pt x="749060" y="1135812"/>
                    <a:pt x="741871" y="1167442"/>
                  </a:cubicBezTo>
                  <a:cubicBezTo>
                    <a:pt x="734682" y="1199072"/>
                    <a:pt x="710241" y="1305464"/>
                    <a:pt x="698739" y="1348596"/>
                  </a:cubicBezTo>
                  <a:cubicBezTo>
                    <a:pt x="687237" y="1391728"/>
                    <a:pt x="677173" y="1383102"/>
                    <a:pt x="672860" y="1426234"/>
                  </a:cubicBezTo>
                  <a:cubicBezTo>
                    <a:pt x="668547" y="1469366"/>
                    <a:pt x="674298" y="1567132"/>
                    <a:pt x="672860" y="1607389"/>
                  </a:cubicBezTo>
                  <a:cubicBezTo>
                    <a:pt x="671422" y="1647646"/>
                    <a:pt x="658483" y="1647646"/>
                    <a:pt x="664234" y="1667774"/>
                  </a:cubicBezTo>
                  <a:cubicBezTo>
                    <a:pt x="669985" y="1687902"/>
                    <a:pt x="671423" y="1713782"/>
                    <a:pt x="707366" y="1728159"/>
                  </a:cubicBezTo>
                  <a:cubicBezTo>
                    <a:pt x="743309" y="1742536"/>
                    <a:pt x="818072" y="1743974"/>
                    <a:pt x="879894" y="1754038"/>
                  </a:cubicBezTo>
                  <a:cubicBezTo>
                    <a:pt x="941716" y="1764102"/>
                    <a:pt x="1009290" y="1769854"/>
                    <a:pt x="1078301" y="1788544"/>
                  </a:cubicBezTo>
                  <a:cubicBezTo>
                    <a:pt x="1147312" y="1807234"/>
                    <a:pt x="1293962" y="1866181"/>
                    <a:pt x="1293962" y="1866181"/>
                  </a:cubicBezTo>
                  <a:cubicBezTo>
                    <a:pt x="1364411" y="1892060"/>
                    <a:pt x="1446362" y="1909313"/>
                    <a:pt x="1500996" y="1943819"/>
                  </a:cubicBezTo>
                  <a:cubicBezTo>
                    <a:pt x="1555630" y="1978325"/>
                    <a:pt x="1598762" y="2031521"/>
                    <a:pt x="1621766" y="2073215"/>
                  </a:cubicBezTo>
                  <a:cubicBezTo>
                    <a:pt x="1644770" y="2114909"/>
                    <a:pt x="1630392" y="2159479"/>
                    <a:pt x="1639018" y="2193985"/>
                  </a:cubicBezTo>
                  <a:cubicBezTo>
                    <a:pt x="1647644" y="2228491"/>
                    <a:pt x="1667773" y="2248619"/>
                    <a:pt x="1673524" y="2280249"/>
                  </a:cubicBezTo>
                  <a:cubicBezTo>
                    <a:pt x="1679275" y="2311879"/>
                    <a:pt x="1669211" y="2360762"/>
                    <a:pt x="1673524" y="2383766"/>
                  </a:cubicBezTo>
                  <a:cubicBezTo>
                    <a:pt x="1677837" y="2406770"/>
                    <a:pt x="1693652" y="2392393"/>
                    <a:pt x="1699403" y="2418272"/>
                  </a:cubicBezTo>
                  <a:cubicBezTo>
                    <a:pt x="1705154" y="2444151"/>
                    <a:pt x="1712343" y="2503099"/>
                    <a:pt x="1708030" y="2539042"/>
                  </a:cubicBezTo>
                  <a:cubicBezTo>
                    <a:pt x="1703717" y="2574985"/>
                    <a:pt x="1673524" y="2609491"/>
                    <a:pt x="1673524" y="2633932"/>
                  </a:cubicBezTo>
                  <a:cubicBezTo>
                    <a:pt x="1673524" y="2658373"/>
                    <a:pt x="1696528" y="2661250"/>
                    <a:pt x="1708030" y="2685691"/>
                  </a:cubicBezTo>
                  <a:cubicBezTo>
                    <a:pt x="1719532" y="2710133"/>
                    <a:pt x="1738222" y="2757577"/>
                    <a:pt x="1742535" y="2780581"/>
                  </a:cubicBezTo>
                  <a:cubicBezTo>
                    <a:pt x="1746848" y="2803585"/>
                    <a:pt x="1726720" y="2806460"/>
                    <a:pt x="1733909" y="2823713"/>
                  </a:cubicBezTo>
                  <a:cubicBezTo>
                    <a:pt x="1741098" y="2840966"/>
                    <a:pt x="1772728" y="2853906"/>
                    <a:pt x="1785668" y="2884098"/>
                  </a:cubicBezTo>
                  <a:cubicBezTo>
                    <a:pt x="1798608" y="2914290"/>
                    <a:pt x="1810109" y="2955985"/>
                    <a:pt x="1811547" y="3004868"/>
                  </a:cubicBezTo>
                  <a:cubicBezTo>
                    <a:pt x="1812985" y="3053751"/>
                    <a:pt x="1789981" y="3140015"/>
                    <a:pt x="1794294" y="3177396"/>
                  </a:cubicBezTo>
                  <a:cubicBezTo>
                    <a:pt x="1798607" y="3214777"/>
                    <a:pt x="1814422" y="3209027"/>
                    <a:pt x="1837426" y="3229155"/>
                  </a:cubicBezTo>
                  <a:cubicBezTo>
                    <a:pt x="1860430" y="3249283"/>
                    <a:pt x="1892060" y="3253596"/>
                    <a:pt x="1932317" y="3298166"/>
                  </a:cubicBezTo>
                  <a:cubicBezTo>
                    <a:pt x="1972574" y="3342736"/>
                    <a:pt x="2045898" y="3450566"/>
                    <a:pt x="2078966" y="3496574"/>
                  </a:cubicBezTo>
                  <a:cubicBezTo>
                    <a:pt x="2112034" y="3542582"/>
                    <a:pt x="2120660" y="3548333"/>
                    <a:pt x="2130724" y="3574212"/>
                  </a:cubicBezTo>
                  <a:cubicBezTo>
                    <a:pt x="2140788" y="3600091"/>
                    <a:pt x="2119223" y="3627408"/>
                    <a:pt x="2139351" y="3651849"/>
                  </a:cubicBezTo>
                  <a:cubicBezTo>
                    <a:pt x="2159479" y="3676290"/>
                    <a:pt x="2216988" y="3700733"/>
                    <a:pt x="2251494" y="3720861"/>
                  </a:cubicBezTo>
                  <a:cubicBezTo>
                    <a:pt x="2286000" y="3740989"/>
                    <a:pt x="2293189" y="3738113"/>
                    <a:pt x="2346385" y="3772619"/>
                  </a:cubicBezTo>
                  <a:cubicBezTo>
                    <a:pt x="2399581" y="3807125"/>
                    <a:pt x="2520350" y="3884763"/>
                    <a:pt x="2570671" y="3927895"/>
                  </a:cubicBezTo>
                  <a:cubicBezTo>
                    <a:pt x="2620992" y="3971027"/>
                    <a:pt x="2618117" y="4008408"/>
                    <a:pt x="2648309" y="4031412"/>
                  </a:cubicBezTo>
                  <a:cubicBezTo>
                    <a:pt x="2678502" y="4054416"/>
                    <a:pt x="2677064" y="4024223"/>
                    <a:pt x="2751826" y="4065917"/>
                  </a:cubicBezTo>
                  <a:cubicBezTo>
                    <a:pt x="2826588" y="4107611"/>
                    <a:pt x="2961735" y="4194594"/>
                    <a:pt x="3096883" y="428157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35"/>
            <p:cNvSpPr/>
            <p:nvPr/>
          </p:nvSpPr>
          <p:spPr>
            <a:xfrm>
              <a:off x="4788000" y="5729400"/>
              <a:ext cx="155520" cy="68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5276" h="69011">
                  <a:moveTo>
                    <a:pt x="0" y="0"/>
                  </a:moveTo>
                  <a:lnTo>
                    <a:pt x="155276" y="690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236"/>
          <p:cNvSpPr/>
          <p:nvPr/>
        </p:nvSpPr>
        <p:spPr>
          <a:xfrm>
            <a:off x="-20520" y="5797440"/>
            <a:ext cx="339480" cy="360"/>
          </a:xfrm>
          <a:custGeom>
            <a:avLst/>
            <a:gdLst/>
            <a:ahLst/>
            <a:rect l="l" t="t" r="r" b="b"/>
            <a:pathLst>
              <a:path w="353683" h="0">
                <a:moveTo>
                  <a:pt x="0" y="0"/>
                </a:moveTo>
                <a:lnTo>
                  <a:pt x="353683" y="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237"/>
          <p:cNvSpPr/>
          <p:nvPr/>
        </p:nvSpPr>
        <p:spPr>
          <a:xfrm>
            <a:off x="3929040" y="6194520"/>
            <a:ext cx="939960" cy="430200"/>
          </a:xfrm>
          <a:custGeom>
            <a:avLst/>
            <a:gdLst>
              <a:gd name="textAreaLeft" fmla="*/ 0 w 939960"/>
              <a:gd name="textAreaRight" fmla="*/ 940320 w 9399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940279" h="431321">
                <a:moveTo>
                  <a:pt x="0" y="0"/>
                </a:moveTo>
                <a:lnTo>
                  <a:pt x="8626" y="146649"/>
                </a:lnTo>
                <a:lnTo>
                  <a:pt x="103517" y="189781"/>
                </a:lnTo>
                <a:lnTo>
                  <a:pt x="940279" y="43132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238"/>
          <p:cNvSpPr/>
          <p:nvPr/>
        </p:nvSpPr>
        <p:spPr>
          <a:xfrm>
            <a:off x="3929040" y="6210360"/>
            <a:ext cx="922320" cy="276120"/>
          </a:xfrm>
          <a:custGeom>
            <a:avLst/>
            <a:gdLst>
              <a:gd name="textAreaLeft" fmla="*/ 0 w 922320"/>
              <a:gd name="textAreaRight" fmla="*/ 922680 w 9223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923026" h="276045">
                <a:moveTo>
                  <a:pt x="0" y="0"/>
                </a:moveTo>
                <a:lnTo>
                  <a:pt x="923026" y="276045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239"/>
          <p:cNvSpPr/>
          <p:nvPr/>
        </p:nvSpPr>
        <p:spPr>
          <a:xfrm>
            <a:off x="3936960" y="6039000"/>
            <a:ext cx="1096920" cy="1713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095555" h="172528">
                <a:moveTo>
                  <a:pt x="0" y="172528"/>
                </a:moveTo>
                <a:cubicBezTo>
                  <a:pt x="2875" y="160307"/>
                  <a:pt x="5751" y="148087"/>
                  <a:pt x="112144" y="129396"/>
                </a:cubicBezTo>
                <a:cubicBezTo>
                  <a:pt x="218537" y="110705"/>
                  <a:pt x="638355" y="60384"/>
                  <a:pt x="638355" y="60384"/>
                </a:cubicBezTo>
                <a:lnTo>
                  <a:pt x="1095555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40"/>
          <p:cNvSpPr/>
          <p:nvPr/>
        </p:nvSpPr>
        <p:spPr>
          <a:xfrm>
            <a:off x="4851360" y="6486480"/>
            <a:ext cx="360" cy="155520"/>
          </a:xfrm>
          <a:custGeom>
            <a:avLst/>
            <a:gdLst/>
            <a:ahLst/>
            <a:rect l="l" t="t" r="r" b="b"/>
            <a:pathLst>
              <a:path w="0" h="155276">
                <a:moveTo>
                  <a:pt x="0" y="0"/>
                </a:moveTo>
                <a:lnTo>
                  <a:pt x="0" y="155276"/>
                </a:ln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41"/>
          <p:cNvSpPr/>
          <p:nvPr/>
        </p:nvSpPr>
        <p:spPr>
          <a:xfrm>
            <a:off x="4843440" y="4735440"/>
            <a:ext cx="569880" cy="1751040"/>
          </a:xfrm>
          <a:custGeom>
            <a:avLst/>
            <a:gdLst>
              <a:gd name="textAreaLeft" fmla="*/ 0 w 569880"/>
              <a:gd name="textAreaRight" fmla="*/ 570240 w 56988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569343" h="1751162">
                <a:moveTo>
                  <a:pt x="0" y="1751162"/>
                </a:moveTo>
                <a:cubicBezTo>
                  <a:pt x="39537" y="1745411"/>
                  <a:pt x="79075" y="1739660"/>
                  <a:pt x="94890" y="1733909"/>
                </a:cubicBezTo>
                <a:cubicBezTo>
                  <a:pt x="110705" y="1728158"/>
                  <a:pt x="87701" y="1735346"/>
                  <a:pt x="94890" y="1716656"/>
                </a:cubicBezTo>
                <a:cubicBezTo>
                  <a:pt x="102079" y="1697966"/>
                  <a:pt x="130833" y="1651958"/>
                  <a:pt x="138022" y="1621766"/>
                </a:cubicBezTo>
                <a:cubicBezTo>
                  <a:pt x="145211" y="1591574"/>
                  <a:pt x="126520" y="1591574"/>
                  <a:pt x="138022" y="1535502"/>
                </a:cubicBezTo>
                <a:cubicBezTo>
                  <a:pt x="149524" y="1479430"/>
                  <a:pt x="150962" y="1492370"/>
                  <a:pt x="207034" y="1285336"/>
                </a:cubicBezTo>
                <a:cubicBezTo>
                  <a:pt x="263106" y="1078302"/>
                  <a:pt x="414068" y="507521"/>
                  <a:pt x="474453" y="293298"/>
                </a:cubicBezTo>
                <a:cubicBezTo>
                  <a:pt x="534838" y="79075"/>
                  <a:pt x="552090" y="39537"/>
                  <a:pt x="569343" y="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组合 64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4937040" y="4749840"/>
            <a:ext cx="561960" cy="1736640"/>
          </a:xfrm>
          <a:prstGeom prst="rect">
            <a:avLst/>
          </a:prstGeom>
          <a:ln w="0">
            <a:noFill/>
          </a:ln>
        </p:spPr>
      </p:pic>
      <p:sp>
        <p:nvSpPr>
          <p:cNvPr id="228" name="任意多边形 245"/>
          <p:cNvSpPr/>
          <p:nvPr/>
        </p:nvSpPr>
        <p:spPr>
          <a:xfrm>
            <a:off x="4986360" y="6208560"/>
            <a:ext cx="1952640" cy="257400"/>
          </a:xfrm>
          <a:custGeom>
            <a:avLst/>
            <a:gdLst>
              <a:gd name="textAreaLeft" fmla="*/ 0 w 1952640"/>
              <a:gd name="textAreaRight" fmla="*/ 1953000 w 195264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952216" h="258051">
                <a:moveTo>
                  <a:pt x="0" y="258051"/>
                </a:moveTo>
                <a:lnTo>
                  <a:pt x="230003" y="224393"/>
                </a:lnTo>
                <a:lnTo>
                  <a:pt x="1638066" y="39269"/>
                </a:lnTo>
                <a:lnTo>
                  <a:pt x="1952216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246"/>
          <p:cNvSpPr/>
          <p:nvPr/>
        </p:nvSpPr>
        <p:spPr>
          <a:xfrm>
            <a:off x="6921360" y="4616280"/>
            <a:ext cx="484200" cy="1605240"/>
          </a:xfrm>
          <a:custGeom>
            <a:avLst/>
            <a:gdLst>
              <a:gd name="textAreaLeft" fmla="*/ 0 w 484200"/>
              <a:gd name="textAreaRight" fmla="*/ 484560 w 4842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484314" h="1604407">
                <a:moveTo>
                  <a:pt x="471224" y="0"/>
                </a:moveTo>
                <a:cubicBezTo>
                  <a:pt x="477769" y="1869"/>
                  <a:pt x="484314" y="3739"/>
                  <a:pt x="431956" y="190733"/>
                </a:cubicBezTo>
                <a:cubicBezTo>
                  <a:pt x="379598" y="377727"/>
                  <a:pt x="229068" y="886351"/>
                  <a:pt x="157075" y="1121963"/>
                </a:cubicBezTo>
                <a:cubicBezTo>
                  <a:pt x="85082" y="1357575"/>
                  <a:pt x="42541" y="1480991"/>
                  <a:pt x="0" y="160440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247"/>
          <p:cNvSpPr/>
          <p:nvPr/>
        </p:nvSpPr>
        <p:spPr>
          <a:xfrm>
            <a:off x="4881600" y="6546960"/>
            <a:ext cx="554040" cy="88920"/>
          </a:xfrm>
          <a:custGeom>
            <a:avLst/>
            <a:gdLst>
              <a:gd name="textAreaLeft" fmla="*/ 0 w 554040"/>
              <a:gd name="textAreaRight" fmla="*/ 554400 w 5540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55371" h="89757">
                <a:moveTo>
                  <a:pt x="0" y="89757"/>
                </a:moveTo>
                <a:lnTo>
                  <a:pt x="555371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248"/>
          <p:cNvSpPr/>
          <p:nvPr/>
        </p:nvSpPr>
        <p:spPr>
          <a:xfrm>
            <a:off x="6445080" y="6338880"/>
            <a:ext cx="370080" cy="61920"/>
          </a:xfrm>
          <a:custGeom>
            <a:avLst/>
            <a:gdLst>
              <a:gd name="textAreaLeft" fmla="*/ 0 w 370080"/>
              <a:gd name="textAreaRight" fmla="*/ 370440 w 3700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370248" h="61708">
                <a:moveTo>
                  <a:pt x="0" y="61708"/>
                </a:moveTo>
                <a:lnTo>
                  <a:pt x="370248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249"/>
          <p:cNvSpPr/>
          <p:nvPr/>
        </p:nvSpPr>
        <p:spPr>
          <a:xfrm>
            <a:off x="6799320" y="6248520"/>
            <a:ext cx="4680" cy="88920"/>
          </a:xfrm>
          <a:custGeom>
            <a:avLst/>
            <a:gdLst>
              <a:gd name="textAreaLeft" fmla="*/ 0 w 4680"/>
              <a:gd name="textAreaRight" fmla="*/ 5040 w 4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5610" h="89757">
                <a:moveTo>
                  <a:pt x="5610" y="89757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250"/>
          <p:cNvSpPr/>
          <p:nvPr/>
        </p:nvSpPr>
        <p:spPr>
          <a:xfrm>
            <a:off x="5478480" y="6435720"/>
            <a:ext cx="927000" cy="133200"/>
          </a:xfrm>
          <a:custGeom>
            <a:avLst/>
            <a:gdLst>
              <a:gd name="textAreaLeft" fmla="*/ 0 w 927000"/>
              <a:gd name="textAreaRight" fmla="*/ 927360 w 92700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927401" h="134343">
                <a:moveTo>
                  <a:pt x="0" y="134343"/>
                </a:moveTo>
                <a:lnTo>
                  <a:pt x="927401" y="0"/>
                </a:ln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组合 62" descr=""/>
          <p:cNvPicPr/>
          <p:nvPr/>
        </p:nvPicPr>
        <p:blipFill>
          <a:blip r:embed="rId3">
            <a:lum bright="-100000"/>
          </a:blip>
          <a:stretch/>
        </p:blipFill>
        <p:spPr>
          <a:xfrm>
            <a:off x="5407200" y="4614840"/>
            <a:ext cx="2004840" cy="1825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36" name="任意多边形 259"/>
            <p:cNvSpPr/>
            <p:nvPr/>
          </p:nvSpPr>
          <p:spPr>
            <a:xfrm>
              <a:off x="3686400" y="5791320"/>
              <a:ext cx="1431720" cy="360"/>
            </a:xfrm>
            <a:custGeom>
              <a:avLst/>
              <a:gdLst/>
              <a:ahLst/>
              <a:rect l="l" t="t" r="r" b="b"/>
              <a:pathLst>
                <a:path w="1431985" h="0">
                  <a:moveTo>
                    <a:pt x="0" y="0"/>
                  </a:moveTo>
                  <a:lnTo>
                    <a:pt x="143198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Group 27"/>
            <p:cNvGrpSpPr/>
            <p:nvPr/>
          </p:nvGrpSpPr>
          <p:grpSpPr>
            <a:xfrm>
              <a:off x="204840" y="5540400"/>
              <a:ext cx="3500640" cy="334800"/>
              <a:chOff x="204840" y="5540400"/>
              <a:chExt cx="3500640" cy="334800"/>
            </a:xfrm>
          </p:grpSpPr>
          <p:sp>
            <p:nvSpPr>
              <p:cNvPr id="238" name="任意多边形 261"/>
              <p:cNvSpPr/>
              <p:nvPr/>
            </p:nvSpPr>
            <p:spPr>
              <a:xfrm>
                <a:off x="204840" y="5540400"/>
                <a:ext cx="2292480" cy="334800"/>
              </a:xfrm>
              <a:custGeom>
                <a:avLst/>
                <a:gdLst>
                  <a:gd name="textAreaLeft" fmla="*/ 0 w 2292480"/>
                  <a:gd name="textAreaRight" fmla="*/ 2292840 w 22924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2292824" h="334370">
                    <a:moveTo>
                      <a:pt x="2292824" y="313899"/>
                    </a:moveTo>
                    <a:cubicBezTo>
                      <a:pt x="2191603" y="322997"/>
                      <a:pt x="2090382" y="332095"/>
                      <a:pt x="1978926" y="327546"/>
                    </a:cubicBezTo>
                    <a:cubicBezTo>
                      <a:pt x="1867470" y="322997"/>
                      <a:pt x="1710520" y="291152"/>
                      <a:pt x="1624084" y="286603"/>
                    </a:cubicBezTo>
                    <a:cubicBezTo>
                      <a:pt x="1537648" y="282054"/>
                      <a:pt x="1551296" y="300251"/>
                      <a:pt x="1460311" y="300251"/>
                    </a:cubicBezTo>
                    <a:cubicBezTo>
                      <a:pt x="1369326" y="300251"/>
                      <a:pt x="1257869" y="282054"/>
                      <a:pt x="1078174" y="286603"/>
                    </a:cubicBezTo>
                    <a:cubicBezTo>
                      <a:pt x="898479" y="291152"/>
                      <a:pt x="545911" y="334370"/>
                      <a:pt x="382138" y="327546"/>
                    </a:cubicBezTo>
                    <a:cubicBezTo>
                      <a:pt x="218365" y="320722"/>
                      <a:pt x="159225" y="300251"/>
                      <a:pt x="95535" y="245660"/>
                    </a:cubicBezTo>
                    <a:cubicBezTo>
                      <a:pt x="31845" y="191069"/>
                      <a:pt x="15922" y="95534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262"/>
              <p:cNvSpPr/>
              <p:nvPr/>
            </p:nvSpPr>
            <p:spPr>
              <a:xfrm>
                <a:off x="2472120" y="5773680"/>
                <a:ext cx="1233360" cy="81000"/>
              </a:xfrm>
              <a:custGeom>
                <a:avLst/>
                <a:gdLst>
                  <a:gd name="textAreaLeft" fmla="*/ 0 w 1233360"/>
                  <a:gd name="textAreaRight" fmla="*/ 1233720 w 12333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233377" h="81516">
                    <a:moveTo>
                      <a:pt x="0" y="81516"/>
                    </a:moveTo>
                    <a:cubicBezTo>
                      <a:pt x="31012" y="69111"/>
                      <a:pt x="62024" y="56706"/>
                      <a:pt x="159489" y="49618"/>
                    </a:cubicBezTo>
                    <a:cubicBezTo>
                      <a:pt x="256954" y="42530"/>
                      <a:pt x="469605" y="37214"/>
                      <a:pt x="584791" y="38986"/>
                    </a:cubicBezTo>
                    <a:cubicBezTo>
                      <a:pt x="699977" y="40758"/>
                      <a:pt x="785038" y="65567"/>
                      <a:pt x="850605" y="60251"/>
                    </a:cubicBezTo>
                    <a:cubicBezTo>
                      <a:pt x="916172" y="54935"/>
                      <a:pt x="914401" y="14176"/>
                      <a:pt x="978196" y="7088"/>
                    </a:cubicBezTo>
                    <a:cubicBezTo>
                      <a:pt x="1041991" y="0"/>
                      <a:pt x="1137684" y="8860"/>
                      <a:pt x="1233377" y="1772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任意多边形 263"/>
          <p:cNvSpPr/>
          <p:nvPr/>
        </p:nvSpPr>
        <p:spPr>
          <a:xfrm>
            <a:off x="5411880" y="4586400"/>
            <a:ext cx="1998720" cy="147600"/>
          </a:xfrm>
          <a:custGeom>
            <a:avLst/>
            <a:gdLst>
              <a:gd name="textAreaLeft" fmla="*/ 0 w 1998720"/>
              <a:gd name="textAreaRight" fmla="*/ 1999080 w 19987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998029" h="148661">
                <a:moveTo>
                  <a:pt x="935" y="148661"/>
                </a:moveTo>
                <a:cubicBezTo>
                  <a:pt x="467" y="144453"/>
                  <a:pt x="0" y="140246"/>
                  <a:pt x="113131" y="126221"/>
                </a:cubicBezTo>
                <a:cubicBezTo>
                  <a:pt x="226262" y="112196"/>
                  <a:pt x="487118" y="82277"/>
                  <a:pt x="679722" y="64513"/>
                </a:cubicBezTo>
                <a:cubicBezTo>
                  <a:pt x="872326" y="46749"/>
                  <a:pt x="1079889" y="29920"/>
                  <a:pt x="1268753" y="19635"/>
                </a:cubicBezTo>
                <a:cubicBezTo>
                  <a:pt x="1457617" y="9350"/>
                  <a:pt x="1711928" y="5610"/>
                  <a:pt x="1812905" y="2805"/>
                </a:cubicBezTo>
                <a:cubicBezTo>
                  <a:pt x="1913882" y="0"/>
                  <a:pt x="1855914" y="1870"/>
                  <a:pt x="1874613" y="2805"/>
                </a:cubicBezTo>
                <a:cubicBezTo>
                  <a:pt x="1893312" y="3740"/>
                  <a:pt x="1904532" y="935"/>
                  <a:pt x="1925101" y="8415"/>
                </a:cubicBezTo>
                <a:cubicBezTo>
                  <a:pt x="1945670" y="15895"/>
                  <a:pt x="1998029" y="47684"/>
                  <a:pt x="1998029" y="47684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3381480" y="649440"/>
            <a:ext cx="623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V Boli"/>
              </a:rPr>
              <a:t>Free Lif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87"/>
          <p:cNvSpPr/>
          <p:nvPr/>
        </p:nvSpPr>
        <p:spPr>
          <a:xfrm>
            <a:off x="142920" y="1409760"/>
            <a:ext cx="72151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91"/>
          <p:cNvSpPr/>
          <p:nvPr/>
        </p:nvSpPr>
        <p:spPr>
          <a:xfrm>
            <a:off x="573120" y="4780080"/>
            <a:ext cx="1450800" cy="73080"/>
          </a:xfrm>
          <a:custGeom>
            <a:avLst/>
            <a:gdLst>
              <a:gd name="textAreaLeft" fmla="*/ 0 w 1450800"/>
              <a:gd name="textAreaRight" fmla="*/ 1450800 w 1450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18" h="6">
                <a:moveTo>
                  <a:pt x="118" y="0"/>
                </a:moveTo>
                <a:lnTo>
                  <a:pt x="118" y="0"/>
                </a:lnTo>
                <a:moveTo>
                  <a:pt x="0" y="6"/>
                </a:moveTo>
                <a:lnTo>
                  <a:pt x="118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95"/>
          <p:cNvSpPr/>
          <p:nvPr/>
        </p:nvSpPr>
        <p:spPr>
          <a:xfrm>
            <a:off x="560520" y="5160960"/>
            <a:ext cx="1536480" cy="8568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25" h="7">
                <a:moveTo>
                  <a:pt x="125" y="0"/>
                </a:moveTo>
                <a:lnTo>
                  <a:pt x="125" y="0"/>
                </a:lnTo>
                <a:moveTo>
                  <a:pt x="0" y="7"/>
                </a:moveTo>
                <a:lnTo>
                  <a:pt x="125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04"/>
          <p:cNvSpPr/>
          <p:nvPr/>
        </p:nvSpPr>
        <p:spPr>
          <a:xfrm>
            <a:off x="523800" y="5738760"/>
            <a:ext cx="2851200" cy="209520"/>
          </a:xfrm>
          <a:custGeom>
            <a:avLst/>
            <a:gdLst>
              <a:gd name="textAreaLeft" fmla="*/ 0 w 2851200"/>
              <a:gd name="textAreaRight" fmla="*/ 2851200 w 28512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32" h="17">
                <a:moveTo>
                  <a:pt x="232" y="0"/>
                </a:moveTo>
                <a:lnTo>
                  <a:pt x="232" y="0"/>
                </a:lnTo>
                <a:moveTo>
                  <a:pt x="0" y="17"/>
                </a:moveTo>
                <a:lnTo>
                  <a:pt x="232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38440" y="2541600"/>
            <a:ext cx="528480" cy="160200"/>
            <a:chOff x="2638440" y="2541600"/>
            <a:chExt cx="528480" cy="160200"/>
          </a:xfrm>
        </p:grpSpPr>
        <p:sp>
          <p:nvSpPr>
            <p:cNvPr id="247" name="Freeform 454"/>
            <p:cNvSpPr/>
            <p:nvPr/>
          </p:nvSpPr>
          <p:spPr>
            <a:xfrm>
              <a:off x="2921040" y="2565360"/>
              <a:ext cx="245880" cy="1364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0" h="11">
                  <a:moveTo>
                    <a:pt x="20" y="0"/>
                  </a:moveTo>
                  <a:cubicBezTo>
                    <a:pt x="13" y="3"/>
                    <a:pt x="6" y="6"/>
                    <a:pt x="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55"/>
            <p:cNvSpPr/>
            <p:nvPr/>
          </p:nvSpPr>
          <p:spPr>
            <a:xfrm>
              <a:off x="2638440" y="2541600"/>
              <a:ext cx="282600" cy="160200"/>
            </a:xfrm>
            <a:custGeom>
              <a:avLst/>
              <a:gdLst>
                <a:gd name="textAreaLeft" fmla="*/ 0 w 282600"/>
                <a:gd name="textAreaRight" fmla="*/ 282600 w 2826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3" h="13">
                  <a:moveTo>
                    <a:pt x="0" y="0"/>
                  </a:moveTo>
                  <a:cubicBezTo>
                    <a:pt x="7" y="6"/>
                    <a:pt x="15" y="10"/>
                    <a:pt x="23" y="1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2612880" y="2308320"/>
            <a:ext cx="554040" cy="257040"/>
            <a:chOff x="2612880" y="2308320"/>
            <a:chExt cx="554040" cy="257040"/>
          </a:xfrm>
        </p:grpSpPr>
        <p:sp>
          <p:nvSpPr>
            <p:cNvPr id="250" name="Freeform 470"/>
            <p:cNvSpPr/>
            <p:nvPr/>
          </p:nvSpPr>
          <p:spPr>
            <a:xfrm>
              <a:off x="2612880" y="241776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" h="10">
                  <a:moveTo>
                    <a:pt x="0" y="0"/>
                  </a:moveTo>
                  <a:cubicBezTo>
                    <a:pt x="0" y="4"/>
                    <a:pt x="1" y="7"/>
                    <a:pt x="2" y="1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1"/>
            <p:cNvSpPr/>
            <p:nvPr/>
          </p:nvSpPr>
          <p:spPr>
            <a:xfrm>
              <a:off x="3105000" y="2308320"/>
              <a:ext cx="61920" cy="257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" h="21">
                  <a:moveTo>
                    <a:pt x="5" y="21"/>
                  </a:moveTo>
                  <a:cubicBezTo>
                    <a:pt x="4" y="14"/>
                    <a:pt x="2" y="7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2355840" y="1409760"/>
            <a:ext cx="638280" cy="147600"/>
            <a:chOff x="2355840" y="1409760"/>
            <a:chExt cx="638280" cy="147600"/>
          </a:xfrm>
        </p:grpSpPr>
        <p:sp>
          <p:nvSpPr>
            <p:cNvPr id="253" name="Freeform 519"/>
            <p:cNvSpPr/>
            <p:nvPr/>
          </p:nvSpPr>
          <p:spPr>
            <a:xfrm>
              <a:off x="2612880" y="1409760"/>
              <a:ext cx="381240" cy="1476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1" h="12">
                  <a:moveTo>
                    <a:pt x="31" y="12"/>
                  </a:moveTo>
                  <a:cubicBezTo>
                    <a:pt x="23" y="4"/>
                    <a:pt x="11" y="0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20"/>
            <p:cNvSpPr/>
            <p:nvPr/>
          </p:nvSpPr>
          <p:spPr>
            <a:xfrm>
              <a:off x="2355840" y="1446120"/>
              <a:ext cx="257040" cy="11124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" h="9">
                  <a:moveTo>
                    <a:pt x="21" y="0"/>
                  </a:moveTo>
                  <a:cubicBezTo>
                    <a:pt x="13" y="0"/>
                    <a:pt x="5" y="3"/>
                    <a:pt x="0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2994120" y="1557360"/>
            <a:ext cx="196920" cy="873000"/>
            <a:chOff x="2994120" y="1557360"/>
            <a:chExt cx="196920" cy="873000"/>
          </a:xfrm>
        </p:grpSpPr>
        <p:sp>
          <p:nvSpPr>
            <p:cNvPr id="256" name="Freeform 531"/>
            <p:cNvSpPr/>
            <p:nvPr/>
          </p:nvSpPr>
          <p:spPr>
            <a:xfrm>
              <a:off x="3105360" y="1815840"/>
              <a:ext cx="12600" cy="23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0" y="1"/>
                    <a:pt x="0" y="1"/>
                    <a:pt x="0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7"/>
            <p:cNvGrpSpPr/>
            <p:nvPr/>
          </p:nvGrpSpPr>
          <p:grpSpPr>
            <a:xfrm>
              <a:off x="2994120" y="1557360"/>
              <a:ext cx="196920" cy="873000"/>
              <a:chOff x="2994120" y="1557360"/>
              <a:chExt cx="196920" cy="873000"/>
            </a:xfrm>
          </p:grpSpPr>
          <p:sp>
            <p:nvSpPr>
              <p:cNvPr id="258" name="Freeform 518"/>
              <p:cNvSpPr/>
              <p:nvPr/>
            </p:nvSpPr>
            <p:spPr>
              <a:xfrm>
                <a:off x="2994120" y="1557360"/>
                <a:ext cx="123840" cy="271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9" y="22"/>
                    </a:moveTo>
                    <a:cubicBezTo>
                      <a:pt x="10" y="14"/>
                      <a:pt x="7" y="5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32"/>
              <p:cNvSpPr/>
              <p:nvPr/>
            </p:nvSpPr>
            <p:spPr>
              <a:xfrm>
                <a:off x="3117960" y="1815840"/>
                <a:ext cx="36360" cy="23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2"/>
                    </a:moveTo>
                    <a:cubicBezTo>
                      <a:pt x="3" y="1"/>
                      <a:pt x="1" y="0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3"/>
              <p:cNvSpPr/>
              <p:nvPr/>
            </p:nvSpPr>
            <p:spPr>
              <a:xfrm>
                <a:off x="3154680" y="1839960"/>
                <a:ext cx="36360" cy="1839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2" y="15"/>
                    </a:moveTo>
                    <a:cubicBezTo>
                      <a:pt x="3" y="10"/>
                      <a:pt x="2" y="5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34"/>
              <p:cNvSpPr/>
              <p:nvPr/>
            </p:nvSpPr>
            <p:spPr>
              <a:xfrm>
                <a:off x="3154680" y="2023920"/>
                <a:ext cx="23760" cy="378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cubicBezTo>
                      <a:pt x="0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35"/>
              <p:cNvSpPr/>
              <p:nvPr/>
            </p:nvSpPr>
            <p:spPr>
              <a:xfrm>
                <a:off x="3129120" y="2062080"/>
                <a:ext cx="25200" cy="36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cubicBezTo>
                      <a:pt x="1" y="2"/>
                      <a:pt x="2" y="1"/>
                      <a:pt x="2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36"/>
              <p:cNvSpPr/>
              <p:nvPr/>
            </p:nvSpPr>
            <p:spPr>
              <a:xfrm>
                <a:off x="3129120" y="2098800"/>
                <a:ext cx="1440" cy="856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588" h="7">
                    <a:moveTo>
                      <a:pt x="0" y="0"/>
                    </a:moveTo>
                    <a:cubicBezTo>
                      <a:pt x="0" y="3"/>
                      <a:pt x="0" y="5"/>
                      <a:pt x="0" y="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37"/>
              <p:cNvSpPr/>
              <p:nvPr/>
            </p:nvSpPr>
            <p:spPr>
              <a:xfrm>
                <a:off x="3030480" y="2184480"/>
                <a:ext cx="98280" cy="2458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0" y="20"/>
                    </a:moveTo>
                    <a:cubicBezTo>
                      <a:pt x="5" y="15"/>
                      <a:pt x="8" y="8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538"/>
          <p:cNvSpPr/>
          <p:nvPr/>
        </p:nvSpPr>
        <p:spPr>
          <a:xfrm>
            <a:off x="2698920" y="2430360"/>
            <a:ext cx="331560" cy="111240"/>
          </a:xfrm>
          <a:custGeom>
            <a:avLst/>
            <a:gdLst>
              <a:gd name="textAreaLeft" fmla="*/ 0 w 331560"/>
              <a:gd name="textAreaRight" fmla="*/ 331560 w 3315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7" h="9">
                <a:moveTo>
                  <a:pt x="0" y="5"/>
                </a:moveTo>
                <a:cubicBezTo>
                  <a:pt x="9" y="9"/>
                  <a:pt x="20" y="7"/>
                  <a:pt x="27" y="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2268360" y="1557360"/>
            <a:ext cx="430560" cy="934920"/>
            <a:chOff x="2268360" y="1557360"/>
            <a:chExt cx="430560" cy="934920"/>
          </a:xfrm>
        </p:grpSpPr>
        <p:sp>
          <p:nvSpPr>
            <p:cNvPr id="267" name="Freeform 515"/>
            <p:cNvSpPr/>
            <p:nvPr/>
          </p:nvSpPr>
          <p:spPr>
            <a:xfrm>
              <a:off x="2478240" y="2282760"/>
              <a:ext cx="48960" cy="1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" h="1588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16"/>
            <p:cNvSpPr/>
            <p:nvPr/>
          </p:nvSpPr>
          <p:spPr>
            <a:xfrm>
              <a:off x="2379600" y="2085840"/>
              <a:ext cx="98280" cy="196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1" y="6"/>
                    <a:pt x="4" y="11"/>
                    <a:pt x="8" y="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29"/>
            <p:cNvGrpSpPr/>
            <p:nvPr/>
          </p:nvGrpSpPr>
          <p:grpSpPr>
            <a:xfrm>
              <a:off x="2268360" y="1557360"/>
              <a:ext cx="123840" cy="504720"/>
              <a:chOff x="2268360" y="1557360"/>
              <a:chExt cx="123840" cy="504720"/>
            </a:xfrm>
          </p:grpSpPr>
          <p:sp>
            <p:nvSpPr>
              <p:cNvPr id="270" name="Freeform 521"/>
              <p:cNvSpPr/>
              <p:nvPr/>
            </p:nvSpPr>
            <p:spPr>
              <a:xfrm>
                <a:off x="2268360" y="1557360"/>
                <a:ext cx="87480" cy="28260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7" y="0"/>
                    </a:moveTo>
                    <a:cubicBezTo>
                      <a:pt x="2" y="7"/>
                      <a:pt x="0" y="15"/>
                      <a:pt x="1" y="2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22"/>
              <p:cNvSpPr/>
              <p:nvPr/>
            </p:nvSpPr>
            <p:spPr>
              <a:xfrm>
                <a:off x="2280960" y="1839960"/>
                <a:ext cx="111240" cy="2221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" h="18">
                    <a:moveTo>
                      <a:pt x="0" y="0"/>
                    </a:moveTo>
                    <a:cubicBezTo>
                      <a:pt x="0" y="7"/>
                      <a:pt x="4" y="14"/>
                      <a:pt x="9" y="1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539"/>
            <p:cNvSpPr/>
            <p:nvPr/>
          </p:nvSpPr>
          <p:spPr>
            <a:xfrm>
              <a:off x="2527200" y="2282760"/>
              <a:ext cx="171720" cy="2095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" h="17">
                  <a:moveTo>
                    <a:pt x="0" y="0"/>
                  </a:moveTo>
                  <a:cubicBezTo>
                    <a:pt x="3" y="7"/>
                    <a:pt x="8" y="13"/>
                    <a:pt x="14" y="1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558"/>
          <p:cNvSpPr/>
          <p:nvPr/>
        </p:nvSpPr>
        <p:spPr>
          <a:xfrm>
            <a:off x="474840" y="3205080"/>
            <a:ext cx="1044360" cy="9864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85" h="8">
                <a:moveTo>
                  <a:pt x="85" y="3"/>
                </a:moveTo>
                <a:cubicBezTo>
                  <a:pt x="82" y="7"/>
                  <a:pt x="77" y="8"/>
                  <a:pt x="73" y="8"/>
                </a:cubicBezTo>
                <a:cubicBezTo>
                  <a:pt x="67" y="6"/>
                  <a:pt x="61" y="5"/>
                  <a:pt x="55" y="5"/>
                </a:cubicBezTo>
                <a:cubicBezTo>
                  <a:pt x="41" y="5"/>
                  <a:pt x="28" y="4"/>
                  <a:pt x="15" y="0"/>
                </a:cubicBezTo>
                <a:cubicBezTo>
                  <a:pt x="9" y="0"/>
                  <a:pt x="3" y="2"/>
                  <a:pt x="0" y="7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303120" y="3290760"/>
            <a:ext cx="405000" cy="603360"/>
            <a:chOff x="303120" y="3290760"/>
            <a:chExt cx="405000" cy="603360"/>
          </a:xfrm>
        </p:grpSpPr>
        <p:sp>
          <p:nvSpPr>
            <p:cNvPr id="275" name="Freeform 461"/>
            <p:cNvSpPr/>
            <p:nvPr/>
          </p:nvSpPr>
          <p:spPr>
            <a:xfrm>
              <a:off x="536760" y="384516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62"/>
            <p:cNvSpPr/>
            <p:nvPr/>
          </p:nvSpPr>
          <p:spPr>
            <a:xfrm>
              <a:off x="560520" y="3821040"/>
              <a:ext cx="12600" cy="23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63"/>
            <p:cNvSpPr/>
            <p:nvPr/>
          </p:nvSpPr>
          <p:spPr>
            <a:xfrm>
              <a:off x="425520" y="3733920"/>
              <a:ext cx="135000" cy="871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7">
                  <a:moveTo>
                    <a:pt x="0" y="0"/>
                  </a:moveTo>
                  <a:cubicBezTo>
                    <a:pt x="3" y="4"/>
                    <a:pt x="7" y="6"/>
                    <a:pt x="11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464"/>
            <p:cNvSpPr/>
            <p:nvPr/>
          </p:nvSpPr>
          <p:spPr>
            <a:xfrm>
              <a:off x="500040" y="385776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" h="3">
                  <a:moveTo>
                    <a:pt x="0" y="2"/>
                  </a:moveTo>
                  <a:cubicBezTo>
                    <a:pt x="0" y="3"/>
                    <a:pt x="1" y="3"/>
                    <a:pt x="2" y="2"/>
                  </a:cubicBezTo>
                  <a:cubicBezTo>
                    <a:pt x="3" y="2"/>
                    <a:pt x="3" y="1"/>
                    <a:pt x="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65"/>
            <p:cNvSpPr/>
            <p:nvPr/>
          </p:nvSpPr>
          <p:spPr>
            <a:xfrm>
              <a:off x="376200" y="3772080"/>
              <a:ext cx="123840" cy="1094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0" h="9">
                  <a:moveTo>
                    <a:pt x="0" y="0"/>
                  </a:moveTo>
                  <a:cubicBezTo>
                    <a:pt x="2" y="4"/>
                    <a:pt x="5" y="8"/>
                    <a:pt x="10" y="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66"/>
            <p:cNvSpPr/>
            <p:nvPr/>
          </p:nvSpPr>
          <p:spPr>
            <a:xfrm>
              <a:off x="326880" y="3845160"/>
              <a:ext cx="25200" cy="126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67"/>
            <p:cNvSpPr/>
            <p:nvPr/>
          </p:nvSpPr>
          <p:spPr>
            <a:xfrm>
              <a:off x="352080" y="3821040"/>
              <a:ext cx="23760" cy="36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468"/>
            <p:cNvSpPr/>
            <p:nvPr/>
          </p:nvSpPr>
          <p:spPr>
            <a:xfrm>
              <a:off x="511200" y="3635280"/>
              <a:ext cx="61920" cy="252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" h="2">
                  <a:moveTo>
                    <a:pt x="0" y="0"/>
                  </a:moveTo>
                  <a:cubicBezTo>
                    <a:pt x="0" y="1"/>
                    <a:pt x="1" y="2"/>
                    <a:pt x="2" y="2"/>
                  </a:cubicBezTo>
                  <a:cubicBezTo>
                    <a:pt x="3" y="2"/>
                    <a:pt x="4" y="2"/>
                    <a:pt x="5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53"/>
            <p:cNvSpPr/>
            <p:nvPr/>
          </p:nvSpPr>
          <p:spPr>
            <a:xfrm flipV="1">
              <a:off x="549360" y="3660480"/>
              <a:ext cx="1440" cy="16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54"/>
            <p:cNvSpPr/>
            <p:nvPr/>
          </p:nvSpPr>
          <p:spPr>
            <a:xfrm>
              <a:off x="303120" y="3512880"/>
              <a:ext cx="48960" cy="331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" h="27">
                  <a:moveTo>
                    <a:pt x="4" y="0"/>
                  </a:moveTo>
                  <a:cubicBezTo>
                    <a:pt x="1" y="5"/>
                    <a:pt x="0" y="11"/>
                    <a:pt x="1" y="16"/>
                  </a:cubicBezTo>
                  <a:cubicBezTo>
                    <a:pt x="1" y="20"/>
                    <a:pt x="1" y="24"/>
                    <a:pt x="2" y="2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55"/>
            <p:cNvSpPr/>
            <p:nvPr/>
          </p:nvSpPr>
          <p:spPr>
            <a:xfrm>
              <a:off x="363240" y="3537000"/>
              <a:ext cx="147600" cy="284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2" h="23">
                  <a:moveTo>
                    <a:pt x="12" y="0"/>
                  </a:moveTo>
                  <a:cubicBezTo>
                    <a:pt x="9" y="0"/>
                    <a:pt x="6" y="2"/>
                    <a:pt x="5" y="5"/>
                  </a:cubicBezTo>
                  <a:cubicBezTo>
                    <a:pt x="4" y="8"/>
                    <a:pt x="3" y="10"/>
                    <a:pt x="2" y="12"/>
                  </a:cubicBezTo>
                  <a:cubicBezTo>
                    <a:pt x="1" y="15"/>
                    <a:pt x="0" y="19"/>
                    <a:pt x="1" y="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56"/>
            <p:cNvSpPr/>
            <p:nvPr/>
          </p:nvSpPr>
          <p:spPr>
            <a:xfrm>
              <a:off x="425520" y="3585960"/>
              <a:ext cx="111240" cy="27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" h="22">
                  <a:moveTo>
                    <a:pt x="5" y="0"/>
                  </a:moveTo>
                  <a:cubicBezTo>
                    <a:pt x="2" y="2"/>
                    <a:pt x="0" y="5"/>
                    <a:pt x="0" y="9"/>
                  </a:cubicBezTo>
                  <a:cubicBezTo>
                    <a:pt x="0" y="13"/>
                    <a:pt x="1" y="16"/>
                    <a:pt x="4" y="19"/>
                  </a:cubicBezTo>
                  <a:cubicBezTo>
                    <a:pt x="5" y="20"/>
                    <a:pt x="7" y="21"/>
                    <a:pt x="9" y="2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7"/>
            <p:cNvSpPr/>
            <p:nvPr/>
          </p:nvSpPr>
          <p:spPr>
            <a:xfrm>
              <a:off x="303120" y="3290760"/>
              <a:ext cx="171360" cy="284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4" h="23">
                  <a:moveTo>
                    <a:pt x="14" y="0"/>
                  </a:moveTo>
                  <a:cubicBezTo>
                    <a:pt x="9" y="5"/>
                    <a:pt x="5" y="11"/>
                    <a:pt x="2" y="17"/>
                  </a:cubicBezTo>
                  <a:cubicBezTo>
                    <a:pt x="0" y="19"/>
                    <a:pt x="0" y="21"/>
                    <a:pt x="2" y="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59"/>
            <p:cNvSpPr/>
            <p:nvPr/>
          </p:nvSpPr>
          <p:spPr>
            <a:xfrm>
              <a:off x="500040" y="3438360"/>
              <a:ext cx="36360" cy="196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" h="16">
                  <a:moveTo>
                    <a:pt x="3" y="0"/>
                  </a:moveTo>
                  <a:cubicBezTo>
                    <a:pt x="2" y="1"/>
                    <a:pt x="2" y="3"/>
                    <a:pt x="2" y="5"/>
                  </a:cubicBezTo>
                  <a:cubicBezTo>
                    <a:pt x="3" y="6"/>
                    <a:pt x="2" y="8"/>
                    <a:pt x="2" y="9"/>
                  </a:cubicBezTo>
                  <a:cubicBezTo>
                    <a:pt x="0" y="11"/>
                    <a:pt x="0" y="14"/>
                    <a:pt x="1" y="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60"/>
            <p:cNvSpPr/>
            <p:nvPr/>
          </p:nvSpPr>
          <p:spPr>
            <a:xfrm>
              <a:off x="573120" y="3328560"/>
              <a:ext cx="135000" cy="3319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" h="27">
                  <a:moveTo>
                    <a:pt x="0" y="27"/>
                  </a:moveTo>
                  <a:cubicBezTo>
                    <a:pt x="3" y="24"/>
                    <a:pt x="4" y="21"/>
                    <a:pt x="4" y="17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10" y="11"/>
                    <a:pt x="11" y="5"/>
                    <a:pt x="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Freeform 561"/>
          <p:cNvSpPr/>
          <p:nvPr/>
        </p:nvSpPr>
        <p:spPr>
          <a:xfrm>
            <a:off x="695160" y="3438360"/>
            <a:ext cx="1414800" cy="87480"/>
          </a:xfrm>
          <a:custGeom>
            <a:avLst/>
            <a:gdLst/>
            <a:ahLst/>
            <a:rect l="l" t="t" r="r" b="b"/>
            <a:pathLst>
              <a:path w="115" h="7">
                <a:moveTo>
                  <a:pt x="0" y="3"/>
                </a:moveTo>
                <a:cubicBezTo>
                  <a:pt x="6" y="7"/>
                  <a:pt x="13" y="7"/>
                  <a:pt x="20" y="4"/>
                </a:cubicBezTo>
                <a:cubicBezTo>
                  <a:pt x="27" y="5"/>
                  <a:pt x="35" y="4"/>
                  <a:pt x="42" y="3"/>
                </a:cubicBezTo>
                <a:lnTo>
                  <a:pt x="115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1"/>
          <p:cNvGrpSpPr/>
          <p:nvPr/>
        </p:nvGrpSpPr>
        <p:grpSpPr>
          <a:xfrm>
            <a:off x="1519200" y="2541600"/>
            <a:ext cx="1119240" cy="700200"/>
            <a:chOff x="1519200" y="2541600"/>
            <a:chExt cx="1119240" cy="700200"/>
          </a:xfrm>
        </p:grpSpPr>
        <p:sp>
          <p:nvSpPr>
            <p:cNvPr id="292" name="Freeform 460"/>
            <p:cNvSpPr/>
            <p:nvPr/>
          </p:nvSpPr>
          <p:spPr>
            <a:xfrm>
              <a:off x="1519200" y="2639880"/>
              <a:ext cx="627120" cy="6019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51" h="49">
                  <a:moveTo>
                    <a:pt x="51" y="0"/>
                  </a:moveTo>
                  <a:cubicBezTo>
                    <a:pt x="34" y="16"/>
                    <a:pt x="17" y="32"/>
                    <a:pt x="0" y="4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62"/>
            <p:cNvSpPr/>
            <p:nvPr/>
          </p:nvSpPr>
          <p:spPr>
            <a:xfrm>
              <a:off x="2146320" y="2541600"/>
              <a:ext cx="492120" cy="9828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0" h="8">
                  <a:moveTo>
                    <a:pt x="40" y="0"/>
                  </a:moveTo>
                  <a:cubicBezTo>
                    <a:pt x="31" y="4"/>
                    <a:pt x="20" y="6"/>
                    <a:pt x="10" y="5"/>
                  </a:cubicBezTo>
                  <a:cubicBezTo>
                    <a:pt x="6" y="5"/>
                    <a:pt x="3" y="6"/>
                    <a:pt x="0" y="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Freeform 563"/>
          <p:cNvSpPr/>
          <p:nvPr/>
        </p:nvSpPr>
        <p:spPr>
          <a:xfrm>
            <a:off x="3166920" y="2565360"/>
            <a:ext cx="1143000" cy="442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93" h="36">
                <a:moveTo>
                  <a:pt x="0" y="0"/>
                </a:moveTo>
                <a:cubicBezTo>
                  <a:pt x="7" y="5"/>
                  <a:pt x="15" y="7"/>
                  <a:pt x="24" y="7"/>
                </a:cubicBezTo>
                <a:cubicBezTo>
                  <a:pt x="33" y="8"/>
                  <a:pt x="41" y="11"/>
                  <a:pt x="48" y="16"/>
                </a:cubicBezTo>
                <a:cubicBezTo>
                  <a:pt x="62" y="25"/>
                  <a:pt x="77" y="32"/>
                  <a:pt x="93" y="36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564"/>
          <p:cNvSpPr/>
          <p:nvPr/>
        </p:nvSpPr>
        <p:spPr>
          <a:xfrm>
            <a:off x="4309920" y="3008160"/>
            <a:ext cx="1967040" cy="258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60" h="21">
                <a:moveTo>
                  <a:pt x="0" y="0"/>
                </a:moveTo>
                <a:cubicBezTo>
                  <a:pt x="11" y="7"/>
                  <a:pt x="24" y="8"/>
                  <a:pt x="36" y="5"/>
                </a:cubicBezTo>
                <a:cubicBezTo>
                  <a:pt x="56" y="7"/>
                  <a:pt x="76" y="7"/>
                  <a:pt x="96" y="6"/>
                </a:cubicBezTo>
                <a:cubicBezTo>
                  <a:pt x="101" y="5"/>
                  <a:pt x="106" y="6"/>
                  <a:pt x="110" y="8"/>
                </a:cubicBezTo>
                <a:cubicBezTo>
                  <a:pt x="118" y="9"/>
                  <a:pt x="125" y="11"/>
                  <a:pt x="133" y="13"/>
                </a:cubicBezTo>
                <a:cubicBezTo>
                  <a:pt x="142" y="13"/>
                  <a:pt x="152" y="16"/>
                  <a:pt x="160" y="21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565"/>
          <p:cNvSpPr/>
          <p:nvPr/>
        </p:nvSpPr>
        <p:spPr>
          <a:xfrm>
            <a:off x="4248000" y="3267000"/>
            <a:ext cx="1363680" cy="7308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11" h="6">
                <a:moveTo>
                  <a:pt x="0" y="6"/>
                </a:moveTo>
                <a:lnTo>
                  <a:pt x="16" y="6"/>
                </a:lnTo>
                <a:lnTo>
                  <a:pt x="38" y="4"/>
                </a:lnTo>
                <a:lnTo>
                  <a:pt x="65" y="3"/>
                </a:lnTo>
                <a:lnTo>
                  <a:pt x="100" y="2"/>
                </a:lnTo>
                <a:lnTo>
                  <a:pt x="104" y="1"/>
                </a:lnTo>
                <a:lnTo>
                  <a:pt x="111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7"/>
          <p:cNvGrpSpPr/>
          <p:nvPr/>
        </p:nvGrpSpPr>
        <p:grpSpPr>
          <a:xfrm>
            <a:off x="5600880" y="3230640"/>
            <a:ext cx="725400" cy="269640"/>
            <a:chOff x="5600880" y="3230640"/>
            <a:chExt cx="725400" cy="269640"/>
          </a:xfrm>
        </p:grpSpPr>
        <p:sp>
          <p:nvSpPr>
            <p:cNvPr id="298" name="Freeform 393"/>
            <p:cNvSpPr/>
            <p:nvPr/>
          </p:nvSpPr>
          <p:spPr>
            <a:xfrm>
              <a:off x="6251760" y="3241440"/>
              <a:ext cx="74520" cy="1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588">
                  <a:moveTo>
                    <a:pt x="6" y="0"/>
                  </a:moveTo>
                  <a:lnTo>
                    <a:pt x="6" y="0"/>
                  </a:lnTo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51"/>
            <p:cNvSpPr/>
            <p:nvPr/>
          </p:nvSpPr>
          <p:spPr>
            <a:xfrm>
              <a:off x="6031080" y="345132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" h="4">
                  <a:moveTo>
                    <a:pt x="0" y="3"/>
                  </a:moveTo>
                  <a:cubicBezTo>
                    <a:pt x="1" y="4"/>
                    <a:pt x="2" y="3"/>
                    <a:pt x="3" y="3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52"/>
            <p:cNvSpPr/>
            <p:nvPr/>
          </p:nvSpPr>
          <p:spPr>
            <a:xfrm>
              <a:off x="5919840" y="3316320"/>
              <a:ext cx="160200" cy="1350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" h="11">
                  <a:moveTo>
                    <a:pt x="13" y="11"/>
                  </a:moveTo>
                  <a:cubicBezTo>
                    <a:pt x="9" y="7"/>
                    <a:pt x="5" y="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53"/>
            <p:cNvSpPr/>
            <p:nvPr/>
          </p:nvSpPr>
          <p:spPr>
            <a:xfrm>
              <a:off x="6228000" y="3267000"/>
              <a:ext cx="48960" cy="363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" h="3">
                  <a:moveTo>
                    <a:pt x="0" y="2"/>
                  </a:moveTo>
                  <a:cubicBezTo>
                    <a:pt x="1" y="3"/>
                    <a:pt x="2" y="3"/>
                    <a:pt x="3" y="2"/>
                  </a:cubicBezTo>
                  <a:cubicBezTo>
                    <a:pt x="4" y="2"/>
                    <a:pt x="4" y="1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66"/>
            <p:cNvSpPr/>
            <p:nvPr/>
          </p:nvSpPr>
          <p:spPr>
            <a:xfrm>
              <a:off x="5919840" y="3267000"/>
              <a:ext cx="307800" cy="4896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4">
                  <a:moveTo>
                    <a:pt x="25" y="2"/>
                  </a:moveTo>
                  <a:cubicBezTo>
                    <a:pt x="20" y="0"/>
                    <a:pt x="15" y="0"/>
                    <a:pt x="10" y="0"/>
                  </a:cubicBezTo>
                  <a:cubicBezTo>
                    <a:pt x="7" y="1"/>
                    <a:pt x="4" y="1"/>
                    <a:pt x="1" y="2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67"/>
            <p:cNvSpPr/>
            <p:nvPr/>
          </p:nvSpPr>
          <p:spPr>
            <a:xfrm>
              <a:off x="5600880" y="3230640"/>
              <a:ext cx="430200" cy="2570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5" h="21">
                  <a:moveTo>
                    <a:pt x="0" y="0"/>
                  </a:moveTo>
                  <a:cubicBezTo>
                    <a:pt x="0" y="4"/>
                    <a:pt x="3" y="8"/>
                    <a:pt x="7" y="9"/>
                  </a:cubicBezTo>
                  <a:cubicBezTo>
                    <a:pt x="11" y="12"/>
                    <a:pt x="16" y="13"/>
                    <a:pt x="21" y="12"/>
                  </a:cubicBezTo>
                  <a:cubicBezTo>
                    <a:pt x="25" y="16"/>
                    <a:pt x="30" y="19"/>
                    <a:pt x="35" y="2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64"/>
          <p:cNvGrpSpPr/>
          <p:nvPr/>
        </p:nvGrpSpPr>
        <p:grpSpPr>
          <a:xfrm>
            <a:off x="1519200" y="3008160"/>
            <a:ext cx="2801880" cy="505080"/>
            <a:chOff x="1519200" y="3008160"/>
            <a:chExt cx="2801880" cy="505080"/>
          </a:xfrm>
        </p:grpSpPr>
        <p:sp>
          <p:nvSpPr>
            <p:cNvPr id="305" name="Freeform 445"/>
            <p:cNvSpPr/>
            <p:nvPr/>
          </p:nvSpPr>
          <p:spPr>
            <a:xfrm>
              <a:off x="2097000" y="3414960"/>
              <a:ext cx="25200" cy="48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" h="4">
                  <a:moveTo>
                    <a:pt x="0" y="4"/>
                  </a:moveTo>
                  <a:cubicBezTo>
                    <a:pt x="1" y="3"/>
                    <a:pt x="2" y="1"/>
                    <a:pt x="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46"/>
            <p:cNvSpPr/>
            <p:nvPr/>
          </p:nvSpPr>
          <p:spPr>
            <a:xfrm>
              <a:off x="2097000" y="33530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2"/>
                    <a:pt x="1" y="3"/>
                    <a:pt x="1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47"/>
            <p:cNvSpPr/>
            <p:nvPr/>
          </p:nvSpPr>
          <p:spPr>
            <a:xfrm>
              <a:off x="2097000" y="3290760"/>
              <a:ext cx="48960" cy="61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cubicBezTo>
                    <a:pt x="1" y="4"/>
                    <a:pt x="3" y="2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48"/>
            <p:cNvSpPr/>
            <p:nvPr/>
          </p:nvSpPr>
          <p:spPr>
            <a:xfrm>
              <a:off x="3903840" y="3230640"/>
              <a:ext cx="209520" cy="48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" h="4">
                  <a:moveTo>
                    <a:pt x="0" y="4"/>
                  </a:moveTo>
                  <a:cubicBezTo>
                    <a:pt x="6" y="4"/>
                    <a:pt x="12" y="2"/>
                    <a:pt x="1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49"/>
            <p:cNvSpPr/>
            <p:nvPr/>
          </p:nvSpPr>
          <p:spPr>
            <a:xfrm>
              <a:off x="4137120" y="3241800"/>
              <a:ext cx="134640" cy="209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" h="17">
                  <a:moveTo>
                    <a:pt x="0" y="17"/>
                  </a:moveTo>
                  <a:cubicBezTo>
                    <a:pt x="6" y="13"/>
                    <a:pt x="10" y="7"/>
                    <a:pt x="1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50"/>
            <p:cNvSpPr/>
            <p:nvPr/>
          </p:nvSpPr>
          <p:spPr>
            <a:xfrm>
              <a:off x="4272120" y="3008160"/>
              <a:ext cx="48960" cy="233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4" h="19">
                  <a:moveTo>
                    <a:pt x="0" y="19"/>
                  </a:moveTo>
                  <a:cubicBezTo>
                    <a:pt x="3" y="13"/>
                    <a:pt x="4" y="7"/>
                    <a:pt x="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56"/>
            <p:cNvSpPr/>
            <p:nvPr/>
          </p:nvSpPr>
          <p:spPr>
            <a:xfrm>
              <a:off x="2035080" y="3217680"/>
              <a:ext cx="74520" cy="184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" h="15">
                  <a:moveTo>
                    <a:pt x="0" y="15"/>
                  </a:moveTo>
                  <a:cubicBezTo>
                    <a:pt x="2" y="10"/>
                    <a:pt x="4" y="5"/>
                    <a:pt x="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57"/>
            <p:cNvSpPr/>
            <p:nvPr/>
          </p:nvSpPr>
          <p:spPr>
            <a:xfrm>
              <a:off x="1912680" y="3267000"/>
              <a:ext cx="122040" cy="1602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0" h="13">
                  <a:moveTo>
                    <a:pt x="0" y="13"/>
                  </a:moveTo>
                  <a:cubicBezTo>
                    <a:pt x="4" y="10"/>
                    <a:pt x="8" y="5"/>
                    <a:pt x="1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58"/>
            <p:cNvSpPr/>
            <p:nvPr/>
          </p:nvSpPr>
          <p:spPr>
            <a:xfrm>
              <a:off x="1998360" y="3290760"/>
              <a:ext cx="123480" cy="1476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cubicBezTo>
                    <a:pt x="3" y="8"/>
                    <a:pt x="7" y="4"/>
                    <a:pt x="1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59"/>
            <p:cNvSpPr/>
            <p:nvPr/>
          </p:nvSpPr>
          <p:spPr>
            <a:xfrm>
              <a:off x="1519200" y="3241800"/>
              <a:ext cx="222120" cy="222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5" y="7"/>
                    <a:pt x="10" y="13"/>
                    <a:pt x="18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68"/>
            <p:cNvSpPr/>
            <p:nvPr/>
          </p:nvSpPr>
          <p:spPr>
            <a:xfrm>
              <a:off x="3657600" y="3378240"/>
              <a:ext cx="479160" cy="1350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39" h="11">
                  <a:moveTo>
                    <a:pt x="0" y="11"/>
                  </a:moveTo>
                  <a:cubicBezTo>
                    <a:pt x="0" y="9"/>
                    <a:pt x="0" y="6"/>
                    <a:pt x="2" y="4"/>
                  </a:cubicBezTo>
                  <a:cubicBezTo>
                    <a:pt x="3" y="2"/>
                    <a:pt x="6" y="1"/>
                    <a:pt x="8" y="1"/>
                  </a:cubicBezTo>
                  <a:cubicBezTo>
                    <a:pt x="12" y="2"/>
                    <a:pt x="15" y="2"/>
                    <a:pt x="18" y="0"/>
                  </a:cubicBezTo>
                  <a:cubicBezTo>
                    <a:pt x="25" y="4"/>
                    <a:pt x="32" y="6"/>
                    <a:pt x="39" y="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76"/>
          <p:cNvGrpSpPr/>
          <p:nvPr/>
        </p:nvGrpSpPr>
        <p:grpSpPr>
          <a:xfrm>
            <a:off x="2011320" y="3463920"/>
            <a:ext cx="1744560" cy="1463760"/>
            <a:chOff x="2011320" y="3463920"/>
            <a:chExt cx="1744560" cy="1463760"/>
          </a:xfrm>
        </p:grpSpPr>
        <p:sp>
          <p:nvSpPr>
            <p:cNvPr id="317" name="Freeform 569"/>
            <p:cNvSpPr/>
            <p:nvPr/>
          </p:nvSpPr>
          <p:spPr>
            <a:xfrm>
              <a:off x="3559320" y="3512880"/>
              <a:ext cx="196560" cy="1119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16" h="91">
                  <a:moveTo>
                    <a:pt x="8" y="0"/>
                  </a:moveTo>
                  <a:cubicBezTo>
                    <a:pt x="8" y="12"/>
                    <a:pt x="9" y="24"/>
                    <a:pt x="10" y="36"/>
                  </a:cubicBezTo>
                  <a:cubicBezTo>
                    <a:pt x="9" y="45"/>
                    <a:pt x="7" y="54"/>
                    <a:pt x="2" y="62"/>
                  </a:cubicBezTo>
                  <a:cubicBezTo>
                    <a:pt x="1" y="64"/>
                    <a:pt x="0" y="66"/>
                    <a:pt x="1" y="68"/>
                  </a:cubicBezTo>
                  <a:cubicBezTo>
                    <a:pt x="6" y="72"/>
                    <a:pt x="11" y="76"/>
                    <a:pt x="14" y="82"/>
                  </a:cubicBezTo>
                  <a:cubicBezTo>
                    <a:pt x="15" y="85"/>
                    <a:pt x="16" y="88"/>
                    <a:pt x="15" y="9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70"/>
            <p:cNvSpPr/>
            <p:nvPr/>
          </p:nvSpPr>
          <p:spPr>
            <a:xfrm>
              <a:off x="2011320" y="3463920"/>
              <a:ext cx="122040" cy="14637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10" h="119">
                  <a:moveTo>
                    <a:pt x="7" y="0"/>
                  </a:moveTo>
                  <a:cubicBezTo>
                    <a:pt x="4" y="22"/>
                    <a:pt x="4" y="45"/>
                    <a:pt x="9" y="67"/>
                  </a:cubicBezTo>
                  <a:cubicBezTo>
                    <a:pt x="10" y="73"/>
                    <a:pt x="10" y="79"/>
                    <a:pt x="7" y="85"/>
                  </a:cubicBezTo>
                  <a:cubicBezTo>
                    <a:pt x="6" y="88"/>
                    <a:pt x="5" y="92"/>
                    <a:pt x="3" y="95"/>
                  </a:cubicBezTo>
                  <a:cubicBezTo>
                    <a:pt x="2" y="100"/>
                    <a:pt x="1" y="106"/>
                    <a:pt x="1" y="112"/>
                  </a:cubicBezTo>
                  <a:cubicBezTo>
                    <a:pt x="0" y="113"/>
                    <a:pt x="1" y="115"/>
                    <a:pt x="2" y="116"/>
                  </a:cubicBezTo>
                  <a:cubicBezTo>
                    <a:pt x="3" y="118"/>
                    <a:pt x="5" y="119"/>
                    <a:pt x="7" y="11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9"/>
          <p:cNvGrpSpPr/>
          <p:nvPr/>
        </p:nvGrpSpPr>
        <p:grpSpPr>
          <a:xfrm>
            <a:off x="4518000" y="5246640"/>
            <a:ext cx="712800" cy="1033560"/>
            <a:chOff x="4518000" y="5246640"/>
            <a:chExt cx="712800" cy="1033560"/>
          </a:xfrm>
        </p:grpSpPr>
        <p:sp>
          <p:nvSpPr>
            <p:cNvPr id="320" name="Freeform 408"/>
            <p:cNvSpPr/>
            <p:nvPr/>
          </p:nvSpPr>
          <p:spPr>
            <a:xfrm>
              <a:off x="4763880" y="5676840"/>
              <a:ext cx="61920" cy="87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" h="7">
                  <a:moveTo>
                    <a:pt x="0" y="0"/>
                  </a:moveTo>
                  <a:cubicBezTo>
                    <a:pt x="2" y="3"/>
                    <a:pt x="3" y="5"/>
                    <a:pt x="5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09"/>
            <p:cNvSpPr/>
            <p:nvPr/>
          </p:nvSpPr>
          <p:spPr>
            <a:xfrm>
              <a:off x="4566960" y="5665680"/>
              <a:ext cx="74520" cy="98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cubicBezTo>
                    <a:pt x="4" y="5"/>
                    <a:pt x="2" y="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10"/>
            <p:cNvSpPr/>
            <p:nvPr/>
          </p:nvSpPr>
          <p:spPr>
            <a:xfrm>
              <a:off x="4690800" y="5824440"/>
              <a:ext cx="60120" cy="85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5" h="7">
                  <a:moveTo>
                    <a:pt x="5" y="7"/>
                  </a:move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11"/>
            <p:cNvSpPr/>
            <p:nvPr/>
          </p:nvSpPr>
          <p:spPr>
            <a:xfrm>
              <a:off x="4875120" y="5837400"/>
              <a:ext cx="36360" cy="48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1"/>
                    <a:pt x="2" y="2"/>
                    <a:pt x="3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12"/>
            <p:cNvSpPr/>
            <p:nvPr/>
          </p:nvSpPr>
          <p:spPr>
            <a:xfrm flipH="1" flipV="1">
              <a:off x="4727520" y="5578560"/>
              <a:ext cx="6192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13"/>
            <p:cNvSpPr/>
            <p:nvPr/>
          </p:nvSpPr>
          <p:spPr>
            <a:xfrm>
              <a:off x="4605120" y="5813280"/>
              <a:ext cx="60120" cy="72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" h="6">
                  <a:moveTo>
                    <a:pt x="1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5"/>
                    <a:pt x="4" y="6"/>
                    <a:pt x="5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14"/>
            <p:cNvSpPr/>
            <p:nvPr/>
          </p:nvSpPr>
          <p:spPr>
            <a:xfrm flipV="1">
              <a:off x="4616280" y="5578560"/>
              <a:ext cx="11088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15"/>
            <p:cNvSpPr/>
            <p:nvPr/>
          </p:nvSpPr>
          <p:spPr>
            <a:xfrm flipV="1">
              <a:off x="4665600" y="5640480"/>
              <a:ext cx="12384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16"/>
            <p:cNvSpPr/>
            <p:nvPr/>
          </p:nvSpPr>
          <p:spPr>
            <a:xfrm>
              <a:off x="4727520" y="5948280"/>
              <a:ext cx="61920" cy="72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" h="6">
                  <a:moveTo>
                    <a:pt x="1" y="0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5"/>
                    <a:pt x="4" y="6"/>
                    <a:pt x="5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17"/>
            <p:cNvSpPr/>
            <p:nvPr/>
          </p:nvSpPr>
          <p:spPr>
            <a:xfrm flipH="1" flipV="1">
              <a:off x="4849920" y="5714640"/>
              <a:ext cx="61920" cy="6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18"/>
            <p:cNvSpPr/>
            <p:nvPr/>
          </p:nvSpPr>
          <p:spPr>
            <a:xfrm flipV="1">
              <a:off x="4789440" y="5775480"/>
              <a:ext cx="12204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19"/>
            <p:cNvSpPr/>
            <p:nvPr/>
          </p:nvSpPr>
          <p:spPr>
            <a:xfrm flipV="1">
              <a:off x="4740120" y="5715000"/>
              <a:ext cx="109440" cy="23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20"/>
            <p:cNvSpPr/>
            <p:nvPr/>
          </p:nvSpPr>
          <p:spPr>
            <a:xfrm>
              <a:off x="4838760" y="6107400"/>
              <a:ext cx="10800" cy="61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2"/>
                    <a:pt x="0" y="3"/>
                    <a:pt x="1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21"/>
            <p:cNvSpPr/>
            <p:nvPr/>
          </p:nvSpPr>
          <p:spPr>
            <a:xfrm>
              <a:off x="4825800" y="5997600"/>
              <a:ext cx="12600" cy="109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" h="9">
                  <a:moveTo>
                    <a:pt x="1" y="9"/>
                  </a:moveTo>
                  <a:cubicBezTo>
                    <a:pt x="1" y="6"/>
                    <a:pt x="1" y="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22"/>
            <p:cNvSpPr/>
            <p:nvPr/>
          </p:nvSpPr>
          <p:spPr>
            <a:xfrm>
              <a:off x="4800600" y="5972400"/>
              <a:ext cx="25200" cy="25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1"/>
                    <a:pt x="1" y="1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23"/>
            <p:cNvSpPr/>
            <p:nvPr/>
          </p:nvSpPr>
          <p:spPr>
            <a:xfrm>
              <a:off x="4960800" y="5886360"/>
              <a:ext cx="98280" cy="12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1">
                  <a:moveTo>
                    <a:pt x="8" y="1"/>
                  </a:moveTo>
                  <a:cubicBezTo>
                    <a:pt x="5" y="0"/>
                    <a:pt x="3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4"/>
            <p:cNvSpPr/>
            <p:nvPr/>
          </p:nvSpPr>
          <p:spPr>
            <a:xfrm>
              <a:off x="4911840" y="5886360"/>
              <a:ext cx="48960" cy="12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1" y="1"/>
                    <a:pt x="3" y="1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25"/>
            <p:cNvSpPr/>
            <p:nvPr/>
          </p:nvSpPr>
          <p:spPr>
            <a:xfrm>
              <a:off x="4641840" y="5430600"/>
              <a:ext cx="72720" cy="172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72800"/>
                <a:gd name="textAreaBottom" fmla="*/ 172800 h 172800"/>
              </a:gdLst>
              <a:ahLst/>
              <a:rect l="textAreaLeft" t="textAreaTop" r="textAreaRight" b="textAreaBottom"/>
              <a:pathLst>
                <a:path w="6" h="14">
                  <a:moveTo>
                    <a:pt x="0" y="0"/>
                  </a:moveTo>
                  <a:cubicBezTo>
                    <a:pt x="2" y="5"/>
                    <a:pt x="4" y="9"/>
                    <a:pt x="6" y="1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26"/>
            <p:cNvSpPr/>
            <p:nvPr/>
          </p:nvSpPr>
          <p:spPr>
            <a:xfrm>
              <a:off x="4898880" y="5788080"/>
              <a:ext cx="245880" cy="4557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20" h="37">
                  <a:moveTo>
                    <a:pt x="0" y="37"/>
                  </a:moveTo>
                  <a:cubicBezTo>
                    <a:pt x="14" y="31"/>
                    <a:pt x="20" y="15"/>
                    <a:pt x="1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27"/>
            <p:cNvSpPr/>
            <p:nvPr/>
          </p:nvSpPr>
          <p:spPr>
            <a:xfrm>
              <a:off x="4518000" y="5715000"/>
              <a:ext cx="320760" cy="47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6" h="39">
                  <a:moveTo>
                    <a:pt x="0" y="0"/>
                  </a:moveTo>
                  <a:cubicBezTo>
                    <a:pt x="9" y="13"/>
                    <a:pt x="17" y="26"/>
                    <a:pt x="26" y="3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28"/>
            <p:cNvSpPr/>
            <p:nvPr/>
          </p:nvSpPr>
          <p:spPr>
            <a:xfrm>
              <a:off x="4838760" y="6194520"/>
              <a:ext cx="183960" cy="856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5" h="7">
                  <a:moveTo>
                    <a:pt x="0" y="0"/>
                  </a:moveTo>
                  <a:cubicBezTo>
                    <a:pt x="4" y="4"/>
                    <a:pt x="9" y="7"/>
                    <a:pt x="15" y="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29"/>
            <p:cNvSpPr/>
            <p:nvPr/>
          </p:nvSpPr>
          <p:spPr>
            <a:xfrm>
              <a:off x="5023080" y="6145560"/>
              <a:ext cx="135000" cy="134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6" y="10"/>
                    <a:pt x="10" y="6"/>
                    <a:pt x="1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30"/>
            <p:cNvSpPr/>
            <p:nvPr/>
          </p:nvSpPr>
          <p:spPr>
            <a:xfrm>
              <a:off x="5121360" y="5702400"/>
              <a:ext cx="109440" cy="442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9" h="36">
                  <a:moveTo>
                    <a:pt x="3" y="36"/>
                  </a:moveTo>
                  <a:cubicBezTo>
                    <a:pt x="9" y="24"/>
                    <a:pt x="8" y="1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31"/>
            <p:cNvSpPr/>
            <p:nvPr/>
          </p:nvSpPr>
          <p:spPr>
            <a:xfrm>
              <a:off x="4948200" y="5541840"/>
              <a:ext cx="172800" cy="16020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3" y="6"/>
                    <a:pt x="8" y="11"/>
                    <a:pt x="14" y="1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32"/>
            <p:cNvSpPr/>
            <p:nvPr/>
          </p:nvSpPr>
          <p:spPr>
            <a:xfrm>
              <a:off x="4813200" y="5271840"/>
              <a:ext cx="135000" cy="2696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1" h="22">
                  <a:moveTo>
                    <a:pt x="11" y="22"/>
                  </a:moveTo>
                  <a:cubicBezTo>
                    <a:pt x="11" y="14"/>
                    <a:pt x="7" y="6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33"/>
            <p:cNvSpPr/>
            <p:nvPr/>
          </p:nvSpPr>
          <p:spPr>
            <a:xfrm>
              <a:off x="4641840" y="5246640"/>
              <a:ext cx="171360" cy="25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4" h="2">
                  <a:moveTo>
                    <a:pt x="0" y="0"/>
                  </a:moveTo>
                  <a:cubicBezTo>
                    <a:pt x="5" y="2"/>
                    <a:pt x="9" y="2"/>
                    <a:pt x="14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6"/>
          <p:cNvGrpSpPr/>
          <p:nvPr/>
        </p:nvGrpSpPr>
        <p:grpSpPr>
          <a:xfrm>
            <a:off x="2822400" y="4386240"/>
            <a:ext cx="1413000" cy="2471760"/>
            <a:chOff x="2822400" y="4386240"/>
            <a:chExt cx="1413000" cy="2471760"/>
          </a:xfrm>
        </p:grpSpPr>
        <p:sp>
          <p:nvSpPr>
            <p:cNvPr id="347" name="Freeform 405"/>
            <p:cNvSpPr/>
            <p:nvPr/>
          </p:nvSpPr>
          <p:spPr>
            <a:xfrm>
              <a:off x="3485880" y="6168960"/>
              <a:ext cx="233280" cy="2584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9" h="21">
                  <a:moveTo>
                    <a:pt x="0" y="21"/>
                  </a:moveTo>
                  <a:cubicBezTo>
                    <a:pt x="8" y="16"/>
                    <a:pt x="15" y="9"/>
                    <a:pt x="1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06"/>
            <p:cNvSpPr/>
            <p:nvPr/>
          </p:nvSpPr>
          <p:spPr>
            <a:xfrm>
              <a:off x="4002120" y="5948280"/>
              <a:ext cx="147600" cy="4428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2" h="36">
                  <a:moveTo>
                    <a:pt x="0" y="0"/>
                  </a:moveTo>
                  <a:cubicBezTo>
                    <a:pt x="4" y="13"/>
                    <a:pt x="8" y="25"/>
                    <a:pt x="12" y="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07"/>
            <p:cNvSpPr/>
            <p:nvPr/>
          </p:nvSpPr>
          <p:spPr>
            <a:xfrm>
              <a:off x="3485880" y="5702400"/>
              <a:ext cx="183960" cy="40464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" h="33">
                  <a:moveTo>
                    <a:pt x="0" y="33"/>
                  </a:moveTo>
                  <a:cubicBezTo>
                    <a:pt x="9" y="25"/>
                    <a:pt x="15" y="13"/>
                    <a:pt x="1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72"/>
            <p:cNvSpPr/>
            <p:nvPr/>
          </p:nvSpPr>
          <p:spPr>
            <a:xfrm>
              <a:off x="2822400" y="4386240"/>
              <a:ext cx="1143360" cy="601560"/>
            </a:xfrm>
            <a:custGeom>
              <a:avLst/>
              <a:gdLst>
                <a:gd name="textAreaLeft" fmla="*/ 0 w 1143360"/>
                <a:gd name="textAreaRight" fmla="*/ 1143720 w 114336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93" h="49">
                  <a:moveTo>
                    <a:pt x="93" y="49"/>
                  </a:moveTo>
                  <a:cubicBezTo>
                    <a:pt x="91" y="43"/>
                    <a:pt x="89" y="38"/>
                    <a:pt x="87" y="33"/>
                  </a:cubicBezTo>
                  <a:cubicBezTo>
                    <a:pt x="85" y="27"/>
                    <a:pt x="81" y="23"/>
                    <a:pt x="75" y="20"/>
                  </a:cubicBezTo>
                  <a:cubicBezTo>
                    <a:pt x="69" y="13"/>
                    <a:pt x="60" y="8"/>
                    <a:pt x="50" y="6"/>
                  </a:cubicBezTo>
                  <a:cubicBezTo>
                    <a:pt x="34" y="1"/>
                    <a:pt x="17" y="0"/>
                    <a:pt x="0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73"/>
            <p:cNvSpPr/>
            <p:nvPr/>
          </p:nvSpPr>
          <p:spPr>
            <a:xfrm>
              <a:off x="4186440" y="5689440"/>
              <a:ext cx="48960" cy="3445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4" h="28">
                  <a:moveTo>
                    <a:pt x="0" y="28"/>
                  </a:moveTo>
                  <a:cubicBezTo>
                    <a:pt x="1" y="28"/>
                    <a:pt x="2" y="28"/>
                    <a:pt x="3" y="27"/>
                  </a:cubicBezTo>
                  <a:cubicBezTo>
                    <a:pt x="4" y="26"/>
                    <a:pt x="4" y="25"/>
                    <a:pt x="4" y="24"/>
                  </a:cubicBezTo>
                  <a:cubicBezTo>
                    <a:pt x="4" y="16"/>
                    <a:pt x="4" y="8"/>
                    <a:pt x="3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74"/>
            <p:cNvSpPr/>
            <p:nvPr/>
          </p:nvSpPr>
          <p:spPr>
            <a:xfrm>
              <a:off x="4100760" y="5824440"/>
              <a:ext cx="98280" cy="1033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8" h="84">
                  <a:moveTo>
                    <a:pt x="0" y="84"/>
                  </a:moveTo>
                  <a:cubicBezTo>
                    <a:pt x="1" y="72"/>
                    <a:pt x="2" y="61"/>
                    <a:pt x="5" y="50"/>
                  </a:cubicBezTo>
                  <a:cubicBezTo>
                    <a:pt x="4" y="43"/>
                    <a:pt x="5" y="37"/>
                    <a:pt x="8" y="32"/>
                  </a:cubicBezTo>
                  <a:cubicBezTo>
                    <a:pt x="8" y="27"/>
                    <a:pt x="8" y="22"/>
                    <a:pt x="7" y="17"/>
                  </a:cubicBezTo>
                  <a:cubicBezTo>
                    <a:pt x="7" y="12"/>
                    <a:pt x="6" y="6"/>
                    <a:pt x="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75"/>
            <p:cNvSpPr/>
            <p:nvPr/>
          </p:nvSpPr>
          <p:spPr>
            <a:xfrm>
              <a:off x="3387600" y="6107040"/>
              <a:ext cx="122040" cy="750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0" h="61">
                  <a:moveTo>
                    <a:pt x="0" y="61"/>
                  </a:moveTo>
                  <a:cubicBezTo>
                    <a:pt x="0" y="49"/>
                    <a:pt x="3" y="37"/>
                    <a:pt x="8" y="26"/>
                  </a:cubicBezTo>
                  <a:cubicBezTo>
                    <a:pt x="10" y="17"/>
                    <a:pt x="10" y="8"/>
                    <a:pt x="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76"/>
            <p:cNvSpPr/>
            <p:nvPr/>
          </p:nvSpPr>
          <p:spPr>
            <a:xfrm>
              <a:off x="3079440" y="5321160"/>
              <a:ext cx="442800" cy="749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36" h="61">
                  <a:moveTo>
                    <a:pt x="0" y="0"/>
                  </a:moveTo>
                  <a:cubicBezTo>
                    <a:pt x="4" y="16"/>
                    <a:pt x="14" y="29"/>
                    <a:pt x="28" y="37"/>
                  </a:cubicBezTo>
                  <a:cubicBezTo>
                    <a:pt x="30" y="45"/>
                    <a:pt x="32" y="53"/>
                    <a:pt x="36" y="6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5"/>
          <p:cNvGrpSpPr/>
          <p:nvPr/>
        </p:nvGrpSpPr>
        <p:grpSpPr>
          <a:xfrm>
            <a:off x="2084400" y="4300560"/>
            <a:ext cx="2557440" cy="1500120"/>
            <a:chOff x="2084400" y="4300560"/>
            <a:chExt cx="2557440" cy="1500120"/>
          </a:xfrm>
        </p:grpSpPr>
        <p:sp>
          <p:nvSpPr>
            <p:cNvPr id="356" name="Freeform 434"/>
            <p:cNvSpPr/>
            <p:nvPr/>
          </p:nvSpPr>
          <p:spPr>
            <a:xfrm>
              <a:off x="4469040" y="5222880"/>
              <a:ext cx="172800" cy="57780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14" h="47">
                  <a:moveTo>
                    <a:pt x="0" y="47"/>
                  </a:moveTo>
                  <a:cubicBezTo>
                    <a:pt x="8" y="32"/>
                    <a:pt x="13" y="16"/>
                    <a:pt x="1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35"/>
            <p:cNvSpPr/>
            <p:nvPr/>
          </p:nvSpPr>
          <p:spPr>
            <a:xfrm>
              <a:off x="3732120" y="5246640"/>
              <a:ext cx="687240" cy="16020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6" h="13">
                  <a:moveTo>
                    <a:pt x="0" y="10"/>
                  </a:moveTo>
                  <a:cubicBezTo>
                    <a:pt x="19" y="13"/>
                    <a:pt x="39" y="10"/>
                    <a:pt x="5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36"/>
            <p:cNvSpPr/>
            <p:nvPr/>
          </p:nvSpPr>
          <p:spPr>
            <a:xfrm>
              <a:off x="2698560" y="4459320"/>
              <a:ext cx="258480" cy="619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" h="5">
                  <a:moveTo>
                    <a:pt x="0" y="0"/>
                  </a:moveTo>
                  <a:cubicBezTo>
                    <a:pt x="7" y="2"/>
                    <a:pt x="14" y="4"/>
                    <a:pt x="21" y="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37"/>
            <p:cNvSpPr/>
            <p:nvPr/>
          </p:nvSpPr>
          <p:spPr>
            <a:xfrm>
              <a:off x="2773440" y="4619520"/>
              <a:ext cx="318960" cy="14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6" h="1588">
                  <a:moveTo>
                    <a:pt x="26" y="0"/>
                  </a:moveTo>
                  <a:cubicBezTo>
                    <a:pt x="17" y="0"/>
                    <a:pt x="8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38"/>
            <p:cNvSpPr/>
            <p:nvPr/>
          </p:nvSpPr>
          <p:spPr>
            <a:xfrm>
              <a:off x="3068640" y="4767120"/>
              <a:ext cx="257040" cy="745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1" h="6">
                  <a:moveTo>
                    <a:pt x="21" y="0"/>
                  </a:moveTo>
                  <a:cubicBezTo>
                    <a:pt x="13" y="0"/>
                    <a:pt x="6" y="2"/>
                    <a:pt x="0" y="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39"/>
            <p:cNvSpPr/>
            <p:nvPr/>
          </p:nvSpPr>
          <p:spPr>
            <a:xfrm>
              <a:off x="4211640" y="5000760"/>
              <a:ext cx="430200" cy="2221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35" h="18">
                  <a:moveTo>
                    <a:pt x="0" y="0"/>
                  </a:moveTo>
                  <a:cubicBezTo>
                    <a:pt x="11" y="8"/>
                    <a:pt x="23" y="13"/>
                    <a:pt x="35" y="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40"/>
            <p:cNvSpPr/>
            <p:nvPr/>
          </p:nvSpPr>
          <p:spPr>
            <a:xfrm>
              <a:off x="3706920" y="4976640"/>
              <a:ext cx="504720" cy="237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2">
                  <a:moveTo>
                    <a:pt x="0" y="0"/>
                  </a:moveTo>
                  <a:cubicBezTo>
                    <a:pt x="14" y="1"/>
                    <a:pt x="27" y="2"/>
                    <a:pt x="41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41"/>
            <p:cNvSpPr/>
            <p:nvPr/>
          </p:nvSpPr>
          <p:spPr>
            <a:xfrm>
              <a:off x="2822400" y="4422600"/>
              <a:ext cx="1020600" cy="52848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83" h="43">
                  <a:moveTo>
                    <a:pt x="83" y="43"/>
                  </a:moveTo>
                  <a:cubicBezTo>
                    <a:pt x="56" y="28"/>
                    <a:pt x="28" y="1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42"/>
            <p:cNvSpPr/>
            <p:nvPr/>
          </p:nvSpPr>
          <p:spPr>
            <a:xfrm>
              <a:off x="2662200" y="5160960"/>
              <a:ext cx="1806480" cy="639720"/>
            </a:xfrm>
            <a:custGeom>
              <a:avLst/>
              <a:gdLst>
                <a:gd name="textAreaLeft" fmla="*/ 0 w 1806480"/>
                <a:gd name="textAreaRight" fmla="*/ 1806840 w 180648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47" h="52">
                  <a:moveTo>
                    <a:pt x="147" y="52"/>
                  </a:moveTo>
                  <a:cubicBezTo>
                    <a:pt x="99" y="32"/>
                    <a:pt x="50" y="15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43"/>
            <p:cNvSpPr/>
            <p:nvPr/>
          </p:nvSpPr>
          <p:spPr>
            <a:xfrm>
              <a:off x="2084400" y="4705200"/>
              <a:ext cx="37800" cy="528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" h="43">
                  <a:moveTo>
                    <a:pt x="2" y="0"/>
                  </a:moveTo>
                  <a:cubicBezTo>
                    <a:pt x="0" y="14"/>
                    <a:pt x="0" y="29"/>
                    <a:pt x="3" y="4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44"/>
            <p:cNvSpPr/>
            <p:nvPr/>
          </p:nvSpPr>
          <p:spPr>
            <a:xfrm>
              <a:off x="2122200" y="5234040"/>
              <a:ext cx="871560" cy="2840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71" h="23">
                  <a:moveTo>
                    <a:pt x="0" y="0"/>
                  </a:moveTo>
                  <a:cubicBezTo>
                    <a:pt x="18" y="21"/>
                    <a:pt x="49" y="23"/>
                    <a:pt x="71" y="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77"/>
            <p:cNvSpPr/>
            <p:nvPr/>
          </p:nvSpPr>
          <p:spPr>
            <a:xfrm>
              <a:off x="2109600" y="4300560"/>
              <a:ext cx="712800" cy="40464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58" h="33">
                  <a:moveTo>
                    <a:pt x="58" y="10"/>
                  </a:moveTo>
                  <a:cubicBezTo>
                    <a:pt x="46" y="1"/>
                    <a:pt x="30" y="0"/>
                    <a:pt x="18" y="9"/>
                  </a:cubicBezTo>
                  <a:cubicBezTo>
                    <a:pt x="10" y="15"/>
                    <a:pt x="3" y="23"/>
                    <a:pt x="0" y="3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8"/>
          <p:cNvGrpSpPr/>
          <p:nvPr/>
        </p:nvGrpSpPr>
        <p:grpSpPr>
          <a:xfrm>
            <a:off x="142920" y="3230640"/>
            <a:ext cx="7215120" cy="3627360"/>
            <a:chOff x="142920" y="3230640"/>
            <a:chExt cx="7215120" cy="3627360"/>
          </a:xfrm>
        </p:grpSpPr>
        <p:sp>
          <p:nvSpPr>
            <p:cNvPr id="369" name="Freeform 392"/>
            <p:cNvSpPr/>
            <p:nvPr/>
          </p:nvSpPr>
          <p:spPr>
            <a:xfrm>
              <a:off x="6326280" y="3230640"/>
              <a:ext cx="36360" cy="363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3" y="1"/>
                    <a:pt x="1" y="0"/>
                    <a:pt x="0" y="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130"/>
            <p:cNvGrpSpPr/>
            <p:nvPr/>
          </p:nvGrpSpPr>
          <p:grpSpPr>
            <a:xfrm>
              <a:off x="142920" y="3267000"/>
              <a:ext cx="7215120" cy="3591000"/>
              <a:chOff x="142920" y="3267000"/>
              <a:chExt cx="7215120" cy="3591000"/>
            </a:xfrm>
          </p:grpSpPr>
          <p:sp>
            <p:nvSpPr>
              <p:cNvPr id="371" name="Line 551"/>
              <p:cNvSpPr/>
              <p:nvPr/>
            </p:nvSpPr>
            <p:spPr>
              <a:xfrm flipH="1" flipV="1">
                <a:off x="511200" y="5947920"/>
                <a:ext cx="85680" cy="89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Group 132"/>
              <p:cNvGrpSpPr/>
              <p:nvPr/>
            </p:nvGrpSpPr>
            <p:grpSpPr>
              <a:xfrm>
                <a:off x="142920" y="3267000"/>
                <a:ext cx="7215120" cy="3591000"/>
                <a:chOff x="142920" y="3267000"/>
                <a:chExt cx="7215120" cy="3591000"/>
              </a:xfrm>
            </p:grpSpPr>
            <p:sp>
              <p:nvSpPr>
                <p:cNvPr id="373" name="Line 389"/>
                <p:cNvSpPr/>
                <p:nvPr/>
              </p:nvSpPr>
              <p:spPr>
                <a:xfrm flipH="1" flipV="1">
                  <a:off x="401400" y="4705200"/>
                  <a:ext cx="72720" cy="77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90"/>
                <p:cNvSpPr/>
                <p:nvPr/>
              </p:nvSpPr>
              <p:spPr>
                <a:xfrm flipV="1">
                  <a:off x="3817800" y="4533840"/>
                  <a:ext cx="2703600" cy="14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94"/>
                <p:cNvSpPr/>
                <p:nvPr/>
              </p:nvSpPr>
              <p:spPr>
                <a:xfrm flipV="1">
                  <a:off x="4284720" y="4927320"/>
                  <a:ext cx="2373120" cy="122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6"/>
                <p:cNvSpPr/>
                <p:nvPr/>
              </p:nvSpPr>
              <p:spPr>
                <a:xfrm flipV="1">
                  <a:off x="4997520" y="5456160"/>
                  <a:ext cx="232416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97"/>
                <p:cNvSpPr/>
                <p:nvPr/>
              </p:nvSpPr>
              <p:spPr>
                <a:xfrm flipH="1" flipV="1">
                  <a:off x="6645240" y="4546440"/>
                  <a:ext cx="237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98"/>
                <p:cNvSpPr/>
                <p:nvPr/>
              </p:nvSpPr>
              <p:spPr>
                <a:xfrm flipH="1" flipV="1">
                  <a:off x="6951600" y="4890600"/>
                  <a:ext cx="12600" cy="145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99"/>
                <p:cNvSpPr/>
                <p:nvPr/>
              </p:nvSpPr>
              <p:spPr>
                <a:xfrm flipH="1" flipV="1">
                  <a:off x="7234560" y="4803840"/>
                  <a:ext cx="25200" cy="44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00"/>
                <p:cNvSpPr/>
                <p:nvPr/>
              </p:nvSpPr>
              <p:spPr>
                <a:xfrm flipH="1" flipV="1">
                  <a:off x="549000" y="3857400"/>
                  <a:ext cx="10800" cy="138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01"/>
                <p:cNvSpPr/>
                <p:nvPr/>
              </p:nvSpPr>
              <p:spPr>
                <a:xfrm>
                  <a:off x="461880" y="5886360"/>
                  <a:ext cx="61560" cy="619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cubicBezTo>
                        <a:pt x="0" y="2"/>
                        <a:pt x="2" y="5"/>
                        <a:pt x="5" y="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02"/>
                <p:cNvSpPr/>
                <p:nvPr/>
              </p:nvSpPr>
              <p:spPr>
                <a:xfrm>
                  <a:off x="7321680" y="5332320"/>
                  <a:ext cx="36360" cy="12348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123480"/>
                    <a:gd name="textAreaBottom" fmla="*/ 123840 h 123480"/>
                  </a:gdLst>
                  <a:ahLst/>
                  <a:rect l="textAreaLeft" t="textAreaTop" r="textAreaRight" b="textAreaBottom"/>
                  <a:pathLst>
                    <a:path w="3" h="10">
                      <a:moveTo>
                        <a:pt x="0" y="10"/>
                      </a:moveTo>
                      <a:cubicBezTo>
                        <a:pt x="2" y="9"/>
                        <a:pt x="3" y="7"/>
                        <a:pt x="3" y="5"/>
                      </a:cubicBezTo>
                      <a:cubicBezTo>
                        <a:pt x="3" y="3"/>
                        <a:pt x="2" y="1"/>
                        <a:pt x="1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403"/>
                <p:cNvSpPr/>
                <p:nvPr/>
              </p:nvSpPr>
              <p:spPr>
                <a:xfrm>
                  <a:off x="6658200" y="4927680"/>
                  <a:ext cx="674640" cy="404640"/>
                </a:xfrm>
                <a:custGeom>
                  <a:avLst/>
                  <a:gdLst>
                    <a:gd name="textAreaLeft" fmla="*/ 0 w 674640"/>
                    <a:gd name="textAreaRight" fmla="*/ 675000 w 67464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55" h="33">
                      <a:moveTo>
                        <a:pt x="55" y="33"/>
                      </a:moveTo>
                      <a:cubicBezTo>
                        <a:pt x="41" y="16"/>
                        <a:pt x="21" y="4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540"/>
                <p:cNvSpPr/>
                <p:nvPr/>
              </p:nvSpPr>
              <p:spPr>
                <a:xfrm>
                  <a:off x="425160" y="5246640"/>
                  <a:ext cx="134640" cy="63972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639720"/>
                    <a:gd name="textAreaBottom" fmla="*/ 640080 h 639720"/>
                  </a:gdLst>
                  <a:ahLst/>
                  <a:rect l="textAreaLeft" t="textAreaTop" r="textAreaRight" b="textAreaBottom"/>
                  <a:pathLst>
                    <a:path w="11" h="52">
                      <a:moveTo>
                        <a:pt x="11" y="0"/>
                      </a:moveTo>
                      <a:cubicBezTo>
                        <a:pt x="3" y="16"/>
                        <a:pt x="0" y="34"/>
                        <a:pt x="3" y="52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41"/>
                <p:cNvSpPr/>
                <p:nvPr/>
              </p:nvSpPr>
              <p:spPr>
                <a:xfrm>
                  <a:off x="6645240" y="4373280"/>
                  <a:ext cx="61560" cy="17280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5" h="14">
                      <a:moveTo>
                        <a:pt x="5" y="0"/>
                      </a:moveTo>
                      <a:cubicBezTo>
                        <a:pt x="2" y="4"/>
                        <a:pt x="0" y="9"/>
                        <a:pt x="0" y="1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542"/>
                <p:cNvSpPr/>
                <p:nvPr/>
              </p:nvSpPr>
              <p:spPr>
                <a:xfrm>
                  <a:off x="6707160" y="4287600"/>
                  <a:ext cx="318960" cy="85680"/>
                </a:xfrm>
                <a:custGeom>
                  <a:avLst/>
                  <a:gdLst>
                    <a:gd name="textAreaLeft" fmla="*/ 0 w 318960"/>
                    <a:gd name="textAreaRight" fmla="*/ 319320 w 3189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26" h="7">
                      <a:moveTo>
                        <a:pt x="26" y="6"/>
                      </a:moveTo>
                      <a:cubicBezTo>
                        <a:pt x="23" y="2"/>
                        <a:pt x="18" y="0"/>
                        <a:pt x="13" y="0"/>
                      </a:cubicBezTo>
                      <a:cubicBezTo>
                        <a:pt x="8" y="0"/>
                        <a:pt x="3" y="3"/>
                        <a:pt x="0" y="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543"/>
                <p:cNvSpPr/>
                <p:nvPr/>
              </p:nvSpPr>
              <p:spPr>
                <a:xfrm>
                  <a:off x="7026480" y="4360680"/>
                  <a:ext cx="207720" cy="442800"/>
                </a:xfrm>
                <a:custGeom>
                  <a:avLst/>
                  <a:gdLst>
                    <a:gd name="textAreaLeft" fmla="*/ 0 w 207720"/>
                    <a:gd name="textAreaRight" fmla="*/ 208080 w 20772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7" h="36">
                      <a:moveTo>
                        <a:pt x="17" y="36"/>
                      </a:moveTo>
                      <a:cubicBezTo>
                        <a:pt x="16" y="22"/>
                        <a:pt x="10" y="9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44"/>
                <p:cNvSpPr/>
                <p:nvPr/>
              </p:nvSpPr>
              <p:spPr>
                <a:xfrm>
                  <a:off x="6718320" y="4497120"/>
                  <a:ext cx="61560" cy="856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5" h="7">
                      <a:moveTo>
                        <a:pt x="5" y="0"/>
                      </a:move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3"/>
                        <a:pt x="0" y="5"/>
                        <a:pt x="0" y="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45"/>
                <p:cNvSpPr/>
                <p:nvPr/>
              </p:nvSpPr>
              <p:spPr>
                <a:xfrm>
                  <a:off x="6780240" y="4497120"/>
                  <a:ext cx="98280" cy="10944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8" h="9">
                      <a:moveTo>
                        <a:pt x="8" y="9"/>
                      </a:moveTo>
                      <a:cubicBezTo>
                        <a:pt x="6" y="5"/>
                        <a:pt x="4" y="2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46"/>
                <p:cNvSpPr/>
                <p:nvPr/>
              </p:nvSpPr>
              <p:spPr>
                <a:xfrm>
                  <a:off x="6878880" y="4606920"/>
                  <a:ext cx="72720" cy="28404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284040"/>
                    <a:gd name="textAreaBottom" fmla="*/ 284400 h 284040"/>
                  </a:gdLst>
                  <a:ahLst/>
                  <a:rect l="textAreaLeft" t="textAreaTop" r="textAreaRight" b="textAreaBottom"/>
                  <a:pathLst>
                    <a:path w="6" h="23">
                      <a:moveTo>
                        <a:pt x="6" y="23"/>
                      </a:moveTo>
                      <a:cubicBezTo>
                        <a:pt x="6" y="15"/>
                        <a:pt x="3" y="7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47"/>
                <p:cNvSpPr/>
                <p:nvPr/>
              </p:nvSpPr>
              <p:spPr>
                <a:xfrm flipH="1" flipV="1">
                  <a:off x="6707160" y="5505120"/>
                  <a:ext cx="47520" cy="995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48"/>
                <p:cNvSpPr/>
                <p:nvPr/>
              </p:nvSpPr>
              <p:spPr>
                <a:xfrm flipH="1" flipV="1">
                  <a:off x="7000560" y="5479920"/>
                  <a:ext cx="98280" cy="13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49"/>
                <p:cNvSpPr/>
                <p:nvPr/>
              </p:nvSpPr>
              <p:spPr>
                <a:xfrm flipH="1" flipV="1">
                  <a:off x="7272360" y="5469120"/>
                  <a:ext cx="85680" cy="1388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50"/>
                <p:cNvSpPr/>
                <p:nvPr/>
              </p:nvSpPr>
              <p:spPr>
                <a:xfrm>
                  <a:off x="142920" y="4595760"/>
                  <a:ext cx="258480" cy="109440"/>
                </a:xfrm>
                <a:custGeom>
                  <a:avLst/>
                  <a:gdLst>
                    <a:gd name="textAreaLeft" fmla="*/ 0 w 258480"/>
                    <a:gd name="textAreaRight" fmla="*/ 258840 w 2584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21" h="9">
                      <a:moveTo>
                        <a:pt x="21" y="9"/>
                      </a:moveTo>
                      <a:cubicBezTo>
                        <a:pt x="20" y="4"/>
                        <a:pt x="16" y="0"/>
                        <a:pt x="11" y="0"/>
                      </a:cubicBezTo>
                      <a:cubicBezTo>
                        <a:pt x="6" y="0"/>
                        <a:pt x="1" y="4"/>
                        <a:pt x="0" y="9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52"/>
                <p:cNvSpPr/>
                <p:nvPr/>
              </p:nvSpPr>
              <p:spPr>
                <a:xfrm flipH="1" flipV="1">
                  <a:off x="142920" y="4704840"/>
                  <a:ext cx="147600" cy="214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571"/>
                <p:cNvSpPr/>
                <p:nvPr/>
              </p:nvSpPr>
              <p:spPr>
                <a:xfrm>
                  <a:off x="6362640" y="3267000"/>
                  <a:ext cx="295200" cy="1660680"/>
                </a:xfrm>
                <a:custGeom>
                  <a:avLst/>
                  <a:gdLst>
                    <a:gd name="textAreaLeft" fmla="*/ 0 w 295200"/>
                    <a:gd name="textAreaRight" fmla="*/ 295560 w 295200"/>
                    <a:gd name="textAreaTop" fmla="*/ 0 h 1660680"/>
                    <a:gd name="textAreaBottom" fmla="*/ 1661040 h 1660680"/>
                  </a:gdLst>
                  <a:ahLst/>
                  <a:rect l="textAreaLeft" t="textAreaTop" r="textAreaRight" b="textAreaBottom"/>
                  <a:pathLst>
                    <a:path w="24" h="135">
                      <a:moveTo>
                        <a:pt x="0" y="0"/>
                      </a:moveTo>
                      <a:lnTo>
                        <a:pt x="15" y="119"/>
                      </a:lnTo>
                      <a:cubicBezTo>
                        <a:pt x="16" y="125"/>
                        <a:pt x="19" y="131"/>
                        <a:pt x="24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直接连接符 192"/>
                <p:cNvSpPr/>
                <p:nvPr/>
              </p:nvSpPr>
              <p:spPr>
                <a:xfrm flipV="1">
                  <a:off x="560160" y="5143320"/>
                  <a:ext cx="1511280" cy="102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直接连接符 195"/>
                <p:cNvSpPr/>
                <p:nvPr/>
              </p:nvSpPr>
              <p:spPr>
                <a:xfrm flipV="1">
                  <a:off x="511200" y="5786280"/>
                  <a:ext cx="2846160" cy="161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直接连接符 197"/>
                <p:cNvSpPr/>
                <p:nvPr/>
              </p:nvSpPr>
              <p:spPr>
                <a:xfrm flipH="1">
                  <a:off x="571320" y="4786200"/>
                  <a:ext cx="1428480" cy="71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0" name="Text Box 160"/>
          <p:cNvSpPr/>
          <p:nvPr/>
        </p:nvSpPr>
        <p:spPr>
          <a:xfrm>
            <a:off x="179280" y="-22320"/>
            <a:ext cx="609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Do what you want to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61"/>
          <p:cNvSpPr/>
          <p:nvPr/>
        </p:nvSpPr>
        <p:spPr>
          <a:xfrm>
            <a:off x="1403280" y="733320"/>
            <a:ext cx="75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and chase your dreams !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41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547640" y="4510080"/>
            <a:ext cx="587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书体坊赵九江钢笔行书"/>
              </a:rPr>
              <a:t>谢谢观赏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5:59:20Z</dcterms:created>
  <dc:creator>Administrator</dc:creator>
  <dc:description/>
  <cp:keywords/>
  <dc:language>en-US</dc:language>
  <cp:lastModifiedBy>a</cp:lastModifiedBy>
  <dcterms:modified xsi:type="dcterms:W3CDTF">2014-07-31T04:29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