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F0FE-258A-488B-9150-0EE4B993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1654-2BE3-4F51-855E-62AACCE2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52E820-DA05-46A7-BD27-8462C5A7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0F51FE-DB17-43DF-8256-579C1A87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C4ADC-CF88-4269-A62A-78759DA16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E7002-5C06-44E5-B50D-3C57DDB9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0E35D-8E73-4DDE-95F0-6F37B419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6FD754-3CEC-487A-A560-6E6B9B89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D21505-E702-4770-8EB4-500FD9907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604C5-ACEF-4418-8D7A-51093A05C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2587C-121F-47CA-A761-C1ECEA0B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444D0A-593C-417F-9004-161D45EB0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B2AD-EAB0-46B1-9476-B49577ADE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A818C4-20AA-4C75-920A-FE15C4DD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F1963F-F53E-4B6E-BEF2-6BF588B0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085417-88ED-497E-A0DB-E23F709D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90D0B-B403-413F-B637-90F8DD18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A9C3B-5A33-45B9-AE54-C977B82A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07A8C-FD94-4D9E-8324-7AC5B906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68073B-AA95-407F-9B2E-6619A275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0A7ECF-39C2-49C4-B1E5-033AA14C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53F8BE-C4E0-4607-AD4F-EDEB96DA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1A062-CD81-4573-B512-4E9A27276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D5E0-FB2C-4C13-B317-A88950CBE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EE327A-EE4C-4013-BF24-C133255B1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A31E4-6418-4764-B063-CB2726937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D1373-9F2A-46EE-9748-E2B4CC74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C28FE-5365-4967-9B4D-6FA65A934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5E3BF-2C55-463A-A4F1-166A221A5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6C009-29EE-4EF7-B35E-9AED99313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7FE33-4BE3-409E-9C04-A07C5FF6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FB2EE7-ED0A-4F0E-B549-B451E5FA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0396D-9D43-44A8-AD5C-C19CBF22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B5780-300C-41E8-96F3-37E81144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EF9D-B2F8-4DC4-B734-F12470D0A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373DF5-510F-44AD-BCEE-7CC9E1B9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E6FD1-534E-4EAB-98AE-AE9B23044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2A35D8-7F0C-4EFB-871D-3B8867AC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D613F-2EAF-4FF3-8687-0DD9F641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B83517-A6E8-4F2A-92D6-F99E826B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E9CEE-4045-403D-BEA2-1868BF9A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00F9C-33F9-4143-A455-B3D33392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3E4C0-9FA3-484F-B548-A18E4E57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2E5B7-11A3-455F-AFDC-0CF22B15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F185A-F00B-4CB1-A0E7-6172551A0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CDC0-F2FD-4EAA-BDC2-67062247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1DAEC1-5DC9-41E7-9896-806D69CB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62EED8-E0FE-420A-83F8-35769733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A8BD64-6860-4297-82A3-1E877F13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CE75F1-F190-400A-BAD2-1C5D6040F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86C65E-5D0E-4DF4-A467-64CFF2993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96BB64-B503-4DF3-AEFB-F5DF2A91C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23EEC2-8244-4A2A-BC7B-3911B5D2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401316-674A-4B1F-9F82-BDF77493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7B623D-8D45-4103-8C6E-110B42A8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899FF1-0E40-409C-9878-65EE5A11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608F-D157-4F73-A28E-901A571F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713514-BA11-41E9-859D-FF15A6AB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BF0425-8089-4DBD-84CF-D629DE25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2D9112-4CE4-4E92-931E-C6D64ADC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5ECC47-3907-4B24-815B-35D8F44A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289417-8ECF-47BA-B2CE-7C661E28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68A714-09D4-49BE-B31A-3738B3734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1D27B8-BDB1-48A4-AE45-90FCB5182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A7B7-CB54-43CC-8E9C-EF49760E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6C20-8900-49F7-A663-04548467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B2DF-6FA1-4A20-A4F8-DA55E815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D54C-51FE-424E-9A85-A82750CC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77DC-3F9E-4813-A7BC-7A1E2669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6FE0-8823-48FA-AB53-CAE30374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B15C-24BA-4404-BB9F-FEF754D3C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1F5E-7544-4AB9-932B-D0C7BC30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92C0-58E1-40E3-AE2F-46F536C82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3CD1-6EA0-4FBD-B33D-5C2763ED5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6C2C1-6942-4A4C-A5DA-B3D7FAB3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C6DC7-8A47-47DA-9819-DE076709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D5AE4-9DB8-4190-B695-1B7B55AB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E421E-6B99-408C-8D14-BFEF6069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FFBDD-3F60-494D-AA0A-34E8D2FE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E426-A61D-4F3C-9A0D-F51C3F10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A42B2-17BB-46BB-976E-C37C20691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B5FF1-A342-4780-9D9E-E5D765B2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DFD6F-0C2B-4F6C-BEB0-67369FAD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A0AFA-2390-4440-9CA3-FD6BA691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716D7-7566-4334-9697-BD634D76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02BB1-C203-4795-A6F0-3C2085825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BB498-462B-4034-B6F5-38305E135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9BFD8-5D70-4B95-BD53-244699D26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83ACD-D4A1-4DAD-89C3-3563C725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8888C-7A54-47C3-82A8-E04D2A1A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FE53-7572-4103-B32E-7B164A95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18E69-4FEA-44D2-969A-89AC2DD5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501A1-34B0-428B-975F-D2AD231A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599BE-6CD0-4B51-8E9E-D364792C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C8255-0E5F-4CE2-9627-A74C7E43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68A2C-79A9-492B-9071-DD2DC99D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77604-6C74-436A-9358-08F5D61E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95037-6816-4F47-9DF9-DCCF5B4D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160D8-37D0-4C4B-B793-A6A7BB86F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152E5-925E-48B0-8192-D380C74E5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EDA79-5957-4F66-ADD4-BF114B519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54F4-4BD3-4DE7-A06D-B167C3E1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42399-2F7F-4A87-A61D-69B9E3818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00BD9-C172-48B7-8835-EBAA49D0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83522-4EEB-4DEC-8C6F-30D9D07E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6228A-0645-4E21-99C4-DDF75535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35E20-AF80-4814-88CE-8C780D5D9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7C129-A78D-4550-9494-A8A99576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7A7AC-7F1A-432A-9185-808FA2E1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0CA86-ADBB-4993-94AC-91CF9D51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498E4-8F7B-4155-AE39-59E724FAE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040CA-F375-40BB-BF07-B69AE5371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918D-8650-4D60-819A-5E70275F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27B76-62E6-4281-9301-662EB97F2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CF767-8EB9-4DE0-9BA9-FDCB8CB46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F78C9-E9B1-4035-AF3B-2986ADE5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EEF648-50D6-4CCA-8B99-2483E8AA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65791-4118-4430-AC35-56253D322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C50AC-592D-44ED-8276-4EFC6A6E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18A64-B4E1-4971-BC9D-0FE4D811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AB6A7-0BC3-49DC-AEBF-C519B999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554E8-B52F-4ABD-8BA3-47FC3168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1EA9F-E57B-4940-952B-AE4FD3ED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F311-7214-46C1-A243-B948E9C6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C6443-E785-463E-8D07-826310B7D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155E1-FA64-46D6-B1DA-0987E5BD6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67987-27B9-4D5B-B97C-C159F8B3A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1B7E2-A35F-4DA2-BA9C-BBCB16DB5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C76FF-82A5-4A06-A34E-2D2B795A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2B83D-6080-4650-BF6B-9BD6AC6E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5D843-B1C2-4043-8AFE-249123ED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5F8E4-E573-4E27-8AAB-D7EF68B9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C6F90-F634-4AC7-A6B0-F91E2BAD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E83EF-F0EB-4B87-B6FC-1FAB23B0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BA3F-6D2F-4C98-AFEC-02713E8D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EF102-13E4-4A6F-B2C1-84D08DFB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91F9C-D989-4C4A-8A8D-8505018E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EBD9C-46D8-4353-8ECD-88041529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69286-C75B-418D-A473-1789AAEE4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B9565-1C56-40AF-8ECF-41858578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35296-9EDA-404E-9978-99C54F81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44C0E-C8CD-4E0D-8839-4C3D1888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AD5B7-A386-4C53-919E-CDC0DEE5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C63AD-2536-45BC-888D-5B5CD31A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B601E-E54F-4D62-9443-EB5410D5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DAB6-CFB9-4056-824F-26FB9C48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EB3FC-996D-4F85-B1B2-04E13822A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F71C5-328B-4AB9-A8AE-5660AF857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3FB2D-EE84-41A0-BE06-8AF06C39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CBD2A-6012-486C-AE1B-DBE64197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D7488-A561-4923-86A6-D23E6B9F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927ED-B1FD-430B-8ABF-5D94816BA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79DC0-7574-4A49-A445-2367ECBB9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5B57C-A77C-4F2D-80A1-28D83958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10FA1-C233-4666-B472-21B8C444A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4118D-403A-4041-9E70-37BFAA74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"/>
          <p:cNvPicPr/>
          <p:nvPr/>
        </p:nvPicPr>
        <p:blipFill>
          <a:blip r:embed="rId2"/>
          <a:srcRect l="392" t="0" r="588" b="224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121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677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005677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0EA2-DB12-407D-AF89-F18B3F1CCB9E}" type="datetime">
              <a:rPr b="0" lang="zh-CN" sz="1200" spc="-1" strike="noStrike">
                <a:solidFill>
                  <a:srgbClr val="8b8b8b"/>
                </a:solidFill>
                <a:latin typeface="Arial"/>
                <a:ea typeface="微软雅黑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E799-14DD-43F7-8141-D08F260202D0}" type="slidenum">
              <a:rPr b="0" lang="zh-CN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755640" y="765000"/>
            <a:ext cx="8121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b3b3b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3b3b3b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451"/>
              </a:spcBef>
              <a:buClr>
                <a:srgbClr val="3b3b3b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3b3b3b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451"/>
              </a:spcBef>
              <a:buClr>
                <a:srgbClr val="3b3b3b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3b3b3b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451"/>
              </a:spcBef>
              <a:buClr>
                <a:srgbClr val="3b3b3b"/>
              </a:buClr>
              <a:buFont typeface="Arial"/>
              <a:buChar char="–"/>
            </a:pPr>
            <a:r>
              <a:rPr b="0" lang="en-US" sz="1800" spc="-1" strike="noStrike">
                <a:solidFill>
                  <a:srgbClr val="3b3b3b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451"/>
              </a:spcBef>
              <a:buClr>
                <a:srgbClr val="3b3b3b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3b3b3b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  <a:p>
            <a:pPr lvl="5" marL="2057400" indent="-2286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3b3b3b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  <a:p>
            <a:pPr lvl="6" marL="2057400" indent="-2286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Font typeface="Arial"/>
              <a:buChar char="»"/>
            </a:pPr>
            <a:r>
              <a:rPr b="0" lang="en-US" sz="1800" spc="-1" strike="noStrike">
                <a:solidFill>
                  <a:srgbClr val="3b3b3b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EF9E2-D083-49C0-A564-4FA094DF4A8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F3E8-07CA-46EF-B43A-10561DDEED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DB84B-4122-4F59-A58D-6D7450A8950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2397-4899-4BA7-8F8D-D8F2FD5A59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71A9-1B6B-4B00-9510-E4D8BFA324E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BD3A-B430-4271-B13E-A398B59F25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FF89-54CA-41C2-B2EF-DB72C6BA3A3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EE5E-A62C-4D85-AB4F-C7F257CFFD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47E7-578F-4156-990F-485D76D7077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7760-1CA8-4D24-B22B-6E5B72C025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A37A-9A1F-48FF-96BA-C320D971987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5590-0A51-46DA-ABE6-7FC19DA407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1C78-855F-454F-A083-5E8AFBA432E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4228-BC56-4AC0-BBF9-C94E062EC3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DCA4-4F5C-4476-9ED8-0CDCA90E8C8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592E-CD1C-48AF-830B-CA9F8DB463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2AB0-456D-4971-9B52-4D92BA44BC1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D848-8DA2-451E-98E9-2C2302E682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901B-A236-440C-B9A3-1F30FAF20A4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2BEC-4770-43B7-A685-F3D3CC7898B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6B4C-EA70-4596-9676-AB1E926F85B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5C76-52FB-45FC-893B-4D6E7F08D7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2C30-EBFB-40B1-8705-EA512F9A4F0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9646-B3F2-4DDB-9E47-41F2D5448B6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图片 3" descr=""/>
          <p:cNvPicPr/>
          <p:nvPr/>
        </p:nvPicPr>
        <p:blipFill>
          <a:blip r:embed="rId1"/>
          <a:srcRect l="244" t="1711" r="13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563640" y="3068640"/>
            <a:ext cx="489564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5677"/>
                </a:solidFill>
                <a:latin typeface="Monotype Corsiva"/>
              </a:rPr>
              <a:t>PowerPoint Template</a:t>
            </a:r>
            <a:endParaRPr b="1" lang="en-US" sz="7200" spc="-1" strike="noStrike">
              <a:solidFill>
                <a:srgbClr val="005677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B2CF-565F-4D92-92D2-DB86663CC9D4}" type="slidenum">
              <a:rPr b="0" lang="zh-CN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050920" y="2204640"/>
            <a:ext cx="540072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5677"/>
                </a:solidFill>
                <a:latin typeface="微软雅黑"/>
              </a:rPr>
              <a:t>Click to add title</a:t>
            </a:r>
            <a:endParaRPr b="1" lang="en-US" sz="4400" spc="-1" strike="noStrike">
              <a:solidFill>
                <a:srgbClr val="005677"/>
              </a:solidFill>
              <a:latin typeface="微软雅黑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2932560" y="2965320"/>
            <a:ext cx="3423600" cy="302760"/>
          </a:xfrm>
          <a:prstGeom prst="rect">
            <a:avLst/>
          </a:prstGeom>
          <a:gradFill rotWithShape="0">
            <a:gsLst>
              <a:gs pos="0">
                <a:srgbClr val="00648b"/>
              </a:gs>
              <a:gs pos="100000">
                <a:srgbClr val="00adef"/>
              </a:gs>
            </a:gsLst>
            <a:lin ang="5400000"/>
          </a:gradFill>
          <a:ln w="0">
            <a:noFill/>
          </a:ln>
        </p:spPr>
        <p:txBody>
          <a:bodyPr anchor="ctr">
            <a:normAutofit fontScale="66000"/>
          </a:bodyPr>
          <a:p>
            <a:pPr algn="ctr">
              <a:lnSpc>
                <a:spcPct val="150000"/>
              </a:lnSpc>
              <a:spcBef>
                <a:spcPts val="349"/>
              </a:spcBef>
              <a:tabLst>
                <a:tab algn="l" pos="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Click here to add your subtitle</a:t>
            </a:r>
            <a:endParaRPr b="0" lang="en-US" sz="14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2F87-2002-4D57-9B52-2A157391A664}" type="slidenum">
              <a:rPr b="0" lang="zh-CN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806616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5677"/>
                </a:solidFill>
                <a:latin typeface="微软雅黑"/>
              </a:rPr>
              <a:t>Click here to add your title</a:t>
            </a:r>
            <a:endParaRPr b="1" lang="en-US" sz="2400" spc="-1" strike="noStrike">
              <a:solidFill>
                <a:srgbClr val="005677"/>
              </a:solidFill>
              <a:latin typeface="微软雅黑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826920" y="765000"/>
            <a:ext cx="8066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b3b3b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3b3b3b"/>
                </a:solidFill>
                <a:latin typeface="Arial"/>
              </a:rPr>
              <a:t>Click to edit Master text</a:t>
            </a:r>
            <a:endParaRPr b="0" lang="en-US" sz="18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4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262626"/>
                </a:solidFill>
                <a:latin typeface="Arial"/>
              </a:endParaRPr>
            </a:p>
          </p:txBody>
        </p:sp>
        <p:pic>
          <p:nvPicPr>
            <p:cNvPr id="54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4T22:51:00Z</dcterms:created>
  <dc:creator>chen.zhb;ivywang</dc:creator>
  <dc:description/>
  <cp:keywords/>
  <dc:language>en-US</dc:language>
  <cp:lastModifiedBy>a</cp:lastModifiedBy>
  <dcterms:modified xsi:type="dcterms:W3CDTF">2014-08-04T02:30:51Z</dcterms:modified>
  <cp:revision>16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  <property fmtid="{D5CDD505-2E9C-101B-9397-08002B2CF9AE}" pid="3" name="VIP等级">
    <vt:lpwstr>2</vt:lpwstr>
  </property>
  <property fmtid="{D5CDD505-2E9C-101B-9397-08002B2CF9AE}" pid="4" name="价格">
    <vt:lpwstr>20</vt:lpwstr>
  </property>
  <property fmtid="{D5CDD505-2E9C-101B-9397-08002B2CF9AE}" pid="5" name="使用说明">
    <vt:lpwstr>PPT背景模板是PPT文档的格式、布局、图形效果整套美化方案，应用后不会改变PPT演示文稿本身的内容，仅仅使内容格式发生变化。点击【套用到文档】按钮即可套用该模板。</vt:lpwstr>
  </property>
  <property fmtid="{D5CDD505-2E9C-101B-9397-08002B2CF9AE}" pid="6" name="使用软件">
    <vt:lpwstr>ppt</vt:lpwstr>
  </property>
  <property fmtid="{D5CDD505-2E9C-101B-9397-08002B2CF9AE}" pid="7" name="关键字">
    <vt:lpwstr>PPT背景模板 EN PPT 格式 时尚 蓝 蓝色 潮流 炫光 华丽 梦幻 线 线条 抽象 动态 动感 清新 年轻 活力 青春 渐变 背景 V2</vt:lpwstr>
  </property>
  <property fmtid="{D5CDD505-2E9C-101B-9397-08002B2CF9AE}" pid="8" name="操作代码">
    <vt:lpwstr>2</vt:lpwstr>
  </property>
  <property fmtid="{D5CDD505-2E9C-101B-9397-08002B2CF9AE}" pid="9" name="是否可购买">
    <vt:lpwstr>1</vt:lpwstr>
  </property>
  <property fmtid="{D5CDD505-2E9C-101B-9397-08002B2CF9AE}" pid="10" name="显示VIP等级">
    <vt:lpwstr>2</vt:lpwstr>
  </property>
  <property fmtid="{D5CDD505-2E9C-101B-9397-08002B2CF9AE}" pid="11" name="标题">
    <vt:lpwstr>蓝色梦幻圆点</vt:lpwstr>
  </property>
  <property fmtid="{D5CDD505-2E9C-101B-9397-08002B2CF9AE}" pid="12" name="模板ID">
    <vt:lpwstr>A30220130608A12</vt:lpwstr>
  </property>
  <property fmtid="{D5CDD505-2E9C-101B-9397-08002B2CF9AE}" pid="13" name="模板缩略图">
    <vt:lpwstr>A30220130608A12.png</vt:lpwstr>
  </property>
  <property fmtid="{D5CDD505-2E9C-101B-9397-08002B2CF9AE}" pid="14" name="相关案例">
    <vt:lpwstr>854</vt:lpwstr>
  </property>
  <property fmtid="{D5CDD505-2E9C-101B-9397-08002B2CF9AE}" pid="15" name="缩略图标题">
    <vt:lpwstr>蓝色梦幻圆点</vt:lpwstr>
  </property>
  <property fmtid="{D5CDD505-2E9C-101B-9397-08002B2CF9AE}" pid="16" name="适用软件">
    <vt:lpwstr>PowerPoint 2007及以上版本</vt:lpwstr>
  </property>
  <property fmtid="{D5CDD505-2E9C-101B-9397-08002B2CF9AE}" pid="17" name="附件ID">
    <vt:lpwstr>A30220130608A1201</vt:lpwstr>
  </property>
  <property fmtid="{D5CDD505-2E9C-101B-9397-08002B2CF9AE}" pid="18" name="附件缩略图">
    <vt:lpwstr>A30220130608A1201.png</vt:lpwstr>
  </property>
  <property fmtid="{D5CDD505-2E9C-101B-9397-08002B2CF9AE}" pid="19" name="附件路径">
    <vt:lpwstr>A30220130608A1201.pptx</vt:lpwstr>
  </property>
</Properties>
</file>