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808-A25A-41EF-B9C4-3CC98B3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D87-FDBA-4BEA-8AFB-EC5861A0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F09-77F8-443C-9071-69A808EC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EA1-B224-42C6-96AD-2833DD64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5C4-4ED7-43D2-9226-BA157259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984-7C03-4E0B-ACC5-BECF462B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0241-805C-4263-BBAE-E0459CB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513A-1586-4C09-83A6-1548F6BC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4522-44C4-4643-B62C-BDE0E18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3B5A-4111-4D86-875E-502DC72C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150A-1182-4F33-958D-BDE6E378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EFF-6E57-460C-94A3-A651843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BC96-3E04-4B97-9E33-578787A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4522-2368-473F-95B0-F6A8FDE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AE45-4CFA-43AF-99AD-2E5DAEFC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95C0-C91D-4E0C-B6DF-CE28518C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DB4-B80C-4E42-8C3C-3C028229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AAD8-D0ED-464B-8500-7B1398C3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464A-9A75-4443-B5DE-9CFB207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AF401-80EA-46F3-BEFA-C7FD236F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6040-9B6E-4AA6-95FE-A625C045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505C-0B73-4B29-AAB2-51B7D9AC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EEB-6B71-4445-9197-3F852406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DD4E-2BEB-495F-89C1-14E3D7E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1128-0E2E-4054-AD3B-1CB31220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8116-53B2-4C54-97FB-EB08D09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864B-11A9-4363-8272-0588ABC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D311-59B1-4607-A5E3-6FB913BF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BD01-0F3B-40A3-BE80-B592DD77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FA97-FF7A-4F44-83D5-DAD83A69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0DB-A2EF-4BED-AE00-7199E8A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2D9-2739-4F8D-8D20-2BEF1262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C1D-3FE9-40B8-B5AD-2FB6A05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A37-3755-4859-BEE0-DB0A6CA2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440-277B-4846-A993-833FAF6F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1F5-2E4A-4441-8767-6A4099A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F7B-C7EF-4FA5-AA75-3113C481AA0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FD4A-E764-40A4-B4AD-012DC8A547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390-90ED-4A28-8A54-73D6F9049B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0BF0-85E2-42CF-B4E3-DC2DCE6B22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5"/>
          <p:cNvSpPr/>
          <p:nvPr/>
        </p:nvSpPr>
        <p:spPr>
          <a:xfrm>
            <a:off x="713880" y="762120"/>
            <a:ext cx="21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egoe UI Semilight"/>
                <a:ea typeface="宋体"/>
              </a:rPr>
              <a:t>Content 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1889640" y="2668680"/>
            <a:ext cx="29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what is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什么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cubic"/>
          <p:cNvPicPr/>
          <p:nvPr/>
        </p:nvPicPr>
        <p:blipFill>
          <a:blip r:embed="rId1"/>
          <a:stretch/>
        </p:blipFill>
        <p:spPr>
          <a:xfrm>
            <a:off x="1297080" y="26496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cubic"/>
          <p:cNvPicPr/>
          <p:nvPr/>
        </p:nvPicPr>
        <p:blipFill>
          <a:blip r:embed="rId2"/>
          <a:stretch/>
        </p:blipFill>
        <p:spPr>
          <a:xfrm>
            <a:off x="1297080" y="33354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cubic"/>
          <p:cNvPicPr/>
          <p:nvPr/>
        </p:nvPicPr>
        <p:blipFill>
          <a:blip r:embed="rId3"/>
          <a:stretch/>
        </p:blipFill>
        <p:spPr>
          <a:xfrm>
            <a:off x="1297080" y="4037040"/>
            <a:ext cx="312480" cy="3128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"/>
          <p:cNvSpPr/>
          <p:nvPr/>
        </p:nvSpPr>
        <p:spPr>
          <a:xfrm>
            <a:off x="2010960" y="3357720"/>
            <a:ext cx="28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why is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为什么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2012760" y="403704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how to be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"/>
          <p:cNvSpPr/>
          <p:nvPr/>
        </p:nvSpPr>
        <p:spPr>
          <a:xfrm>
            <a:off x="2284560" y="3143160"/>
            <a:ext cx="46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Segoe UI Light"/>
                <a:ea typeface="宋体"/>
              </a:rPr>
              <a:t>how to be </a:t>
            </a:r>
            <a:r>
              <a:rPr b="0" lang="en-US" sz="3600" spc="-1" strike="noStrike">
                <a:solidFill>
                  <a:srgbClr val="7f7f7f"/>
                </a:solidFill>
                <a:latin typeface="Segoe UI Light"/>
                <a:ea typeface="宋体"/>
              </a:rPr>
              <a:t>Fre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-7920" y="1440"/>
            <a:ext cx="9142560" cy="4921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6"/>
          <p:cNvSpPr/>
          <p:nvPr/>
        </p:nvSpPr>
        <p:spPr>
          <a:xfrm>
            <a:off x="423720" y="866880"/>
            <a:ext cx="442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how to be </a:t>
            </a:r>
            <a:r>
              <a:rPr b="0" lang="en-US" sz="28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"/>
          <p:cNvSpPr/>
          <p:nvPr/>
        </p:nvSpPr>
        <p:spPr>
          <a:xfrm>
            <a:off x="1042920" y="3933720"/>
            <a:ext cx="7201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尝试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想些能帮助公司进步的方案，这样不仅发挥了你的创造力</a:t>
            </a:r>
            <a:r>
              <a:rPr b="0" lang="en-US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还能让老板对你刮目相看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欣赏自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如果完成的工作让自己很开心很满意，那就应该学着欣赏自己的能力和工作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团队合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工作中应该想着和他们联合起来。当你遇上困难了，同事是可以帮你的人。平时可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多交流。这样能激发出更多的灵感和创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1574r-32290"/>
          <p:cNvPicPr/>
          <p:nvPr/>
        </p:nvPicPr>
        <p:blipFill>
          <a:blip r:embed="rId2"/>
          <a:stretch/>
        </p:blipFill>
        <p:spPr>
          <a:xfrm>
            <a:off x="1042920" y="1668600"/>
            <a:ext cx="698508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3"/>
          <p:cNvSpPr/>
          <p:nvPr/>
        </p:nvSpPr>
        <p:spPr>
          <a:xfrm>
            <a:off x="4284720" y="31431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Segoe UI Light"/>
                <a:ea typeface="宋体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7-24T07:45:11Z</dcterms:modified>
  <cp:revision>34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