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51B-DF03-4039-AB4D-76BC1B34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BB0-435F-48F6-A76D-48A820B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ACB-5AB2-4272-91BB-2BA46338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D6E-3336-48DB-BE93-964B6D1E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9FCA-F2F7-45E0-9885-949BB320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73E6-DFD9-480E-A390-6F5FBC4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CA8-932F-442F-8D2C-44614DF5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4F56-3730-4F57-9213-822590C4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D994-0B7B-49FC-9BF4-DEE23F7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924-0880-4951-987D-EE8BDBC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289F-4F19-48A7-9945-75265C0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2B2-5135-4323-82BF-0B97E7A0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90E9-A561-4F23-B4CF-7F60636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50E-813A-4F19-89AE-70462A2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1161-3337-439B-8CD8-BAAA06D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9574-32FE-407E-85F2-5E786A40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B730-9821-4D0C-9B8B-4717B8D6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3C46-36F9-4B71-B6C4-1EE64650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93B4-85CA-4C64-9DB2-9286296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53AF-3B35-4B3E-ABAF-C860D36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39EB-B54C-43D0-8613-C1C8DB5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3AD2-247D-4461-BD18-1838ABF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004-D25A-45E0-9ABC-BAF5D27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4461-1DA1-4006-B50B-EA4C83C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B6EE-7829-4815-91C2-156627D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EBA3-5BCE-418C-9E18-95C17C7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4FD3-FF3B-4175-A9B0-096F94B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5375-32B8-4DBC-8824-02E7B79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C90C-B92A-4E33-8FB2-300A47D6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28A1-4DC8-4DD5-955B-81DC0275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CCD-A86A-44C5-B195-23658B85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6AB-5CB6-494C-8D7E-C96F3E4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BD2-CD79-4FC7-BB12-83B9036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C7A-FC20-4D01-A0BC-BD8A807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DB3-6D5C-49CA-83A5-0E948B7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F1D-A030-46BE-A74C-0CB06DB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4F2-30BD-4FF2-8933-DCF17E4DE14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BAF-3C26-41A8-9E11-C57988FEB2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694-332E-4AEA-A46B-6C095685F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7E24-DE2D-4064-A9C4-CCA569664D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908000" y="3573360"/>
            <a:ext cx="60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Urban Jungle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Urban Jungle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Urban Jungle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Urban Jungle"/>
              </a:rPr>
              <a:t>      </a:t>
            </a:r>
            <a:r>
              <a:rPr b="1" lang="zh-CN" sz="5400" spc="-1" strike="noStrike">
                <a:solidFill>
                  <a:srgbClr val="777777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Urban Jungle"/>
              </a:rPr>
              <a:t>s      </a:t>
            </a:r>
            <a:r>
              <a:rPr b="1" lang="zh-CN" sz="5400" spc="-1" strike="noStrike">
                <a:solidFill>
                  <a:srgbClr val="333399"/>
                </a:solidFill>
                <a:latin typeface="Urban Jungle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Urban Jungle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Urban Jungle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Urban Jungle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Urban Jungle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Urban Jungle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Urban Jungle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Urban Jungle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Urban Jungle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8440" y="5127480"/>
            <a:ext cx="461808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0240" y="2133720"/>
            <a:ext cx="2874960" cy="22208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6" name="Oval 4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-28440" y="1440"/>
            <a:ext cx="12873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8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86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89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93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 rot="4260000">
              <a:off x="629172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00" name="Oval 20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1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2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3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4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5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6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0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1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3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-604800" y="-622440"/>
            <a:ext cx="8164440" cy="1891080"/>
            <a:chOff x="-604800" y="-622440"/>
            <a:chExt cx="8164440" cy="1891080"/>
          </a:xfrm>
        </p:grpSpPr>
        <p:sp>
          <p:nvSpPr>
            <p:cNvPr id="243" name="Oval 13"/>
            <p:cNvSpPr/>
            <p:nvPr/>
          </p:nvSpPr>
          <p:spPr>
            <a:xfrm>
              <a:off x="-604800" y="-164880"/>
              <a:ext cx="1437480" cy="1433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593640" y="-17460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1247400" y="-255240"/>
              <a:ext cx="7358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1817280" y="-112680"/>
              <a:ext cx="9579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2703600" y="-25416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32263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3854520" y="-25524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4250520" y="-38808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4862160" y="-127800"/>
              <a:ext cx="791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5437440" y="-2548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6300360" y="-388080"/>
              <a:ext cx="100728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056000" y="-622440"/>
              <a:ext cx="50364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59" name="Line 29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0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1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2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5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7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42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7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"/>
          <p:cNvGrpSpPr/>
          <p:nvPr/>
        </p:nvGrpSpPr>
        <p:grpSpPr>
          <a:xfrm>
            <a:off x="-604800" y="-555480"/>
            <a:ext cx="8164440" cy="1849680"/>
            <a:chOff x="-604800" y="-555480"/>
            <a:chExt cx="8164440" cy="1849680"/>
          </a:xfrm>
        </p:grpSpPr>
        <p:sp>
          <p:nvSpPr>
            <p:cNvPr id="280" name="Oval 6"/>
            <p:cNvSpPr/>
            <p:nvPr/>
          </p:nvSpPr>
          <p:spPr>
            <a:xfrm>
              <a:off x="-604800" y="-303480"/>
              <a:ext cx="1436400" cy="1597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592920" y="-314280"/>
              <a:ext cx="7358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1247040" y="-40464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1816920" y="-245160"/>
              <a:ext cx="95796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2703240" y="-4028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32259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3854160" y="-4046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>
              <a:off x="4250160" y="-552240"/>
              <a:ext cx="791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"/>
            <p:cNvSpPr/>
            <p:nvPr/>
          </p:nvSpPr>
          <p:spPr>
            <a:xfrm>
              <a:off x="4861800" y="-2624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5"/>
            <p:cNvSpPr/>
            <p:nvPr/>
          </p:nvSpPr>
          <p:spPr>
            <a:xfrm>
              <a:off x="5437440" y="-40356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6"/>
            <p:cNvSpPr/>
            <p:nvPr/>
          </p:nvSpPr>
          <p:spPr>
            <a:xfrm>
              <a:off x="6300360" y="-552240"/>
              <a:ext cx="100728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7"/>
            <p:cNvSpPr/>
            <p:nvPr/>
          </p:nvSpPr>
          <p:spPr>
            <a:xfrm>
              <a:off x="7056000" y="-555480"/>
              <a:ext cx="503640" cy="817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8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294" name="Line 20"/>
            <p:cNvSpPr/>
            <p:nvPr/>
          </p:nvSpPr>
          <p:spPr>
            <a:xfrm>
              <a:off x="133020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>
              <a:off x="59220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2"/>
            <p:cNvSpPr/>
            <p:nvPr/>
          </p:nvSpPr>
          <p:spPr>
            <a:xfrm>
              <a:off x="327960" y="32446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3"/>
            <p:cNvSpPr/>
            <p:nvPr/>
          </p:nvSpPr>
          <p:spPr>
            <a:xfrm>
              <a:off x="113040" y="392616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4"/>
            <p:cNvSpPr/>
            <p:nvPr/>
          </p:nvSpPr>
          <p:spPr>
            <a:xfrm>
              <a:off x="327960" y="4572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"/>
            <p:cNvSpPr/>
            <p:nvPr/>
          </p:nvSpPr>
          <p:spPr>
            <a:xfrm>
              <a:off x="327960" y="5264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6"/>
            <p:cNvSpPr/>
            <p:nvPr/>
          </p:nvSpPr>
          <p:spPr>
            <a:xfrm>
              <a:off x="71280" y="5660280"/>
              <a:ext cx="142416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1520" y="1268280"/>
              <a:ext cx="2297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28"/>
            <p:cNvSpPr/>
            <p:nvPr/>
          </p:nvSpPr>
          <p:spPr>
            <a:xfrm>
              <a:off x="69732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9"/>
            <p:cNvSpPr/>
            <p:nvPr/>
          </p:nvSpPr>
          <p:spPr>
            <a:xfrm>
              <a:off x="58032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0"/>
            <p:cNvSpPr/>
            <p:nvPr/>
          </p:nvSpPr>
          <p:spPr>
            <a:xfrm>
              <a:off x="99036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59148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74484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3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31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2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33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9T09:53:57Z</dcterms:modified>
  <cp:revision>1</cp:revision>
  <dc:subject/>
  <dc:title>PowerPoint 演示文稿</dc:title>
</cp:coreProperties>
</file>