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855-F93F-4992-A3EC-5691649B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717-2BCA-4C90-85C4-C6EAA9D0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EEF-D4AC-42C0-8FD6-E50C579A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2C9-1E78-484F-9D32-79A7648D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B11A-20C0-4B22-BDBC-96C4D05D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B96-F5FB-49DE-8BD7-CA0C3A81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61F3-6DD1-41F0-AFF2-A89F9229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A4F6-A1E6-4837-BBE1-1B54895A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233E-0943-4C2C-9243-C748665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8E6B-93EE-404D-9238-CE33154D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D067-C1CB-4808-AE4A-D3FC9565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B45-6069-4EF0-B852-5FD57984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A0FE-606C-4FEE-A052-7F42AD06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3799-A9D3-4816-9428-B4D658A2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D16A-5D43-4F0C-9851-66A74D03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365E-8653-43FC-8E51-86AF2D98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071C-581A-47AB-ADB3-FEA415CD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D48-35B8-48A4-815F-A1402E48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A2D-3091-4325-997E-7D4839D5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D69-1D3D-4828-9F94-638CC940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8B8-82FB-4C8B-A514-EA4ED66A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571-9485-47E1-864A-2305190D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559-027F-4B7B-8027-0EA49C6A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6CA-726F-4861-9407-98616B1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EE1E-4975-4432-ADC4-3C329CD4EA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863E-6B55-4E5A-B009-9820C11306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BD9A-8B17-4945-98B9-909BEAC048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rporate athlete封面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orporate athlete目录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orporate athlete过渡页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orporate athlete内容页1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orporate athlete内容页2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orporate athlete结束页1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5T06:08:43Z</dcterms:modified>
  <cp:revision>1</cp:revision>
  <dc:subject/>
  <dc:title>PowerPoint 演示文稿</dc:title>
</cp:coreProperties>
</file>