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BCA-14DC-4CA6-9F22-FFEA0034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BF4-8C7A-468A-8F75-122A5710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7EF3A-AAE8-475F-AB9F-3F4FCA0C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55F0E-1879-4560-93A3-3454A38F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F8279-08F8-4CF8-91D7-9B802D1A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D8D74-DEA8-43DF-8BB2-A22ADE72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C7590-6FD4-431E-9DC1-B269DB3F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AEDE0-167F-4ABC-AC43-F0EDB9AC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3E10D-4585-4CEA-8CB7-EF7D0D2E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BFF7C-5CF5-43D1-A23F-A0F89AA6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DA3F0-B225-480D-A835-B50A7C5E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0875C-45FE-4F61-85A1-FF1AFA38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191-3820-496D-B0F1-2C0768DF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2B08E-E637-4239-B441-19E242D0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3CB16-F25F-415B-93DD-C2F913DA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AA50A-F2D5-4462-9EEA-FB641FC6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A4A46-0633-4828-A50A-90AA9479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BA76A-FF91-4ACC-AAF4-50E222F3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49995-AFB8-4569-8F37-AA032E3F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B95B9-8396-4A59-8A5B-E27BE34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882E0-3876-4DA8-BDD0-4D9882B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6665B-D9B9-45C1-94DA-351DB26B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92FC4-01BB-486F-9AB7-6F569C14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C33-CDAD-464A-B9A1-9863ED51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9C354-92A2-42F4-B9CC-4A5F1FDE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EEC4F-1DFE-4BB6-8042-AB652043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3C305-410F-41D7-8F50-6EAAF8B6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0CC80-AF34-4180-A67C-5EA6729B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C5192-BD1F-419C-867D-719DFF07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20114-119E-4FBC-BE0C-5545D19E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C7B1D-BD09-41CB-8342-1D0CC68A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43444-1D03-447C-9D73-6653FF40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180AC-7EEC-4780-809F-CC698F4A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7A7AF-D11C-41E3-92D8-2D014E93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6D5B-B7AD-4EEA-BAF2-454B2ACE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3D1A9-7B55-4B0F-9DA3-ED44FF77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27776-49B6-49F5-9E32-ADC6FA76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0AEC7-EDA8-4349-9723-EEF91CB9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DF3F9-5196-4957-8004-044967FA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0A66E-6561-4097-84C3-4C5A793B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FF95A-0081-4534-B652-5CAACBA6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2D2DC-FF73-43CA-BA49-4F01729F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DF29A-0E05-470D-A5F2-E356E50E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86EE5-A438-4189-8515-378BC7AD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DB4D7-2A64-4692-B0B4-439C4334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4DF6-FD09-4FC5-A5FF-0A50C60D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A9A26-CEB8-42DC-AA27-B4F82664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BFC1E-0D4E-4995-A3D7-12C52127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78D37-B18C-475B-B6B7-7B06E432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D51F5-DC56-436E-B755-3E12C8C6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C722A-6945-4DE5-988D-B3620959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F7928-1F19-4753-B342-1A6C9C0A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61ED8-CC43-434D-B7AD-DD4F35FB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ADAC6-7152-4C85-B9EA-9C347CCB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8123B-A525-4827-B917-1EB9F07A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05094-D630-4974-96E3-539F330A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E57F-CBEB-4823-BD67-2DA34D1D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949BE-EBD5-4651-A63E-BAEABD80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9E256-DD14-455B-BD31-CF199F9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A0FE9-883D-4A9F-A1AD-404ABF10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153DB-6C56-4AD5-9A61-2B05D3A7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B3285-1190-4ACF-88D9-B614714B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87A2A-0015-40E0-A677-7DFE7971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3622E-933D-43B6-913F-47345B11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2A3D-2EB7-4CF8-961D-43208D8B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B3C4-780A-4EA0-9996-0152A33E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24A7-6875-495F-99CA-49674361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AA0A-46B8-466B-ACD2-5BECCBE2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26E-AB65-4B27-A651-32A9B6C9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A833-1B32-40C5-B2BC-EC27ED12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776C-D009-47BF-B3E6-3B4C1162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B86F-C572-415F-8432-295F647F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BD00-7685-4A47-AFB5-4A081172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3579-157F-4B48-BF1F-8A3C57B5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FC67-B16E-4423-923F-EB33BCA5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0138-D10E-47B4-81AB-5EC9C889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296B3-DD53-4223-94A5-FEF91964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83804-8D8D-4CF4-9672-69A5246B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3D1C-48A7-4B6A-B519-E7BA031A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EF8-94A5-41A7-81A0-BE47D001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81F3-8A5E-46B1-98A0-19145AE0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37E7-3A28-49BD-B97E-670BE22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AC41-549C-4D40-9B20-F4972110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5483-09B2-4A01-A34E-AA6A0242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1A1A4-98D1-4FDB-9589-C07C82E7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0611-784E-43D5-B2D6-C92B8649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B168-2B24-4874-98C9-15FBA69F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3A452-48A8-4447-83D9-3B6023A6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40858-64E4-4A74-94EA-72204DBB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A27A-86C2-42FC-ABDD-2A429C73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10D-8719-46EE-953A-51ACC7B1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92635-B290-4724-A859-6B5AB2C9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EF99B-3933-4BAF-AC9C-2CB05091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234E-E5B0-489A-9A98-0A6FE326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CCA9-AEA6-40E0-AABC-BF2ADB28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27ED1-8CCB-4AD7-A2CA-B8085B94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1F72-E334-40ED-9EBD-7EA587D8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0CC7-5C9F-4801-9092-DF5B0F10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98702-8D11-4DBA-925F-92E908BC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88BFC-EDD3-4E3A-AB7B-4105B2C4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B5238-7792-4E79-92FD-BC50914C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C8B-FFD6-4C21-8028-59A5A7DC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64423-D240-42E7-B95C-439D0EC6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9C428-B7B9-43DA-B758-FEA76211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86C97-D86A-4477-8AB3-9C4D59A6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AC46E-AE94-4997-950C-BA1BA6FD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12A57-31A3-42F7-9FDE-7570AEE2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CDE2-C9FE-49AB-91C0-AFA9A671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C0C9-9174-4FB1-A9CC-7D768EAC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B5ADC-5634-410E-B9FC-16DBF5A6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A69A-6854-4C6E-8FAB-BC0CB6DE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0D051-7FF7-402B-BB16-156D018F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ED9-FB8D-4F8D-84F8-6287EF82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BFED6-2F9D-4FDD-ACA1-FEAE0D0B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8E67F-205E-49C0-8B5A-AA8590A4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61C01-DC78-4BC8-84BE-4CF10777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5A096-E7C9-48BC-92A2-A893349A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CD388-EF8E-43C4-AA92-51300A1D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AFE19-494F-49D5-A7DC-2DF05D2C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4BCEF-BB5B-4E2B-827B-1C153500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448D9-AB4C-4002-893F-9735B97C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6049D-5D1E-4055-BC66-9450A61D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0214E-F9A8-4F46-BB6C-C2ED587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F60-9424-49D8-9D55-4EC73172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AC210-034B-43B5-B53B-254F1FF1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0A7BB-338F-4B14-9A0D-F6A8FC3E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68DCB-B386-4649-8997-642E4A43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22A4A-A5A9-4356-9CC4-016458E8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BDEDF-A44D-4425-B134-89A554C8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9F3E2-8737-4F2D-9EF5-9F6A9BA4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9B043-E7E1-4A08-8D2B-936DBD23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C3F07-90F9-4AF1-8F8E-992EBCE1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FE98F-AD59-450F-A12C-E9E6D145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8BAF3-513A-4E25-8BB3-04795AC4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65F-C087-4E76-8C31-6AF19DCA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2DCB6-5557-4450-830B-5288902D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8DCCD-A1B5-4886-A632-B5882A17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CC4D2-88C2-48D7-B9F1-A7B0A1FF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01D87-81F8-4D4D-B367-19FC0050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36CAF-AA88-487F-94C8-6EC1A279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288D6-F2EE-4356-AC4D-3CBB5926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EE9B4-35CC-4EAB-B9AE-2526DC05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09F0F-6B4C-42F4-BD2C-CBC75DD0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62A8F-79ED-47A6-9ECD-1B547828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1A752-5527-4F22-B4B1-AB11F20A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2C3-C22C-4DCF-8C17-81EE0C6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A43F1-74F8-4DE4-9F60-3F632617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B4E00-A5A1-4B21-A099-22F94131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9B0E6-AAAD-4D5C-BC16-45F33F6F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800CF-FAB6-4A6C-A339-2954A239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94FC3-F106-46F7-AC45-B0CC10C2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BB0AF-74D2-414D-8F15-593363B4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54FDF-4DD2-473B-AD61-1AC7567C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48C41-C081-427B-B11B-35DF9EB8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16A2E-69A7-43B1-AF32-4A836F11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B9717-91FE-4BCC-A3B3-F920A264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81C3-6D14-4626-9468-462D819306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7765-A299-4DB1-BE06-8BC05E4558A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AEA0-BE3A-4686-BD4A-69F8B42E011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242C-AA32-465D-B781-A91D1B9059E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EBC5-E35D-4C70-B1D2-4EE92742132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E291-5233-46A6-A53E-92359EB3386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49D4-D6EF-48DF-B18B-6F07CB20E24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BFD7-DEC6-4DD8-A2DF-BF5CB36EA6F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2F00-DE36-4FE5-83B0-7F2FDEE831B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A0B4-6D6F-430E-8476-90D89EFC4B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01C2-5D84-4035-B1F7-E613B22480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9B6B-C629-4291-9E65-F7977A5752E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E514-477E-408C-B5D2-82DFD7EAF99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A5B4-0493-4C1E-A9DD-F0977FB6CB6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0D42-D555-4C89-B7DF-43E74CF1972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1ED2-B382-4E05-87C5-49704963419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CE0D-3DB1-4AF6-9ADC-04745E47BF6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9247-5BF2-4827-9EBB-768F14E11A2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3FC0-0754-4F0E-BA70-CF0B33F495F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856C-5066-41F2-A5CC-EB6C8DEA00D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2C74-C0ED-4FF0-9171-8EC0DC59E9D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D2FC-1E44-4620-A00D-BEBA0131631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083B-4BE1-401F-A288-85098BF58E0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9E22-04C1-45F8-9ABF-38AFE17884E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2EC9-D8E9-4C0C-B0CB-FF2699E546D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图片 2" descr="WSP模版2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4" descr="WSP主题字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3" descr="WSP模版3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WSP模版4.png"/>
          <p:cNvPicPr/>
          <p:nvPr/>
        </p:nvPicPr>
        <p:blipFill>
          <a:blip r:embed="rId2"/>
          <a:srcRect l="44853" t="60729" r="47502" b="25673"/>
          <a:stretch/>
        </p:blipFill>
        <p:spPr>
          <a:xfrm>
            <a:off x="5408640" y="9604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5" descr="WSP模版4.png"/>
          <p:cNvPicPr/>
          <p:nvPr/>
        </p:nvPicPr>
        <p:blipFill>
          <a:blip r:embed="rId3"/>
          <a:srcRect l="44853" t="60729" r="47502" b="25673"/>
          <a:stretch/>
        </p:blipFill>
        <p:spPr>
          <a:xfrm>
            <a:off x="5218200" y="2519280"/>
            <a:ext cx="933480" cy="93204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6" descr="WSP模版4.png"/>
          <p:cNvPicPr/>
          <p:nvPr/>
        </p:nvPicPr>
        <p:blipFill>
          <a:blip r:embed="rId4"/>
          <a:srcRect l="44853" t="60729" r="47502" b="25673"/>
          <a:stretch/>
        </p:blipFill>
        <p:spPr>
          <a:xfrm>
            <a:off x="5018040" y="3970440"/>
            <a:ext cx="932040" cy="933480"/>
          </a:xfrm>
          <a:prstGeom prst="rect">
            <a:avLst/>
          </a:prstGeom>
          <a:ln w="0">
            <a:noFill/>
          </a:ln>
        </p:spPr>
      </p:pic>
      <p:sp>
        <p:nvSpPr>
          <p:cNvPr id="541" name="TextBox 7"/>
          <p:cNvSpPr/>
          <p:nvPr/>
        </p:nvSpPr>
        <p:spPr>
          <a:xfrm>
            <a:off x="5470200" y="1495440"/>
            <a:ext cx="21024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power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f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图片 2" descr="WSP模版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Box 3"/>
          <p:cNvSpPr/>
          <p:nvPr/>
        </p:nvSpPr>
        <p:spPr>
          <a:xfrm>
            <a:off x="5263920" y="3014640"/>
            <a:ext cx="17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Demi ITC"/>
              </a:rPr>
              <a:t>Si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图片 2" descr="WSP模版4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3"/>
          <p:cNvSpPr/>
          <p:nvPr/>
        </p:nvSpPr>
        <p:spPr>
          <a:xfrm>
            <a:off x="1126440" y="1068480"/>
            <a:ext cx="14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4"/>
          <p:cNvSpPr/>
          <p:nvPr/>
        </p:nvSpPr>
        <p:spPr>
          <a:xfrm>
            <a:off x="2287440" y="2470320"/>
            <a:ext cx="8595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ur work as long as we think you will find: seemingly complex work, in fact there are many can simplify the link. To fast high-quality to complete work, actually very simple: you only according to set a goal, make a plan and schedule, find a good method, and then in order to do it. In an orderly way to realize the maximization of the efficienc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2" descr="结束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8T04:33:2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