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3F87-6E27-4E57-B4B2-F4DA47614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FE50-CF20-488D-B2DA-6F661B7BA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CB0A-8B3E-41D7-9245-8A960288A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E5195-41D1-46DD-9395-865AEECF6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62F4C-1A19-41BB-9653-DEA4303C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3123C-DC53-415E-80D3-DA03A00F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B80A7-FBAD-423E-9021-ECEA5996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0375E-7C64-4BDB-9D72-84BF75C9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897AD-513D-4105-9178-38916374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9B843-74A0-4AB7-85BB-9900E9CC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4BFAA-F88F-4170-A819-5D602532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0E6A-C40A-4C8D-A805-D2ACCFF5C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E79AE-1C25-4207-A668-C7F89C3B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4C6E7-3231-4CB2-AEC9-2EB84427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C8C03-E2A5-415F-B6EE-8B4FD0FD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403A1-E569-4044-9821-4801F7AF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3F384-F46A-4F1D-8B94-9D902E3E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E947-5A6C-460A-87CE-93AC97C7B7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A815-E715-4259-89C0-A565A15A0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46D5-12B9-40FA-82C7-A94406E6B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34F5-79B9-499F-B637-B5BC41033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2597-2600-4E0C-BFC8-305F68BC7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39D4-B75E-412E-BBD3-27144D265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4E35-5146-4953-96C4-5BD513A56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818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未知"/>
          <p:cNvSpPr/>
          <p:nvPr/>
        </p:nvSpPr>
        <p:spPr>
          <a:xfrm>
            <a:off x="914400" y="-7920"/>
            <a:ext cx="8242200" cy="5964120"/>
          </a:xfrm>
          <a:custGeom>
            <a:avLst/>
            <a:gdLst/>
            <a:ahLst/>
            <a:rect l="l" t="t" r="r" b="b"/>
            <a:pathLst>
              <a:path w="5168" h="3744">
                <a:moveTo>
                  <a:pt x="0" y="0"/>
                </a:moveTo>
                <a:cubicBezTo>
                  <a:pt x="0" y="0"/>
                  <a:pt x="0" y="1672"/>
                  <a:pt x="0" y="3344"/>
                </a:cubicBezTo>
                <a:cubicBezTo>
                  <a:pt x="0" y="3562"/>
                  <a:pt x="206" y="3744"/>
                  <a:pt x="400" y="3744"/>
                </a:cubicBezTo>
                <a:cubicBezTo>
                  <a:pt x="2784" y="3744"/>
                  <a:pt x="5168" y="3744"/>
                  <a:pt x="5168" y="3744"/>
                </a:cubicBezTo>
                <a:lnTo>
                  <a:pt x="516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-7920" y="343080"/>
            <a:ext cx="602784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2600" y="0"/>
            <a:ext cx="9144000" cy="6858000"/>
          </a:xfrm>
          <a:prstGeom prst="rect">
            <a:avLst/>
          </a:prstGeom>
          <a:noFill/>
          <a:ln w="38160">
            <a:solidFill>
              <a:srgbClr val="5f81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152280"/>
            <a:ext cx="752292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777e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58777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94920" y="1066680"/>
            <a:ext cx="7526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001000" y="5638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90C8-5405-4833-9752-7E58ACCF2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4A61-08A7-4456-8CED-4E12F14570E0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92BF-58D5-47A5-9CD4-2B6F2FE97F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9151920" cy="6864480"/>
          </a:xfrm>
          <a:prstGeom prst="rect">
            <a:avLst/>
          </a:prstGeom>
          <a:solidFill>
            <a:srgbClr val="6a8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81080" y="146160"/>
            <a:ext cx="990360" cy="990360"/>
          </a:xfrm>
          <a:prstGeom prst="roundRect">
            <a:avLst>
              <a:gd name="adj" fmla="val 22000"/>
            </a:avLst>
          </a:prstGeom>
          <a:solidFill>
            <a:srgbClr val="d0d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1298520" y="13320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af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2428920" y="15876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d0d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533760" y="146160"/>
            <a:ext cx="990720" cy="990360"/>
          </a:xfrm>
          <a:prstGeom prst="roundRect">
            <a:avLst>
              <a:gd name="adj" fmla="val 22000"/>
            </a:avLst>
          </a:prstGeom>
          <a:solidFill>
            <a:srgbClr val="587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4626000" y="15876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d0d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730840" y="146160"/>
            <a:ext cx="990720" cy="990360"/>
          </a:xfrm>
          <a:prstGeom prst="roundRect">
            <a:avLst>
              <a:gd name="adj" fmla="val 22000"/>
            </a:avLst>
          </a:prstGeom>
          <a:solidFill>
            <a:srgbClr val="98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6835680" y="17136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d0d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7940520" y="15876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587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206280" y="125100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af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1324080" y="1238400"/>
            <a:ext cx="990360" cy="990360"/>
          </a:xfrm>
          <a:prstGeom prst="roundRect">
            <a:avLst>
              <a:gd name="adj" fmla="val 22000"/>
            </a:avLst>
          </a:prstGeom>
          <a:solidFill>
            <a:srgbClr val="98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2454120" y="126360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587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3559320" y="1251000"/>
            <a:ext cx="990360" cy="990720"/>
          </a:xfrm>
          <a:custGeom>
            <a:avLst/>
            <a:gdLst>
              <a:gd name="textAreaLeft" fmla="*/ 63720 w 990360"/>
              <a:gd name="textAreaRight" fmla="*/ 926640 w 990360"/>
              <a:gd name="textAreaTop" fmla="*/ 63720 h 990720"/>
              <a:gd name="textAreaBottom" fmla="*/ 927000 h 990720"/>
            </a:gdLst>
            <a:ahLst/>
            <a:rect l="textAreaLeft" t="textAreaTop" r="textAreaRight" b="textAreaBottom"/>
            <a:pathLst>
              <a:path w="21600" h="21608">
                <a:moveTo>
                  <a:pt x="4752" y="0"/>
                </a:moveTo>
                <a:arcTo wR="4752" hR="4752" stAng="16200000" swAng="-5400000"/>
                <a:lnTo>
                  <a:pt x="0" y="16856"/>
                </a:lnTo>
                <a:arcTo wR="4752" hR="4752" stAng="10800000" swAng="-5400000"/>
                <a:lnTo>
                  <a:pt x="16848" y="21608"/>
                </a:lnTo>
                <a:arcTo wR="4752" hR="4752" stAng="5400000" swAng="-5400000"/>
                <a:lnTo>
                  <a:pt x="21600" y="4752"/>
                </a:lnTo>
                <a:arcTo wR="4752" hR="4752" stAng="0" swAng="-5400000"/>
                <a:close/>
              </a:path>
            </a:pathLst>
          </a:custGeom>
          <a:solidFill>
            <a:srgbClr val="d0d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5"/>
          <p:cNvSpPr/>
          <p:nvPr/>
        </p:nvSpPr>
        <p:spPr>
          <a:xfrm>
            <a:off x="4651200" y="126360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af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6"/>
          <p:cNvSpPr/>
          <p:nvPr/>
        </p:nvSpPr>
        <p:spPr>
          <a:xfrm>
            <a:off x="5756400" y="1251000"/>
            <a:ext cx="990360" cy="990720"/>
          </a:xfrm>
          <a:custGeom>
            <a:avLst/>
            <a:gdLst>
              <a:gd name="textAreaLeft" fmla="*/ 63720 w 990360"/>
              <a:gd name="textAreaRight" fmla="*/ 926640 w 990360"/>
              <a:gd name="textAreaTop" fmla="*/ 63720 h 990720"/>
              <a:gd name="textAreaBottom" fmla="*/ 927000 h 990720"/>
            </a:gdLst>
            <a:ahLst/>
            <a:rect l="textAreaLeft" t="textAreaTop" r="textAreaRight" b="textAreaBottom"/>
            <a:pathLst>
              <a:path w="21600" h="21608">
                <a:moveTo>
                  <a:pt x="4752" y="0"/>
                </a:moveTo>
                <a:arcTo wR="4752" hR="4752" stAng="16200000" swAng="-5400000"/>
                <a:lnTo>
                  <a:pt x="0" y="16856"/>
                </a:lnTo>
                <a:arcTo wR="4752" hR="4752" stAng="10800000" swAng="-5400000"/>
                <a:lnTo>
                  <a:pt x="16848" y="21608"/>
                </a:lnTo>
                <a:arcTo wR="4752" hR="4752" stAng="5400000" swAng="-5400000"/>
                <a:lnTo>
                  <a:pt x="21600" y="4752"/>
                </a:lnTo>
                <a:arcTo wR="4752" hR="4752" stAng="0" swAng="-5400000"/>
                <a:close/>
              </a:path>
            </a:pathLst>
          </a:custGeom>
          <a:solidFill>
            <a:srgbClr val="587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7"/>
          <p:cNvSpPr/>
          <p:nvPr/>
        </p:nvSpPr>
        <p:spPr>
          <a:xfrm>
            <a:off x="181080" y="2368440"/>
            <a:ext cx="990360" cy="990720"/>
          </a:xfrm>
          <a:custGeom>
            <a:avLst/>
            <a:gdLst>
              <a:gd name="textAreaLeft" fmla="*/ 63720 w 990360"/>
              <a:gd name="textAreaRight" fmla="*/ 926640 w 990360"/>
              <a:gd name="textAreaTop" fmla="*/ 63720 h 990720"/>
              <a:gd name="textAreaBottom" fmla="*/ 927000 h 990720"/>
            </a:gdLst>
            <a:ahLst/>
            <a:rect l="textAreaLeft" t="textAreaTop" r="textAreaRight" b="textAreaBottom"/>
            <a:pathLst>
              <a:path w="21600" h="21608">
                <a:moveTo>
                  <a:pt x="4752" y="0"/>
                </a:moveTo>
                <a:arcTo wR="4752" hR="4752" stAng="16200000" swAng="-5400000"/>
                <a:lnTo>
                  <a:pt x="0" y="16856"/>
                </a:lnTo>
                <a:arcTo wR="4752" hR="4752" stAng="10800000" swAng="-5400000"/>
                <a:lnTo>
                  <a:pt x="16848" y="21608"/>
                </a:lnTo>
                <a:arcTo wR="4752" hR="4752" stAng="5400000" swAng="-5400000"/>
                <a:lnTo>
                  <a:pt x="21600" y="4752"/>
                </a:lnTo>
                <a:arcTo wR="4752" hR="4752" stAng="0" swAng="-5400000"/>
                <a:close/>
              </a:path>
            </a:pathLst>
          </a:custGeom>
          <a:solidFill>
            <a:srgbClr val="98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8"/>
          <p:cNvSpPr/>
          <p:nvPr/>
        </p:nvSpPr>
        <p:spPr>
          <a:xfrm>
            <a:off x="1298520" y="235584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d0d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9"/>
          <p:cNvSpPr/>
          <p:nvPr/>
        </p:nvSpPr>
        <p:spPr>
          <a:xfrm>
            <a:off x="2428920" y="2381400"/>
            <a:ext cx="990720" cy="990360"/>
          </a:xfrm>
          <a:prstGeom prst="roundRect">
            <a:avLst>
              <a:gd name="adj" fmla="val 22000"/>
            </a:avLst>
          </a:prstGeom>
          <a:solidFill>
            <a:srgbClr val="af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0"/>
          <p:cNvSpPr/>
          <p:nvPr/>
        </p:nvSpPr>
        <p:spPr>
          <a:xfrm>
            <a:off x="3533760" y="236844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98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1"/>
          <p:cNvSpPr/>
          <p:nvPr/>
        </p:nvSpPr>
        <p:spPr>
          <a:xfrm>
            <a:off x="4626000" y="2381400"/>
            <a:ext cx="990720" cy="990360"/>
          </a:xfrm>
          <a:prstGeom prst="roundRect">
            <a:avLst>
              <a:gd name="adj" fmla="val 22000"/>
            </a:avLst>
          </a:prstGeom>
          <a:solidFill>
            <a:srgbClr val="587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2"/>
          <p:cNvSpPr/>
          <p:nvPr/>
        </p:nvSpPr>
        <p:spPr>
          <a:xfrm>
            <a:off x="5730840" y="236844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d0d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3"/>
          <p:cNvSpPr/>
          <p:nvPr/>
        </p:nvSpPr>
        <p:spPr>
          <a:xfrm>
            <a:off x="6835680" y="239400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98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4"/>
          <p:cNvSpPr/>
          <p:nvPr/>
        </p:nvSpPr>
        <p:spPr>
          <a:xfrm>
            <a:off x="7940520" y="2381400"/>
            <a:ext cx="990720" cy="990360"/>
          </a:xfrm>
          <a:prstGeom prst="roundRect">
            <a:avLst>
              <a:gd name="adj" fmla="val 22000"/>
            </a:avLst>
          </a:prstGeom>
          <a:solidFill>
            <a:srgbClr val="af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5"/>
          <p:cNvSpPr/>
          <p:nvPr/>
        </p:nvSpPr>
        <p:spPr>
          <a:xfrm>
            <a:off x="206280" y="3486240"/>
            <a:ext cx="990720" cy="990360"/>
          </a:xfrm>
          <a:prstGeom prst="roundRect">
            <a:avLst>
              <a:gd name="adj" fmla="val 22000"/>
            </a:avLst>
          </a:prstGeom>
          <a:solidFill>
            <a:srgbClr val="af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6"/>
          <p:cNvSpPr/>
          <p:nvPr/>
        </p:nvSpPr>
        <p:spPr>
          <a:xfrm>
            <a:off x="1324080" y="3473280"/>
            <a:ext cx="990360" cy="990720"/>
          </a:xfrm>
          <a:custGeom>
            <a:avLst/>
            <a:gdLst>
              <a:gd name="textAreaLeft" fmla="*/ 63720 w 990360"/>
              <a:gd name="textAreaRight" fmla="*/ 926640 w 990360"/>
              <a:gd name="textAreaTop" fmla="*/ 63720 h 990720"/>
              <a:gd name="textAreaBottom" fmla="*/ 927000 h 990720"/>
            </a:gdLst>
            <a:ahLst/>
            <a:rect l="textAreaLeft" t="textAreaTop" r="textAreaRight" b="textAreaBottom"/>
            <a:pathLst>
              <a:path w="21600" h="21608">
                <a:moveTo>
                  <a:pt x="4752" y="0"/>
                </a:moveTo>
                <a:arcTo wR="4752" hR="4752" stAng="16200000" swAng="-5400000"/>
                <a:lnTo>
                  <a:pt x="0" y="16856"/>
                </a:lnTo>
                <a:arcTo wR="4752" hR="4752" stAng="10800000" swAng="-5400000"/>
                <a:lnTo>
                  <a:pt x="16848" y="21608"/>
                </a:lnTo>
                <a:arcTo wR="4752" hR="4752" stAng="5400000" swAng="-5400000"/>
                <a:lnTo>
                  <a:pt x="21600" y="4752"/>
                </a:lnTo>
                <a:arcTo wR="4752" hR="4752" stAng="0" swAng="-5400000"/>
                <a:close/>
              </a:path>
            </a:pathLst>
          </a:custGeom>
          <a:solidFill>
            <a:srgbClr val="98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7"/>
          <p:cNvSpPr/>
          <p:nvPr/>
        </p:nvSpPr>
        <p:spPr>
          <a:xfrm>
            <a:off x="2454120" y="349884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d0d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8"/>
          <p:cNvSpPr/>
          <p:nvPr/>
        </p:nvSpPr>
        <p:spPr>
          <a:xfrm>
            <a:off x="3559320" y="3486240"/>
            <a:ext cx="990360" cy="990360"/>
          </a:xfrm>
          <a:prstGeom prst="roundRect">
            <a:avLst>
              <a:gd name="adj" fmla="val 22000"/>
            </a:avLst>
          </a:prstGeom>
          <a:solidFill>
            <a:srgbClr val="587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9"/>
          <p:cNvSpPr/>
          <p:nvPr/>
        </p:nvSpPr>
        <p:spPr>
          <a:xfrm>
            <a:off x="4651200" y="349884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d0d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0"/>
          <p:cNvSpPr/>
          <p:nvPr/>
        </p:nvSpPr>
        <p:spPr>
          <a:xfrm>
            <a:off x="5756400" y="3486240"/>
            <a:ext cx="990360" cy="990360"/>
          </a:xfrm>
          <a:prstGeom prst="roundRect">
            <a:avLst>
              <a:gd name="adj" fmla="val 22000"/>
            </a:avLst>
          </a:prstGeom>
          <a:solidFill>
            <a:srgbClr val="98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1"/>
          <p:cNvSpPr/>
          <p:nvPr/>
        </p:nvSpPr>
        <p:spPr>
          <a:xfrm>
            <a:off x="6861240" y="3511440"/>
            <a:ext cx="990360" cy="990720"/>
          </a:xfrm>
          <a:custGeom>
            <a:avLst/>
            <a:gdLst>
              <a:gd name="textAreaLeft" fmla="*/ 63720 w 990360"/>
              <a:gd name="textAreaRight" fmla="*/ 926640 w 990360"/>
              <a:gd name="textAreaTop" fmla="*/ 63720 h 990720"/>
              <a:gd name="textAreaBottom" fmla="*/ 927000 h 990720"/>
            </a:gdLst>
            <a:ahLst/>
            <a:rect l="textAreaLeft" t="textAreaTop" r="textAreaRight" b="textAreaBottom"/>
            <a:pathLst>
              <a:path w="21600" h="21608">
                <a:moveTo>
                  <a:pt x="4752" y="0"/>
                </a:moveTo>
                <a:arcTo wR="4752" hR="4752" stAng="16200000" swAng="-5400000"/>
                <a:lnTo>
                  <a:pt x="0" y="16856"/>
                </a:lnTo>
                <a:arcTo wR="4752" hR="4752" stAng="10800000" swAng="-5400000"/>
                <a:lnTo>
                  <a:pt x="16848" y="21608"/>
                </a:lnTo>
                <a:arcTo wR="4752" hR="4752" stAng="5400000" swAng="-5400000"/>
                <a:lnTo>
                  <a:pt x="21600" y="4752"/>
                </a:lnTo>
                <a:arcTo wR="4752" hR="4752" stAng="0" swAng="-5400000"/>
                <a:close/>
              </a:path>
            </a:pathLst>
          </a:custGeom>
          <a:solidFill>
            <a:srgbClr val="d0d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2"/>
          <p:cNvSpPr/>
          <p:nvPr/>
        </p:nvSpPr>
        <p:spPr>
          <a:xfrm>
            <a:off x="7966080" y="349884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587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3"/>
          <p:cNvSpPr/>
          <p:nvPr/>
        </p:nvSpPr>
        <p:spPr>
          <a:xfrm>
            <a:off x="6861240" y="1276200"/>
            <a:ext cx="990360" cy="990720"/>
          </a:xfrm>
          <a:custGeom>
            <a:avLst/>
            <a:gdLst>
              <a:gd name="textAreaLeft" fmla="*/ 63720 w 990360"/>
              <a:gd name="textAreaRight" fmla="*/ 926640 w 990360"/>
              <a:gd name="textAreaTop" fmla="*/ 63720 h 990720"/>
              <a:gd name="textAreaBottom" fmla="*/ 927000 h 990720"/>
            </a:gdLst>
            <a:ahLst/>
            <a:rect l="textAreaLeft" t="textAreaTop" r="textAreaRight" b="textAreaBottom"/>
            <a:pathLst>
              <a:path w="21600" h="21608">
                <a:moveTo>
                  <a:pt x="4752" y="0"/>
                </a:moveTo>
                <a:arcTo wR="4752" hR="4752" stAng="16200000" swAng="-5400000"/>
                <a:lnTo>
                  <a:pt x="0" y="16856"/>
                </a:lnTo>
                <a:arcTo wR="4752" hR="4752" stAng="10800000" swAng="-5400000"/>
                <a:lnTo>
                  <a:pt x="16848" y="21608"/>
                </a:lnTo>
                <a:arcTo wR="4752" hR="4752" stAng="5400000" swAng="-5400000"/>
                <a:lnTo>
                  <a:pt x="21600" y="4752"/>
                </a:lnTo>
                <a:arcTo wR="4752" hR="4752" stAng="0" swAng="-5400000"/>
                <a:close/>
              </a:path>
            </a:pathLst>
          </a:custGeom>
          <a:solidFill>
            <a:srgbClr val="587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4"/>
          <p:cNvSpPr/>
          <p:nvPr/>
        </p:nvSpPr>
        <p:spPr>
          <a:xfrm>
            <a:off x="7966080" y="126360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d0d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5"/>
          <p:cNvSpPr/>
          <p:nvPr/>
        </p:nvSpPr>
        <p:spPr>
          <a:xfrm>
            <a:off x="193680" y="460368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98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6"/>
          <p:cNvSpPr/>
          <p:nvPr/>
        </p:nvSpPr>
        <p:spPr>
          <a:xfrm>
            <a:off x="1311120" y="459108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587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7"/>
          <p:cNvSpPr/>
          <p:nvPr/>
        </p:nvSpPr>
        <p:spPr>
          <a:xfrm>
            <a:off x="2441520" y="461628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587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8"/>
          <p:cNvSpPr/>
          <p:nvPr/>
        </p:nvSpPr>
        <p:spPr>
          <a:xfrm>
            <a:off x="3546360" y="460368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d0d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9"/>
          <p:cNvSpPr/>
          <p:nvPr/>
        </p:nvSpPr>
        <p:spPr>
          <a:xfrm>
            <a:off x="206280" y="569592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587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0"/>
          <p:cNvSpPr/>
          <p:nvPr/>
        </p:nvSpPr>
        <p:spPr>
          <a:xfrm>
            <a:off x="1324080" y="5683320"/>
            <a:ext cx="990360" cy="990360"/>
          </a:xfrm>
          <a:prstGeom prst="roundRect">
            <a:avLst>
              <a:gd name="adj" fmla="val 22000"/>
            </a:avLst>
          </a:prstGeom>
          <a:solidFill>
            <a:srgbClr val="d0d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1"/>
          <p:cNvSpPr/>
          <p:nvPr/>
        </p:nvSpPr>
        <p:spPr>
          <a:xfrm>
            <a:off x="2454120" y="570852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af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2"/>
          <p:cNvSpPr/>
          <p:nvPr/>
        </p:nvSpPr>
        <p:spPr>
          <a:xfrm>
            <a:off x="3559320" y="5695920"/>
            <a:ext cx="990360" cy="990720"/>
          </a:xfrm>
          <a:custGeom>
            <a:avLst/>
            <a:gdLst>
              <a:gd name="textAreaLeft" fmla="*/ 63720 w 990360"/>
              <a:gd name="textAreaRight" fmla="*/ 926640 w 990360"/>
              <a:gd name="textAreaTop" fmla="*/ 63720 h 990720"/>
              <a:gd name="textAreaBottom" fmla="*/ 927000 h 990720"/>
            </a:gdLst>
            <a:ahLst/>
            <a:rect l="textAreaLeft" t="textAreaTop" r="textAreaRight" b="textAreaBottom"/>
            <a:pathLst>
              <a:path w="21600" h="21608">
                <a:moveTo>
                  <a:pt x="4752" y="0"/>
                </a:moveTo>
                <a:arcTo wR="4752" hR="4752" stAng="16200000" swAng="-5400000"/>
                <a:lnTo>
                  <a:pt x="0" y="16856"/>
                </a:lnTo>
                <a:arcTo wR="4752" hR="4752" stAng="10800000" swAng="-5400000"/>
                <a:lnTo>
                  <a:pt x="16848" y="21608"/>
                </a:lnTo>
                <a:arcTo wR="4752" hR="4752" stAng="5400000" swAng="-5400000"/>
                <a:lnTo>
                  <a:pt x="21600" y="4752"/>
                </a:lnTo>
                <a:arcTo wR="4752" hR="4752" stAng="0" swAng="-5400000"/>
                <a:close/>
              </a:path>
            </a:pathLst>
          </a:custGeom>
          <a:solidFill>
            <a:srgbClr val="98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3"/>
          <p:cNvSpPr/>
          <p:nvPr/>
        </p:nvSpPr>
        <p:spPr>
          <a:xfrm>
            <a:off x="4651200" y="570852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587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4"/>
          <p:cNvSpPr/>
          <p:nvPr/>
        </p:nvSpPr>
        <p:spPr>
          <a:xfrm>
            <a:off x="5756400" y="5695920"/>
            <a:ext cx="990360" cy="990720"/>
          </a:xfrm>
          <a:custGeom>
            <a:avLst/>
            <a:gdLst>
              <a:gd name="textAreaLeft" fmla="*/ 63720 w 990360"/>
              <a:gd name="textAreaRight" fmla="*/ 926640 w 990360"/>
              <a:gd name="textAreaTop" fmla="*/ 63720 h 990720"/>
              <a:gd name="textAreaBottom" fmla="*/ 927000 h 990720"/>
            </a:gdLst>
            <a:ahLst/>
            <a:rect l="textAreaLeft" t="textAreaTop" r="textAreaRight" b="textAreaBottom"/>
            <a:pathLst>
              <a:path w="21600" h="21608">
                <a:moveTo>
                  <a:pt x="4752" y="0"/>
                </a:moveTo>
                <a:arcTo wR="4752" hR="4752" stAng="16200000" swAng="-5400000"/>
                <a:lnTo>
                  <a:pt x="0" y="16856"/>
                </a:lnTo>
                <a:arcTo wR="4752" hR="4752" stAng="10800000" swAng="-5400000"/>
                <a:lnTo>
                  <a:pt x="16848" y="21608"/>
                </a:lnTo>
                <a:arcTo wR="4752" hR="4752" stAng="5400000" swAng="-5400000"/>
                <a:lnTo>
                  <a:pt x="21600" y="4752"/>
                </a:lnTo>
                <a:arcTo wR="4752" hR="4752" stAng="0" swAng="-5400000"/>
                <a:close/>
              </a:path>
            </a:pathLst>
          </a:custGeom>
          <a:solidFill>
            <a:srgbClr val="d0d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5"/>
          <p:cNvSpPr/>
          <p:nvPr/>
        </p:nvSpPr>
        <p:spPr>
          <a:xfrm>
            <a:off x="6861240" y="5721480"/>
            <a:ext cx="990360" cy="990360"/>
          </a:xfrm>
          <a:prstGeom prst="roundRect">
            <a:avLst>
              <a:gd name="adj" fmla="val 22000"/>
            </a:avLst>
          </a:prstGeom>
          <a:solidFill>
            <a:srgbClr val="af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6"/>
          <p:cNvSpPr/>
          <p:nvPr/>
        </p:nvSpPr>
        <p:spPr>
          <a:xfrm>
            <a:off x="7966080" y="5708520"/>
            <a:ext cx="990720" cy="990720"/>
          </a:xfrm>
          <a:prstGeom prst="roundRect">
            <a:avLst>
              <a:gd name="adj" fmla="val 22000"/>
            </a:avLst>
          </a:prstGeom>
          <a:solidFill>
            <a:srgbClr val="98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7"/>
          <p:cNvSpPr/>
          <p:nvPr/>
        </p:nvSpPr>
        <p:spPr>
          <a:xfrm>
            <a:off x="4638600" y="4591080"/>
            <a:ext cx="4292640" cy="990720"/>
          </a:xfrm>
          <a:prstGeom prst="roundRect">
            <a:avLst>
              <a:gd name="adj" fmla="val 16667"/>
            </a:avLst>
          </a:prstGeom>
          <a:solidFill>
            <a:srgbClr val="d0d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6720" y="152280"/>
            <a:ext cx="752292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777e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58777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94920" y="1066680"/>
            <a:ext cx="7526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5"/>
          </p:nvPr>
        </p:nvSpPr>
        <p:spPr>
          <a:xfrm>
            <a:off x="7741800" y="4648320"/>
            <a:ext cx="109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743000" y="46432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8777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743000" y="5091120"/>
            <a:ext cx="404964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3"/>
          <p:cNvSpPr/>
          <p:nvPr/>
        </p:nvSpPr>
        <p:spPr>
          <a:xfrm>
            <a:off x="8001000" y="563868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C67A-FB3A-4EAE-86C4-B83BFE3005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6720" y="152280"/>
            <a:ext cx="752292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8777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066680"/>
            <a:ext cx="7526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645480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1"/>
              </a:rPr>
              <a:t>免费PPT模板</a:t>
            </a: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009999"/>
                </a:solidFill>
                <a:latin typeface="Arial"/>
              </a:rPr>
              <a:t>：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20:28:09Z</dcterms:created>
  <dc:creator>kingsoft</dc:creator>
  <dc:description/>
  <dc:language>en-US</dc:language>
  <cp:lastModifiedBy>a</cp:lastModifiedBy>
  <dcterms:modified xsi:type="dcterms:W3CDTF">2015-01-14T08:22:2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