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811-5716-4EE5-B864-52FC17DD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DC9-F04D-4D18-AF4C-3216E0C9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6C61-FA97-4BC9-8FD7-5F7C578A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7235-51CB-41BF-8F6B-E2A80927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2EEB-0125-4D8A-A227-BF1F66DF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D452-BD10-4C0D-BC56-E3CA3F3A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A266-B05C-433B-9B70-69E9C825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0938-9206-4C80-B059-1B7F4C28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1B8E-2908-47C3-9FB3-0ED0C166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030C-96CA-4CB2-BD1D-6342B4D1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AEA5-8306-44CD-B225-88ABDAC8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812-B8D7-4E7B-A4B2-5DF6BF60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7895-0110-4285-92A5-F53626E7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A849-31DC-4243-9445-BA7C788B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277B-35C2-4A62-B3A7-84AE7AB3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FF22-DDA3-41F4-B047-F9CBF495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8AD9-9E02-4F54-BD56-0B45A651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22CFC-CD2E-4F8A-9469-97DD1D33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1A1F2-ED78-4DCD-856D-F57C2D61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BA80C-3480-4490-BA9B-08936626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57944-F8C7-470E-9237-28A41DAF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A70E4-E3B5-487C-8368-6D4DE14D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470-CD46-478E-BD3F-730DFB43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B184F-65B3-4D07-87DF-741D1B4A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EABE5-D98D-46DB-B322-FF94A159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A3A13-B37B-4EE7-9255-02175109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724B7-9448-4094-BB22-5932998A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DECEB-2F37-4D54-8E5F-29041B80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F3E82-386E-4C27-AFBF-A32192EE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A2E9D-CF32-45A4-964C-02D5F2D7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837-9185-478C-A8D6-96B8F1F1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8EC-0058-4742-8BA5-E46292C2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00A-5896-4CCA-AED9-90F91518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6531-509F-45CD-A561-7E58B638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4833-06FA-4F0B-BED0-D9D7F5B7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401-67A0-4B96-A7D8-CD405D05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3A85-790A-423B-9043-473F984B967C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FF61-9661-41BD-8684-988CE588B2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4216-5639-4F11-AA97-A474A6E030F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E9DE-AF10-4B95-9DF6-0F2241E66A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4" descr="ppt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2" descr="目录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2" descr="未标题2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3" descr="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4" descr="未标题-1副本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2" descr="未标题2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3" descr="未标题2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4" descr="thx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5" descr="thx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19T09:53:39Z</dcterms:modified>
  <cp:revision>1</cp:revision>
  <dc:subject/>
  <dc:title>PowerPoint 演示文稿</dc:title>
</cp:coreProperties>
</file>