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3CE-8705-48D8-A246-6F6BB8D3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8EF-4B07-409E-9202-98C8D7BA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5C3-CED6-4200-B6C9-C4D85412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222-CC2C-4B5E-A4E4-44076110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F683-4611-4875-8E32-74B07986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2551-A20A-49ED-AD03-32A62F0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9F85-0DE4-4A0C-869E-A2AC6FD4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918E-4A39-4E49-8D8B-28EBF1D0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1E97-B760-40F4-8644-EDE4B3E1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9A55-8F4E-47F1-ADD6-040207D0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000D-E34A-4F36-84CB-7B46A6E2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EEF-5344-476F-9E4B-B365D71E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10B9-E58E-4DFF-AEE1-D570BA61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8068-9D29-455B-A936-DEAB125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E7C3-00AC-435E-8CA3-C9D4D6C9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3AEA-5043-4832-B21B-3C434587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C0A1-FBED-47F1-9EB7-23DE3738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3A1D-518E-48A4-BD09-90FEADAC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99AE-A630-4112-8051-6BACAADA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70143-25DE-4417-B941-01B2F1B6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00DF-AB33-4C59-B1A9-6872D053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5939-2740-434F-9EBA-4A464344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64B-57D0-4338-B5EF-9F9FA388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13F9-3F3D-4E95-AFF2-168A697D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6EBD-6F81-47F8-95E0-BB014BEF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0219C-F304-4B64-8237-1496A60A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F832F-9283-406A-BD4B-EEF3D7B4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86D21-EA03-4271-8F48-5F4BD347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932B-AEA7-4D39-BC2A-046E15EF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3596-CC64-49D0-AEA5-9D0C9BBD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01F-DA35-4207-82B3-FBD6D2F4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C99-60CC-4964-8EA3-25C9BC00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82A-6C80-46C3-92F6-C02E538B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A8E-07A9-4325-957B-EB7B1DFA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36D-DA15-4244-A635-3DAEE795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311-6B48-456B-BE2F-55A78812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2920" y="45720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华文琥珀"/>
              </a:rPr>
              <a:t>Click to edit the title text format</a:t>
            </a:r>
            <a:endParaRPr b="1" lang="en-US" sz="4000" spc="-1" strike="noStrike">
              <a:solidFill>
                <a:srgbClr val="dfd293"/>
              </a:solidFill>
              <a:latin typeface="华文琥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2920" y="1676520"/>
            <a:ext cx="7759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1" marL="705600" indent="-271440">
              <a:spcBef>
                <a:spcPts val="799"/>
              </a:spcBef>
              <a:buClr>
                <a:srgbClr val="ffffcc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2" marL="1085760" indent="-217080">
              <a:spcBef>
                <a:spcPts val="799"/>
              </a:spcBef>
              <a:buClr>
                <a:srgbClr val="ffffcc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3" marL="1519920" indent="-217080">
              <a:spcBef>
                <a:spcPts val="799"/>
              </a:spcBef>
              <a:buClr>
                <a:srgbClr val="ffffcc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4" marL="1954440" indent="-217080">
              <a:spcBef>
                <a:spcPts val="799"/>
              </a:spcBef>
              <a:buClr>
                <a:srgbClr val="ffffc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5" marL="1954440" indent="-217080">
              <a:spcBef>
                <a:spcPts val="799"/>
              </a:spcBef>
              <a:buClr>
                <a:srgbClr val="ffffc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6" marL="1954440" indent="-217080">
              <a:spcBef>
                <a:spcPts val="799"/>
              </a:spcBef>
              <a:buClr>
                <a:srgbClr val="ffffc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03280" y="624852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9240" y="6248520"/>
            <a:ext cx="339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59800" y="624852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573D-CD5E-4EA2-B81E-132B66AF82F1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93A0-0682-4A6D-A0F2-98E43DC90B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ECC1-0EC7-4B21-A8B6-D548C6526D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2920" y="45720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华文琥珀"/>
              </a:rPr>
              <a:t>Click to edit the title text format</a:t>
            </a:r>
            <a:endParaRPr b="1" lang="en-US" sz="4000" spc="-1" strike="noStrike">
              <a:solidFill>
                <a:srgbClr val="dfd293"/>
              </a:solidFill>
              <a:latin typeface="华文琥珀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02920" y="1676520"/>
            <a:ext cx="7759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1" marL="705600" indent="-271440">
              <a:spcBef>
                <a:spcPts val="799"/>
              </a:spcBef>
              <a:buClr>
                <a:srgbClr val="ffffcc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2" marL="1085760" indent="-217080">
              <a:spcBef>
                <a:spcPts val="799"/>
              </a:spcBef>
              <a:buClr>
                <a:srgbClr val="ffffcc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3" marL="1519920" indent="-217080">
              <a:spcBef>
                <a:spcPts val="799"/>
              </a:spcBef>
              <a:buClr>
                <a:srgbClr val="ffffcc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4" marL="1954440" indent="-217080">
              <a:spcBef>
                <a:spcPts val="799"/>
              </a:spcBef>
              <a:buClr>
                <a:srgbClr val="ffffc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5" marL="1954440" indent="-217080">
              <a:spcBef>
                <a:spcPts val="799"/>
              </a:spcBef>
              <a:buClr>
                <a:srgbClr val="ffffc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  <a:p>
            <a:pPr lvl="6" marL="1954440" indent="-217080">
              <a:spcBef>
                <a:spcPts val="799"/>
              </a:spcBef>
              <a:buClr>
                <a:srgbClr val="ffffc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幼圆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473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558520" y="6248520"/>
            <a:ext cx="47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C5FB-C4E2-4B99-B96B-C55602553BC0}" type="slidenum">
              <a:rPr b="1" lang="zh-CN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dfd293"/>
              </a:solidFill>
              <a:latin typeface="华文琥珀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24080" y="15998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2920" y="45720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dfd293"/>
              </a:solidFill>
              <a:latin typeface="华文琥珀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676520"/>
            <a:ext cx="7759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380880" y="0"/>
            <a:ext cx="8466120" cy="6858000"/>
            <a:chOff x="38088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997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80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228888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03:38:46Z</dcterms:created>
  <dc:creator/>
  <dc:description/>
  <cp:keywords/>
  <dc:language>en-US</dc:language>
  <cp:lastModifiedBy>a</cp:lastModifiedBy>
  <dcterms:modified xsi:type="dcterms:W3CDTF">2014-07-29T06:50:53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_TemplateID">
    <vt:lpwstr>TC010721392052</vt:lpwstr>
  </property>
</Properties>
</file>