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9C4-46E3-4F2E-9C69-EEB4A293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450-167C-4E44-95E2-C8E56530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0E5-FE02-470B-AB9E-9C0EB2BA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684-9E88-449D-BD60-C35AE2D7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ABD1-1EE3-4C58-A706-7CCDA5A4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B8B6-2762-455B-9F90-20043809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4902-3BC1-44A7-B3BE-607133EF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33FD-EEE1-4035-A44A-48DF81E0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CD81-F823-44B5-9545-1BB1857D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EA25-D560-49A6-9BC7-34673F3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F391-BBEA-4056-9301-938B1442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F1E-030D-4C9C-8F10-BE4C4C0F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1CFC-D68F-4C30-A394-6F564293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7B17-21AD-437B-80A3-0B0E4D88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E7F8-1F05-40AC-8119-3FC11A02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5337-B184-47A2-A25B-9FCD8953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4BCB-6C3A-469B-939F-B8757D45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643-E564-43F1-84B6-CE23253E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63F-DFFE-408D-AC40-DC651AC1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E89-63BF-4711-BD03-42CBE414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71C-4F37-4D36-9ACC-8EB62BA1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0D6-0F02-4B2D-BA6C-C02B6C63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395-B9AB-4037-83F3-AD13B331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896-9CAA-4D37-9774-41310E10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C3EB-2F7D-4334-AFD1-99C86625B27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5960-E5EB-4EDA-84DC-A15DFFF48F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7DCB-7CD5-4518-B923-AC0AE1FA3366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4FE1-1AC9-4958-A2E7-86794C5957D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4608360" y="4890960"/>
            <a:ext cx="100656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ASP.NET C#</a:t>
            </a: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方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网站设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计算机相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实习岗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976400" y="4911840"/>
            <a:ext cx="150336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熟练掌握</a:t>
            </a: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ASP.N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熟练掌握</a:t>
            </a: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C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熟悉</a:t>
            </a: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 </a:t>
            </a: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JavaScript Jque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精通</a:t>
            </a: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7"/>
          <p:cNvSpPr/>
          <p:nvPr/>
        </p:nvSpPr>
        <p:spPr>
          <a:xfrm>
            <a:off x="2990880" y="1317600"/>
            <a:ext cx="2468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姓名：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xxx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年龄：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学历：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xxx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专业：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xxxx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所在高校：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9"/>
          <p:cNvSpPr/>
          <p:nvPr/>
        </p:nvSpPr>
        <p:spPr>
          <a:xfrm>
            <a:off x="4175280" y="60102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2009-2010 </a:t>
            </a: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特等奖学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2010-2011  </a:t>
            </a: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一等奖学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2010/06 </a:t>
            </a: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四级通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2010/12 </a:t>
            </a: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六级通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7"/>
          <p:cNvSpPr/>
          <p:nvPr/>
        </p:nvSpPr>
        <p:spPr>
          <a:xfrm>
            <a:off x="1976400" y="6010200"/>
            <a:ext cx="144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优秀团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优秀学生干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暑期实践先进个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十年院庆优秀演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啦啦操队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8"/>
          <p:cNvSpPr/>
          <p:nvPr/>
        </p:nvSpPr>
        <p:spPr>
          <a:xfrm>
            <a:off x="2670120" y="7143840"/>
            <a:ext cx="294480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2011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全国排舞大赛总决赛 集体自选 一等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2011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全国啦啦操联赛（成都站）俱乐部组 第一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2011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全国排舞大赛（四川分赛区）单人项目 三等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6"/>
          <p:cNvSpPr/>
          <p:nvPr/>
        </p:nvSpPr>
        <p:spPr>
          <a:xfrm>
            <a:off x="1343160" y="2530440"/>
            <a:ext cx="455040" cy="64260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1141560" y="885960"/>
            <a:ext cx="4573440" cy="222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992680" y="885960"/>
            <a:ext cx="729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黑体"/>
                <a:ea typeface="黑体"/>
              </a:rPr>
              <a:t>个人简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1343160" y="5775480"/>
            <a:ext cx="455040" cy="64260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获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1"/>
          <p:cNvSpPr/>
          <p:nvPr/>
        </p:nvSpPr>
        <p:spPr>
          <a:xfrm>
            <a:off x="1343160" y="1292400"/>
            <a:ext cx="455040" cy="642600"/>
          </a:xfrm>
          <a:prstGeom prst="rect">
            <a:avLst/>
          </a:prstGeom>
          <a:solidFill>
            <a:srgbClr val="5f4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9"/>
          <p:cNvSpPr/>
          <p:nvPr/>
        </p:nvSpPr>
        <p:spPr>
          <a:xfrm>
            <a:off x="1976400" y="2820960"/>
            <a:ext cx="363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作为啦啦操队队长那一年带领着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21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个队员同教练一起辛苦奋战。最后在我院十年院庆晚会上，在近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20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个优秀节目中，与另外一个精彩的街舞节目并列获得了此次晚会的第一名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2863800" y="2540160"/>
            <a:ext cx="2725920" cy="24588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1"/>
          <p:cNvSpPr/>
          <p:nvPr/>
        </p:nvSpPr>
        <p:spPr>
          <a:xfrm>
            <a:off x="2121840" y="2523960"/>
            <a:ext cx="59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啦啦队队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1989000" y="3708360"/>
            <a:ext cx="36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2010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年作为室长带着另外三位室友参加了第五届文明寝室答辩会，但遗憾我们并没有拿到我们想要的名次。第二年带着不拿第一不罢休的决心，我们参加了来年的第六届文明寝室答辩会。最后不负所望，我们这个大二男生寝室，和另一个大三的女生寝室，并列拿到了此次比赛最高奖党员示范寝室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2009160" y="341640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室长</a:t>
            </a:r>
            <a:r>
              <a:rPr b="1" lang="en-US" sz="11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4"/>
          <p:cNvSpPr/>
          <p:nvPr/>
        </p:nvSpPr>
        <p:spPr>
          <a:xfrm>
            <a:off x="1343160" y="4643280"/>
            <a:ext cx="455040" cy="6426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我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求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7"/>
          <p:cNvSpPr/>
          <p:nvPr/>
        </p:nvSpPr>
        <p:spPr>
          <a:xfrm>
            <a:off x="2495520" y="3460680"/>
            <a:ext cx="3094200" cy="24768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76"/>
          <p:cNvSpPr/>
          <p:nvPr/>
        </p:nvSpPr>
        <p:spPr>
          <a:xfrm>
            <a:off x="1989000" y="2509920"/>
            <a:ext cx="0" cy="804960"/>
          </a:xfrm>
          <a:prstGeom prst="line">
            <a:avLst/>
          </a:prstGeom>
          <a:ln w="507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78"/>
          <p:cNvSpPr/>
          <p:nvPr/>
        </p:nvSpPr>
        <p:spPr>
          <a:xfrm>
            <a:off x="1989000" y="3416400"/>
            <a:ext cx="0" cy="1008000"/>
          </a:xfrm>
          <a:prstGeom prst="line">
            <a:avLst/>
          </a:prstGeom>
          <a:ln w="507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1"/>
          <p:cNvSpPr/>
          <p:nvPr/>
        </p:nvSpPr>
        <p:spPr>
          <a:xfrm>
            <a:off x="2725560" y="4643280"/>
            <a:ext cx="2859120" cy="254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6"/>
          <p:cNvSpPr/>
          <p:nvPr/>
        </p:nvSpPr>
        <p:spPr>
          <a:xfrm>
            <a:off x="2093040" y="46353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专业技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3"/>
          <p:cNvSpPr/>
          <p:nvPr/>
        </p:nvSpPr>
        <p:spPr>
          <a:xfrm>
            <a:off x="4982400" y="4640400"/>
            <a:ext cx="5158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求职意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0"/>
          <p:cNvSpPr/>
          <p:nvPr/>
        </p:nvSpPr>
        <p:spPr>
          <a:xfrm>
            <a:off x="2495520" y="5775480"/>
            <a:ext cx="3089160" cy="24588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0"/>
          <p:cNvSpPr/>
          <p:nvPr/>
        </p:nvSpPr>
        <p:spPr>
          <a:xfrm>
            <a:off x="1976400" y="5751360"/>
            <a:ext cx="49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工作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92"/>
          <p:cNvSpPr/>
          <p:nvPr/>
        </p:nvSpPr>
        <p:spPr>
          <a:xfrm>
            <a:off x="2998800" y="1317600"/>
            <a:ext cx="0" cy="1042920"/>
          </a:xfrm>
          <a:prstGeom prst="line">
            <a:avLst/>
          </a:prstGeom>
          <a:ln w="50760">
            <a:solidFill>
              <a:srgbClr val="5f4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93"/>
          <p:cNvSpPr/>
          <p:nvPr/>
        </p:nvSpPr>
        <p:spPr>
          <a:xfrm>
            <a:off x="1989000" y="5775480"/>
            <a:ext cx="9720" cy="957240"/>
          </a:xfrm>
          <a:prstGeom prst="line">
            <a:avLst/>
          </a:prstGeom>
          <a:ln w="507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5049720" y="5769000"/>
            <a:ext cx="565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学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5"/>
          <p:cNvSpPr/>
          <p:nvPr/>
        </p:nvSpPr>
        <p:spPr>
          <a:xfrm>
            <a:off x="2149560" y="6886440"/>
            <a:ext cx="3440160" cy="2462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6"/>
          <p:cNvSpPr/>
          <p:nvPr/>
        </p:nvSpPr>
        <p:spPr>
          <a:xfrm>
            <a:off x="5060880" y="6877080"/>
            <a:ext cx="5637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特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96"/>
          <p:cNvSpPr/>
          <p:nvPr/>
        </p:nvSpPr>
        <p:spPr>
          <a:xfrm>
            <a:off x="1989000" y="4630680"/>
            <a:ext cx="9720" cy="865080"/>
          </a:xfrm>
          <a:prstGeom prst="line">
            <a:avLst/>
          </a:prstGeom>
          <a:ln w="507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97"/>
          <p:cNvSpPr/>
          <p:nvPr/>
        </p:nvSpPr>
        <p:spPr>
          <a:xfrm>
            <a:off x="1989000" y="6886440"/>
            <a:ext cx="5040" cy="750960"/>
          </a:xfrm>
          <a:prstGeom prst="line">
            <a:avLst/>
          </a:prstGeom>
          <a:ln w="507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000160"/>
            <a:ext cx="6350040" cy="5143680"/>
            <a:chOff x="0" y="2000160"/>
            <a:chExt cx="6350040" cy="5143680"/>
          </a:xfrm>
        </p:grpSpPr>
        <p:sp>
          <p:nvSpPr>
            <p:cNvPr id="115" name="矩形 4"/>
            <p:cNvSpPr/>
            <p:nvPr/>
          </p:nvSpPr>
          <p:spPr>
            <a:xfrm>
              <a:off x="462600" y="200016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328608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7"/>
            <p:cNvSpPr/>
            <p:nvPr/>
          </p:nvSpPr>
          <p:spPr>
            <a:xfrm rot="20926800">
              <a:off x="1430280" y="466524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1:43:00Z</dcterms:created>
  <dc:creator>heartstar27</dc:creator>
  <dc:description/>
  <cp:keywords/>
  <dc:language>en-US</dc:language>
  <cp:lastModifiedBy>a</cp:lastModifiedBy>
  <dcterms:modified xsi:type="dcterms:W3CDTF">2014-07-20T07:49:56Z</dcterms:modified>
  <cp:revision>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