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BCC-BAB8-4445-87C3-B539CFDB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326-A8C5-4C7F-9127-DE1DDF06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D47-0824-4F09-9DAC-635A3E2F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0EB-8D46-48D5-A2AE-B965FF4C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31DD-9E44-4EBB-AC23-9CF9DBAA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15FB-3F1B-4616-8F75-D7614E16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E781-D5C2-4ED6-8A88-8294708A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7A49-40D6-4551-AB81-11D6B69D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F742-7805-4B2E-945C-39EF0C37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7B38-08A4-4236-94E0-B10B6FB3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964D-9E5B-479D-A14E-2B16E85D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721-D77E-44D6-B0C0-0130C7CE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35C0-A532-4B79-93F8-7624D162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6370-451B-4427-B237-F1E71148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64F4-5274-4386-95E2-F62312D4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D997-3DF7-4D3F-8194-F4333540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5ACB-D59F-4559-B1C5-73414A06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556-8633-4B78-AF3D-A551CDE8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9F7-C53E-41D5-BA33-B568A907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FFE-09FF-439C-B366-4DE4D2CC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536-D421-4323-878F-8143204B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0B9-93EA-42FF-885A-12AC52AE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19C-3903-41AC-B4A7-FFA4ECAD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9AF-2346-4C7C-8D94-15E061FA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FF62-880D-4FE5-9481-A2A043BBD7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4872-AAEF-46D3-81FF-3A24A11AC7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1FF5-0D73-49AD-80A8-7B9C41BD54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QQ截图20120515195926"/>
          <p:cNvPicPr/>
          <p:nvPr/>
        </p:nvPicPr>
        <p:blipFill>
          <a:blip r:embed="rId1"/>
          <a:stretch/>
        </p:blipFill>
        <p:spPr>
          <a:xfrm>
            <a:off x="184320" y="117360"/>
            <a:ext cx="8783640" cy="46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QQ截图20120515201748"/>
          <p:cNvPicPr/>
          <p:nvPr/>
        </p:nvPicPr>
        <p:blipFill>
          <a:blip r:embed="rId2"/>
          <a:stretch/>
        </p:blipFill>
        <p:spPr>
          <a:xfrm>
            <a:off x="266760" y="187200"/>
            <a:ext cx="1927080" cy="365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252360" y="157320"/>
            <a:ext cx="21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人主页式简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QQ截图20120515200656"/>
          <p:cNvPicPr/>
          <p:nvPr/>
        </p:nvPicPr>
        <p:blipFill>
          <a:blip r:embed="rId3"/>
          <a:stretch/>
        </p:blipFill>
        <p:spPr>
          <a:xfrm>
            <a:off x="1252440" y="1873080"/>
            <a:ext cx="444600" cy="482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1306440" y="1247760"/>
            <a:ext cx="8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49520" y="187308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QQ截图20120515201521"/>
          <p:cNvPicPr/>
          <p:nvPr/>
        </p:nvPicPr>
        <p:blipFill>
          <a:blip r:embed="rId4"/>
          <a:stretch/>
        </p:blipFill>
        <p:spPr>
          <a:xfrm>
            <a:off x="184320" y="2567160"/>
            <a:ext cx="2009520" cy="465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355680" y="263520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基 本 信 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 flipH="1">
            <a:off x="2197080" y="584280"/>
            <a:ext cx="1440" cy="630216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168120" y="3195720"/>
            <a:ext cx="2025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Te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52****31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736***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-mail:736***125@qq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6661080" y="669960"/>
            <a:ext cx="28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熟练掌握各种办公软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4" descr="QQ截图20120515203954"/>
          <p:cNvPicPr/>
          <p:nvPr/>
        </p:nvPicPr>
        <p:blipFill>
          <a:blip r:embed="rId5"/>
          <a:stretch/>
        </p:blipFill>
        <p:spPr>
          <a:xfrm>
            <a:off x="6483240" y="187200"/>
            <a:ext cx="2484720" cy="365400"/>
          </a:xfrm>
          <a:prstGeom prst="rect">
            <a:avLst/>
          </a:prstGeom>
          <a:ln w="0">
            <a:noFill/>
          </a:ln>
        </p:spPr>
      </p:pic>
      <p:sp>
        <p:nvSpPr>
          <p:cNvPr id="94" name="Line 15"/>
          <p:cNvSpPr/>
          <p:nvPr/>
        </p:nvSpPr>
        <p:spPr>
          <a:xfrm>
            <a:off x="6659640" y="584280"/>
            <a:ext cx="1440" cy="630216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6" descr=""/>
          <p:cNvPicPr/>
          <p:nvPr/>
        </p:nvPicPr>
        <p:blipFill>
          <a:blip r:embed="rId6"/>
          <a:stretch/>
        </p:blipFill>
        <p:spPr>
          <a:xfrm>
            <a:off x="7574040" y="995400"/>
            <a:ext cx="334800" cy="33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7" descr=""/>
          <p:cNvPicPr/>
          <p:nvPr/>
        </p:nvPicPr>
        <p:blipFill>
          <a:blip r:embed="rId7"/>
          <a:stretch/>
        </p:blipFill>
        <p:spPr>
          <a:xfrm>
            <a:off x="7215120" y="995400"/>
            <a:ext cx="335160" cy="33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8" descr=""/>
          <p:cNvPicPr/>
          <p:nvPr/>
        </p:nvPicPr>
        <p:blipFill>
          <a:blip r:embed="rId8"/>
          <a:stretch/>
        </p:blipFill>
        <p:spPr>
          <a:xfrm>
            <a:off x="6827760" y="995400"/>
            <a:ext cx="333360" cy="33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9" descr=""/>
          <p:cNvPicPr/>
          <p:nvPr/>
        </p:nvPicPr>
        <p:blipFill>
          <a:blip r:embed="rId9"/>
          <a:srcRect l="7887" t="8569" r="8179" b="13277"/>
          <a:stretch/>
        </p:blipFill>
        <p:spPr>
          <a:xfrm>
            <a:off x="7908840" y="995400"/>
            <a:ext cx="311400" cy="298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1" descr=""/>
          <p:cNvPicPr/>
          <p:nvPr/>
        </p:nvPicPr>
        <p:blipFill>
          <a:blip r:embed="rId10"/>
          <a:srcRect l="17557" t="26735" r="39238" b="38672"/>
          <a:stretch/>
        </p:blipFill>
        <p:spPr>
          <a:xfrm>
            <a:off x="7574040" y="1353960"/>
            <a:ext cx="301680" cy="30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3" descr=""/>
          <p:cNvPicPr/>
          <p:nvPr/>
        </p:nvPicPr>
        <p:blipFill>
          <a:blip r:embed="rId11"/>
          <a:stretch/>
        </p:blipFill>
        <p:spPr>
          <a:xfrm>
            <a:off x="8539200" y="1011240"/>
            <a:ext cx="318960" cy="31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4" descr=""/>
          <p:cNvPicPr/>
          <p:nvPr/>
        </p:nvPicPr>
        <p:blipFill>
          <a:blip r:embed="rId12"/>
          <a:srcRect l="0" t="0" r="0" b="8662"/>
          <a:stretch/>
        </p:blipFill>
        <p:spPr>
          <a:xfrm rot="60000">
            <a:off x="8538840" y="1372680"/>
            <a:ext cx="318960" cy="300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6" descr=""/>
          <p:cNvPicPr/>
          <p:nvPr/>
        </p:nvPicPr>
        <p:blipFill>
          <a:blip r:embed="rId13"/>
          <a:srcRect l="0" t="0" r="0" b="10677"/>
          <a:stretch/>
        </p:blipFill>
        <p:spPr>
          <a:xfrm>
            <a:off x="7215120" y="1362240"/>
            <a:ext cx="312840" cy="303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7" descr=""/>
          <p:cNvPicPr/>
          <p:nvPr/>
        </p:nvPicPr>
        <p:blipFill>
          <a:blip r:embed="rId14"/>
          <a:srcRect l="10175" t="38368" r="77410" b="42542"/>
          <a:stretch/>
        </p:blipFill>
        <p:spPr>
          <a:xfrm>
            <a:off x="6842160" y="1353960"/>
            <a:ext cx="318960" cy="319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" descr="QQ截图20120515205010"/>
          <p:cNvPicPr/>
          <p:nvPr/>
        </p:nvPicPr>
        <p:blipFill>
          <a:blip r:embed="rId15"/>
          <a:stretch/>
        </p:blipFill>
        <p:spPr>
          <a:xfrm>
            <a:off x="8224920" y="995400"/>
            <a:ext cx="314280" cy="29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QQ截图20120515204957"/>
          <p:cNvPicPr/>
          <p:nvPr/>
        </p:nvPicPr>
        <p:blipFill>
          <a:blip r:embed="rId16"/>
          <a:stretch/>
        </p:blipFill>
        <p:spPr>
          <a:xfrm>
            <a:off x="8199360" y="1362240"/>
            <a:ext cx="339840" cy="293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7" descr="QQ截图20120515204931"/>
          <p:cNvPicPr/>
          <p:nvPr/>
        </p:nvPicPr>
        <p:blipFill>
          <a:blip r:embed="rId17"/>
          <a:stretch/>
        </p:blipFill>
        <p:spPr>
          <a:xfrm>
            <a:off x="7875720" y="1362240"/>
            <a:ext cx="403200" cy="33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8" descr="QQ截图20120515201748"/>
          <p:cNvPicPr/>
          <p:nvPr/>
        </p:nvPicPr>
        <p:blipFill>
          <a:blip r:embed="rId18"/>
          <a:stretch/>
        </p:blipFill>
        <p:spPr>
          <a:xfrm>
            <a:off x="6659640" y="289080"/>
            <a:ext cx="1539720" cy="199800"/>
          </a:xfrm>
          <a:prstGeom prst="rect">
            <a:avLst/>
          </a:prstGeom>
          <a:ln w="0">
            <a:noFill/>
          </a:ln>
        </p:spPr>
      </p:pic>
      <p:sp>
        <p:nvSpPr>
          <p:cNvPr id="108" name="Line 29"/>
          <p:cNvSpPr/>
          <p:nvPr/>
        </p:nvSpPr>
        <p:spPr>
          <a:xfrm>
            <a:off x="6648480" y="1873080"/>
            <a:ext cx="2521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2197080" y="1872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实践  获奖  能力  爱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2198520" y="584280"/>
            <a:ext cx="412308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实践与锻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寒假  哈尔滨新东方冬令营          生活助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暑假  哈尔滨明彦科技有限公司   实习生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寒假  哈尔滨明彦科技有限公司   实习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大一学期      黑龙江大学学生创业协会   干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计算机软件学软学生会       干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级软件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班                      生活班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大二学期      黑龙江大学学生创业协会   副主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级软件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班                      生活班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2197080" y="2968560"/>
            <a:ext cx="4464000" cy="792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2198520" y="3032280"/>
            <a:ext cx="41119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获奖及表现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大一荣获软件学软“优秀学生干部”称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黑龙江大学学生创业协会“优秀部员”称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黑龙江大学学生创业协会“团队精神”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大二荣获黑龙江大学校级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大赛三等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带领部门荣获“优秀部门”称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>
            <a:off x="2198520" y="4471920"/>
            <a:ext cx="4464360" cy="648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2198520" y="4513320"/>
            <a:ext cx="42847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个人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精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,C++,JAV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语言，拥有良好的编程能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熟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JOrac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Java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开发技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ibernate,ISpring,EJB3.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开发技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正在学习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开发技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班级、学生会和协会的工作锻炼下，拥有良好的沟通和组织能力，擅长处理人际关系，表达演讲较好，具有团队精神、凝聚力和号召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6"/>
          <p:cNvSpPr/>
          <p:nvPr/>
        </p:nvSpPr>
        <p:spPr>
          <a:xfrm>
            <a:off x="6737400" y="1963800"/>
            <a:ext cx="2432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爱好与特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爱好丰富，享受生活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喜欢听音乐，看电影，爬山，徒步旅行，吃小吃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特长虽少，乐在其中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对球类运动比较擅长，例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篮球，足球，乒乓球，羽毛球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面的各种办公软件都都熟练掌握，自己经常做视频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pt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电子杂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7"/>
          <p:cNvSpPr/>
          <p:nvPr/>
        </p:nvSpPr>
        <p:spPr>
          <a:xfrm>
            <a:off x="6615000" y="4478400"/>
            <a:ext cx="2521080" cy="144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6662880" y="4464000"/>
            <a:ext cx="245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品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本人不吸烟、不酗酒、不赌博，无不良嗜好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阳光开朗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热爱生活，乐于助人，爱好和平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~~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最后，本人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单身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9"/>
          <p:cNvSpPr/>
          <p:nvPr/>
        </p:nvSpPr>
        <p:spPr>
          <a:xfrm>
            <a:off x="6659640" y="5958000"/>
            <a:ext cx="2520720" cy="144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6662880" y="597060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特别鸣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0T07:50:45Z</dcterms:modified>
  <cp:revision>1</cp:revision>
  <dc:subject/>
  <dc:title>PowerPoint 演示文稿</dc:title>
</cp:coreProperties>
</file>