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1A40-09E5-4CE5-A6E2-58779115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70BA-CA32-468C-B019-C00D8193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E758-FF2C-43EF-A7E4-8B3865BF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75D4-8D2F-40DE-9927-3E5B7313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AA5B-8A2D-427B-BABC-B6DCECBF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C2C7-5572-438B-B9B7-87E5DC02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35A8-0A78-4D83-9FED-0FD800B7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D506-EC05-491C-AD31-C18E462F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5BBC-EC9D-4710-9135-80686461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A365-FFBC-438E-9AB4-D7063911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09C2-0812-44C0-BBE5-2FE1EB1B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BBF9-4C42-4F88-963C-C9CD510E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4BAF-BEC6-4B15-83B1-2F03D847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74BB-F5A7-4846-974E-963EEA75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D44F-16C3-40AF-B9E1-82CD87D8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F9EC-63DF-46FB-AB76-A6B75066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8887-53BA-47A2-AAD3-9D6D8F50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9498D-C011-4D20-B0C5-24AA96BA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00CB7-C2C0-43F6-8547-D28952AC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B3D7B-5CDB-4346-B98B-CBEC2B12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1B0E3-CAAB-4B93-ACE6-D4E86630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601DE-A6FB-4E82-A0D9-54D8011D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BF4-2566-48CE-8BF9-5BAEB483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D6977-F479-45A3-9336-8AC0EDF8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D74E4-8700-4E70-B204-67857419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1D7DE-9E89-447B-86D5-790ED61C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CA159-69B6-454F-BE0A-C1C203A7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72652-02E2-4813-9727-760A8105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BA916-CE39-4CEC-8B44-EDFB7D44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95A20-3074-4DA2-9E23-1D2A7A3F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15C6-406B-4FEB-B019-7F4F9387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F3E-AE84-415C-9819-391340CF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6FFF-5AC7-4DA2-A9CC-B48A4E48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1683-4DD0-4060-9090-7ABEDF3B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7CA-B5DD-4489-9AF6-97673CD6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E18-F29E-4F7B-9BD7-EEC6800B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3926-8569-4044-B678-D1034393FF61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6022-E584-450E-94C1-3D1461E841D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B7AA-9CE8-4726-B681-511D02F6FF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2AD1-6F3A-499A-B95B-4E7943FE31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封面页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目录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过渡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内容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95280" y="645480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2"/>
              </a:rPr>
              <a:t>免费PPT模板</a:t>
            </a:r>
            <a:r>
              <a:rPr b="1" lang="zh-CN" sz="1400" spc="-1" strike="noStrike">
                <a:solidFill>
                  <a:srgbClr val="009999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009999"/>
                </a:solidFill>
                <a:latin typeface="Arial"/>
              </a:rPr>
              <a:t>：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结束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7:56:45Z</dcterms:created>
  <dc:creator>sg</dc:creator>
  <dc:description/>
  <dc:language>en-US</dc:language>
  <cp:lastModifiedBy>a</cp:lastModifiedBy>
  <dcterms:modified xsi:type="dcterms:W3CDTF">2015-01-14T07:57:00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