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8CE4-84DD-4A65-9137-7A80570C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4145-2B2A-45DA-8BEC-1BB9BCFE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248B-D9AF-428C-BA0C-0352D626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9D1E-FF62-447E-BC91-BBE9C14B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D4B6-1CD8-484A-9FDB-8EF2500D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3FB7-3257-42F5-A893-0D4C0903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0902-A0BB-48FC-AF04-1490D5FD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F498-8195-4A0E-8B69-FABDA17E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0D05-E236-4045-B2AE-857ECB74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E6C0-3240-4299-9442-42670E6E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FA61-59BE-42CD-AA0C-820E5AAB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8307-A371-431C-AD03-45FDB3C1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4249-E259-4908-B14D-51467EA3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DC47-92F3-4CD6-BE65-86338144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6CAD-5EB3-4D7D-BE68-83A8F2DE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F048-5416-4574-BC69-115B066B3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7A2B-5DAD-4D36-B7E8-C9D10A9E7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5C07-3D3C-4285-9EA0-70C0817F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2638-4029-425E-A0A9-884FA826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96F8-D993-4DCB-8C05-C814BCDF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DCF2-7D2B-4DD4-B850-20F6BBD8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9914-12CF-4623-A543-74EDB3A6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163E-3855-4098-94E9-5712A772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78B7-81B1-4E6F-A4C5-6A881316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0773-576D-4384-BB2A-EC7120118E2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07B0-B205-481C-8C7E-7EAC21AEE1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E7B2-CC90-41FE-A7F3-4F73E8D78FA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F48F-4BD9-465A-ABAC-702EF9BD71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songmao (1)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songmao (2)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songmao (4)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songmao (3)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songmao (5)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cp:keywords/>
  <dc:language>en-US</dc:language>
  <cp:lastModifiedBy>a</cp:lastModifiedBy>
  <dcterms:modified xsi:type="dcterms:W3CDTF">2014-07-24T07:50:57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