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CCC-6385-4A75-B508-F10E6CFA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257-EEF3-4C32-9119-A4F69A9D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2649B-0162-40F5-AA8C-F5F7BE9D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FE183-B3BB-44B6-B43B-287D7791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F982D-DE68-4C06-8C57-5DB9013D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4EA55-B61D-4EBC-A644-5E1BBCB4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D3DBD-DDD2-477C-AA76-56719AB6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B2281-9976-4C40-9A35-08AB9C67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A6D3F-8062-4613-BD99-854CD55B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9D503-2701-4787-B8D8-8C300BCB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77AC6-AEF4-486F-B5B8-BB942644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E7D8E-6F5F-4EA1-9734-84144B94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7A0-D377-4291-AA77-53E913DC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BDA5E-1A95-4A65-AC57-7073902D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C7853-DE9A-4A84-AFC1-761B7E5A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8D758-BB55-4EAE-A8A2-306770B9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CC150-621B-4463-9407-D0946D74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D708D-FF63-4039-87D2-19456F8C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DF9B3-B59F-4DD3-9A37-2C7B855C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0E48E-D3B5-4326-882B-58E47AF7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A33F0-D02B-48FC-92AD-54F07EBD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7A010-3215-4141-A2AF-FA953AF9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D722F-E81C-4E57-923C-951C369F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669-71ED-4387-88C7-58649F1D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1388B-2E8A-45E8-AA71-D03DA744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B2E8B-82BA-4D47-A41B-AF0177B3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AF0E7-BD68-4BD0-8BBC-F5F0FF1A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094DF-3A12-4512-B170-D1F4E621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55BF9-1A63-4C65-83B6-CCD33D84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79886-80F4-4859-A006-BC0FFCA1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8A521-FADD-47ED-A07F-A6EBA0C4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38F4C-BDD6-48E6-A3C7-B627230F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1A118-DEC1-4361-A285-7EE03E8B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640CD-72F5-4210-9BE2-3AC26FF8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1AB1-35DE-484E-8132-3AC17F0B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FA6EE-74D2-4F56-9467-E09D4F82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DD34A-F7AE-4423-8DDE-AFCE8295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DEE7E-8049-48E4-B338-62A679AD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A67D7-45C5-47A7-A7E2-40F77331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73BD7-0F0F-448D-B2F0-563D774E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A4976-C9FE-456C-9022-882114AF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A154A-A20C-49DE-955A-319338C1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6D9B7-A73C-4488-9D9D-2D6F9F17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3601B-537F-4226-B985-26F68FB5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99FEF-F4D8-454C-9ABE-3E60D823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CA1E-B54F-41F0-9F0E-32CC547E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AFFFA-AE50-4AAB-9D46-6ECF87EF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EBE47-CD17-4518-ADDE-F1743383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39AA5-B455-46C7-AC85-E9C31709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31063-E191-4161-8158-DFF9D2D5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FCAA1-7578-497A-AC7D-79705BA9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63DB7-F88A-487B-9797-C6CDA130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C75DB-D85A-465B-989B-6B4DEC7A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C863B-C8ED-48A5-B25C-C523EBBC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39728-E248-48DA-8376-0DA00284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10320-CF03-4ED4-875D-51C85C5C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0820-0D48-4A8F-B802-8071B445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3AC3A-63CB-4CCF-AD3F-9E1EB1B3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2396D-FA0E-4B3C-8973-F7716E27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C850A-7319-4C45-A823-676CA9E6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BE419-9DAA-4244-8CC2-21E33F69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CFBF5-CFC7-405C-A4D5-25E9E3F9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0373A-3215-46C5-91BA-EE34A28B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52DFB-90F9-459C-9250-9B4DC30C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723A-603C-464B-AA97-1869545C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CA59-E3E8-40F4-9AB1-577F7C10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9B2E-9069-42BD-B00D-2AD1EC5E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944B-AFA7-42DB-918B-61C219B0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F6F-0FB9-450E-88C9-B7B19F06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B510-B007-4267-ADD1-271FD5BD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C70A-40B0-411F-AD61-93F21418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F6E5-9D68-4660-8427-E986AB01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B78E-9D7E-48E9-B7EE-110E74E8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F34B-9B1E-4598-834C-88212EC6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AAB65-2E4A-4548-873F-A8E6A3D9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559F-C539-4D01-9E51-388F1442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0BDBB-5B8C-4450-8A79-FE0E68A8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0F25D-7FE8-4DD9-A801-7E6DCAD4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F1168-A931-499B-8690-9ED9E38D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C37-6417-45BE-9057-00CA6EC5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6C45-37AF-4521-B40E-AD89C907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4BF4-DCB8-4C83-A767-1D01A314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E28E-85AE-42BA-AD8A-E946D4DF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6057-54B8-4C41-BA27-528CAC4E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82A2-4733-4E40-ABC0-8E6CB065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33EC2-0D4A-4000-A01E-2D63B21F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4AAB-D66C-43B2-93BD-7E10618D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EBA2B-906D-4914-A388-C9BA7CFB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3D0BD-2417-481C-B95C-5485E596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6677C-98D3-4566-AE58-7147DEA9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87B-8507-4F9A-BAF1-1E798E60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B6FCE-4A90-4A3E-B994-E20A216E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1C5A0-3F47-49DE-A973-9EFC11F0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0A14-48BA-49F6-A26D-DECC7593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ECFDF-0E7D-4FE8-BA9D-DD47F4B5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B1A65-A204-46FB-A1B6-50AD570B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B0CD7-D27F-4FA0-BB9C-2BFC4927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8B3D0-E890-4E0D-9567-C182EA19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9C41B-95B7-4EFB-BA9F-C70516E4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576D2-91EB-442F-BF2F-37A4EA0F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D2F8F-A1EC-4CBA-8A38-78CAACFF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3D5-3278-40E2-AA53-38E0769E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23565-EFD3-4037-9C62-E4F1F684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9DBEA-C8D3-4C18-8DD7-0C850551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3B6D1-D269-4AB1-8012-97D0975D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AEE68-701B-46E3-837D-A161CDC4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DE184-16CB-41DC-BF9D-B28A657A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7254-C727-4AAD-B2DE-EDA3A60B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F2C63-25B6-4FF7-8BF5-291E0BC3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5A626-8355-49E4-82F0-0A34CD36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567CC-B5C7-4CF5-A4CD-2311000E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7E369-0AA0-4588-AB29-72449A99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53C-BAAA-4EB3-972A-D52D5BD6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EDB9F-1908-4B8E-B5D0-071D4B8B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56A48-7EA4-4B0C-ABDD-FC09CA3C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B6283-A3A5-4C6A-A1C1-DF0C632D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830E6-987C-470E-96CE-D6454EE3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7599D-C6A0-4230-AE23-1121A2D0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7222B-7614-47B6-9408-9641662A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A356F-FBFF-4EF2-90DA-91B47294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C1AF5-324C-4D82-B623-F0EF6AAA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92ABD-53D6-442E-B1FB-F7231EB8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BD744-D21B-40A8-B75B-3AF5E8DD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18B-C6B9-4631-B55C-E8C2ECAE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FF63B-9C33-45BB-831A-7743DE0D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AEA1A-82A3-4657-95F9-516CE34F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E8DC9-DAFB-4B13-83EC-F6D847B5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75948-59AD-4A15-8201-44D6954F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48843-344E-4754-B453-76D49C4F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3D317-BA48-410B-9FA6-8BCEA305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C73DF-F729-492A-9734-FFB4C139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D923E-DE71-4790-8102-0AA0BA9D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FCB55-3041-43C9-99FF-C8AE445F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C850C-CC8B-4E90-A827-4DD93D9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29F-EC4A-414C-B70E-6A2D4939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85FA9-A714-4A42-B453-9419DA62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92757-B808-4561-8D4C-21506177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59941-484B-4E07-88C8-519F4705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C39FA-2E91-4CF2-AFBA-E613DF5E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8767B-D461-4651-A7E5-3BE4B819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53EDE-9ED8-4F1B-9761-1F7DF575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0D67B-16A4-4D7A-A1DD-C25DB181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5CD81-848E-47F1-B90B-C49A2AC4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0B3C0-0DFA-4942-9598-B7C61378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268AF-E510-4436-9575-55809012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4B7-9611-4D34-86E6-E2FD677A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8B704-7B8F-4DF9-80AF-E57A6E69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CD367-47D1-472C-921C-C3EB2F6B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68FA7-6098-4E32-825B-E7CA821E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F05EA-B47A-4393-A116-C46E0591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E2B40-40F1-4529-8871-BE94CC8C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59655-0790-4C96-8A0F-269C15C1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87D78-1E7C-4414-9B2C-B3BEC6D0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AB0FA-E9F0-49D6-8F85-FFA205F0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7B059-1B59-41D3-93F7-70F99B12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D99CD-1F4A-4056-885F-F7843958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DE4E-9638-4337-A7D4-7929106388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60EF-0A05-4724-9A7D-91585512898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BE34-982D-46D4-9492-DD64CA7CD3A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1077-95F5-486C-A932-5D7B25A9E6A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F16B-2913-48B7-807A-075A19D3EBE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3EE2-C0E9-4FB1-8213-EB743B00EBB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CEB6-FCC5-4897-9B47-BD61E3A9995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7F52-F232-4998-B616-E1AC4A47534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EE69-F65E-4E66-B356-D39A0EB29D1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887D-8A0E-4D1D-B739-A3426EA3FC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9FE4-491C-467C-8F18-650544E2FA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3180-6981-4747-94E2-CE6D3C85E67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0EAC-8635-455F-BF09-BFEC352557A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01D5-C6B6-4965-B4AB-40095AE4CB3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291D-71D6-4F84-9610-1047ABADD8E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6B41-B484-4B06-BD47-10101360C6A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C1B2-1A8A-406A-AEF9-78537845C44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BFB6-5362-45BD-B045-3924C2AF3F4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CF15-94C6-48E1-9220-DFA4968B206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638D-CD5C-4ECE-BF67-EA20312A767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01DC-4B8B-4D23-A4E4-73E26D12E69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1E7B-5CAB-42F7-8741-B0DB923964F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8C9D-1470-4396-A915-985A3FB55A2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91DA-18EF-47D4-93E4-1DD5EF506AF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54E1-CEBB-4253-9718-0AAFF0B17BB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333"/>
          <p:cNvPicPr/>
          <p:nvPr/>
        </p:nvPicPr>
        <p:blipFill>
          <a:blip r:embed="rId1"/>
          <a:stretch/>
        </p:blipFill>
        <p:spPr>
          <a:xfrm>
            <a:off x="4680" y="0"/>
            <a:ext cx="1218744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563400" y="1157400"/>
            <a:ext cx="8458200" cy="13636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4"/>
          <p:cNvSpPr/>
          <p:nvPr/>
        </p:nvSpPr>
        <p:spPr>
          <a:xfrm>
            <a:off x="758160" y="927000"/>
            <a:ext cx="46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DFGirl For Nokia"/>
              </a:rPr>
              <a:t>Works show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5" descr="WPSppt-封面"/>
          <p:cNvPicPr/>
          <p:nvPr/>
        </p:nvPicPr>
        <p:blipFill>
          <a:blip r:embed="rId3"/>
          <a:stretch/>
        </p:blipFill>
        <p:spPr>
          <a:xfrm>
            <a:off x="922320" y="2424240"/>
            <a:ext cx="272880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WPSppt-封面"/>
          <p:cNvPicPr/>
          <p:nvPr/>
        </p:nvPicPr>
        <p:blipFill>
          <a:blip r:embed="rId1"/>
          <a:stretch/>
        </p:blipFill>
        <p:spPr>
          <a:xfrm>
            <a:off x="-15840" y="0"/>
            <a:ext cx="12187080" cy="686124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3"/>
          <p:cNvGrpSpPr/>
          <p:nvPr/>
        </p:nvGrpSpPr>
        <p:grpSpPr>
          <a:xfrm>
            <a:off x="4560480" y="2987280"/>
            <a:ext cx="282600" cy="281160"/>
            <a:chOff x="4560480" y="2987280"/>
            <a:chExt cx="282600" cy="281160"/>
          </a:xfrm>
        </p:grpSpPr>
        <p:sp>
          <p:nvSpPr>
            <p:cNvPr id="539" name="Oval 4"/>
            <p:cNvSpPr/>
            <p:nvPr/>
          </p:nvSpPr>
          <p:spPr>
            <a:xfrm flipH="1" flipV="1">
              <a:off x="4560120" y="2986920"/>
              <a:ext cx="282600" cy="28116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 flipH="1" flipV="1">
              <a:off x="4619880" y="3045600"/>
              <a:ext cx="164880" cy="163800"/>
            </a:xfrm>
            <a:prstGeom prst="ellipse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Group 6"/>
          <p:cNvGrpSpPr/>
          <p:nvPr/>
        </p:nvGrpSpPr>
        <p:grpSpPr>
          <a:xfrm>
            <a:off x="4560480" y="3565080"/>
            <a:ext cx="282600" cy="281160"/>
            <a:chOff x="4560480" y="3565080"/>
            <a:chExt cx="282600" cy="281160"/>
          </a:xfrm>
        </p:grpSpPr>
        <p:sp>
          <p:nvSpPr>
            <p:cNvPr id="542" name="Oval 7"/>
            <p:cNvSpPr/>
            <p:nvPr/>
          </p:nvSpPr>
          <p:spPr>
            <a:xfrm flipH="1" flipV="1">
              <a:off x="4560120" y="3564720"/>
              <a:ext cx="282600" cy="28116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Oval 8"/>
            <p:cNvSpPr/>
            <p:nvPr/>
          </p:nvSpPr>
          <p:spPr>
            <a:xfrm flipH="1" flipV="1">
              <a:off x="4619880" y="3623400"/>
              <a:ext cx="164880" cy="163800"/>
            </a:xfrm>
            <a:prstGeom prst="ellipse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Group 9"/>
          <p:cNvGrpSpPr/>
          <p:nvPr/>
        </p:nvGrpSpPr>
        <p:grpSpPr>
          <a:xfrm>
            <a:off x="4560480" y="4167360"/>
            <a:ext cx="282600" cy="280800"/>
            <a:chOff x="4560480" y="4167360"/>
            <a:chExt cx="282600" cy="280800"/>
          </a:xfrm>
        </p:grpSpPr>
        <p:sp>
          <p:nvSpPr>
            <p:cNvPr id="545" name="Oval 10"/>
            <p:cNvSpPr/>
            <p:nvPr/>
          </p:nvSpPr>
          <p:spPr>
            <a:xfrm flipH="1" flipV="1">
              <a:off x="4560120" y="4167360"/>
              <a:ext cx="282600" cy="28080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Oval 11"/>
            <p:cNvSpPr/>
            <p:nvPr/>
          </p:nvSpPr>
          <p:spPr>
            <a:xfrm flipH="1" flipV="1">
              <a:off x="4619880" y="4225320"/>
              <a:ext cx="164880" cy="163800"/>
            </a:xfrm>
            <a:prstGeom prst="ellipse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Group 12"/>
          <p:cNvGrpSpPr/>
          <p:nvPr/>
        </p:nvGrpSpPr>
        <p:grpSpPr>
          <a:xfrm>
            <a:off x="4560480" y="4746240"/>
            <a:ext cx="282600" cy="282600"/>
            <a:chOff x="4560480" y="4746240"/>
            <a:chExt cx="282600" cy="282600"/>
          </a:xfrm>
        </p:grpSpPr>
        <p:sp>
          <p:nvSpPr>
            <p:cNvPr id="548" name="Oval 13"/>
            <p:cNvSpPr/>
            <p:nvPr/>
          </p:nvSpPr>
          <p:spPr>
            <a:xfrm flipH="1" flipV="1">
              <a:off x="4560120" y="4745880"/>
              <a:ext cx="282600" cy="28260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Oval 14"/>
            <p:cNvSpPr/>
            <p:nvPr/>
          </p:nvSpPr>
          <p:spPr>
            <a:xfrm flipH="1" flipV="1">
              <a:off x="4619880" y="4805640"/>
              <a:ext cx="164880" cy="164880"/>
            </a:xfrm>
            <a:prstGeom prst="ellipse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Group 15"/>
          <p:cNvGrpSpPr/>
          <p:nvPr/>
        </p:nvGrpSpPr>
        <p:grpSpPr>
          <a:xfrm>
            <a:off x="4560480" y="5336640"/>
            <a:ext cx="282600" cy="282600"/>
            <a:chOff x="4560480" y="5336640"/>
            <a:chExt cx="282600" cy="282600"/>
          </a:xfrm>
        </p:grpSpPr>
        <p:sp>
          <p:nvSpPr>
            <p:cNvPr id="551" name="Oval 16"/>
            <p:cNvSpPr/>
            <p:nvPr/>
          </p:nvSpPr>
          <p:spPr>
            <a:xfrm flipH="1" flipV="1">
              <a:off x="4560120" y="5336280"/>
              <a:ext cx="282600" cy="28260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Oval 17"/>
            <p:cNvSpPr/>
            <p:nvPr/>
          </p:nvSpPr>
          <p:spPr>
            <a:xfrm flipH="1" flipV="1">
              <a:off x="4619880" y="5396040"/>
              <a:ext cx="164880" cy="164880"/>
            </a:xfrm>
            <a:prstGeom prst="ellipse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3" name="AutoShape 18"/>
          <p:cNvSpPr/>
          <p:nvPr/>
        </p:nvSpPr>
        <p:spPr>
          <a:xfrm>
            <a:off x="11638080" y="5969160"/>
            <a:ext cx="309600" cy="311040"/>
          </a:xfrm>
          <a:custGeom>
            <a:avLst/>
            <a:gdLst>
              <a:gd name="textAreaLeft" fmla="*/ 15120 w 309600"/>
              <a:gd name="textAreaRight" fmla="*/ 294480 w 309600"/>
              <a:gd name="textAreaTop" fmla="*/ 15120 h 311040"/>
              <a:gd name="textAreaBottom" fmla="*/ 295920 h 311040"/>
            </a:gdLst>
            <a:ahLst/>
            <a:rect l="textAreaLeft" t="textAreaTop" r="textAreaRight" b="textAreaBottom"/>
            <a:pathLst>
              <a:path w="21600" h="21700">
                <a:moveTo>
                  <a:pt x="3600" y="0"/>
                </a:moveTo>
                <a:arcTo wR="3600" hR="3600" stAng="16200000" swAng="-5400000"/>
                <a:lnTo>
                  <a:pt x="0" y="18100"/>
                </a:lnTo>
                <a:arcTo wR="3600" hR="3600" stAng="10800000" swAng="-5400000"/>
                <a:lnTo>
                  <a:pt x="18000" y="217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AutoShape 19"/>
          <p:cNvSpPr/>
          <p:nvPr/>
        </p:nvSpPr>
        <p:spPr>
          <a:xfrm>
            <a:off x="11661840" y="5994360"/>
            <a:ext cx="260280" cy="260280"/>
          </a:xfrm>
          <a:prstGeom prst="roundRect">
            <a:avLst>
              <a:gd name="adj" fmla="val 16667"/>
            </a:avLst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AutoShape 20"/>
          <p:cNvSpPr/>
          <p:nvPr/>
        </p:nvSpPr>
        <p:spPr>
          <a:xfrm>
            <a:off x="11296800" y="6300720"/>
            <a:ext cx="311040" cy="3096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AutoShape 21"/>
          <p:cNvSpPr/>
          <p:nvPr/>
        </p:nvSpPr>
        <p:spPr>
          <a:xfrm>
            <a:off x="11322000" y="6326280"/>
            <a:ext cx="260280" cy="258840"/>
          </a:xfrm>
          <a:prstGeom prst="roundRect">
            <a:avLst>
              <a:gd name="adj" fmla="val 16667"/>
            </a:avLst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AutoShape 22"/>
          <p:cNvSpPr/>
          <p:nvPr/>
        </p:nvSpPr>
        <p:spPr>
          <a:xfrm>
            <a:off x="11638080" y="6300720"/>
            <a:ext cx="309600" cy="3096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AutoShape 23"/>
          <p:cNvSpPr/>
          <p:nvPr/>
        </p:nvSpPr>
        <p:spPr>
          <a:xfrm>
            <a:off x="11661840" y="6326280"/>
            <a:ext cx="260280" cy="25884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 Box 24"/>
          <p:cNvSpPr/>
          <p:nvPr/>
        </p:nvSpPr>
        <p:spPr>
          <a:xfrm>
            <a:off x="5154480" y="2930400"/>
            <a:ext cx="30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3232"/>
                </a:solidFill>
                <a:latin typeface="微软雅黑"/>
                <a:ea typeface="微软雅黑"/>
              </a:rPr>
              <a:t>关于‘空’的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25"/>
          <p:cNvSpPr/>
          <p:nvPr/>
        </p:nvSpPr>
        <p:spPr>
          <a:xfrm>
            <a:off x="5154480" y="3508200"/>
            <a:ext cx="30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3232"/>
                </a:solidFill>
                <a:latin typeface="微软雅黑"/>
                <a:ea typeface="微软雅黑"/>
              </a:rPr>
              <a:t>总体效果设计展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26"/>
          <p:cNvSpPr/>
          <p:nvPr/>
        </p:nvSpPr>
        <p:spPr>
          <a:xfrm>
            <a:off x="5154480" y="4689360"/>
            <a:ext cx="30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3232"/>
                </a:solidFill>
                <a:latin typeface="微软雅黑"/>
                <a:ea typeface="微软雅黑"/>
              </a:rPr>
              <a:t>市场效果预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27"/>
          <p:cNvSpPr/>
          <p:nvPr/>
        </p:nvSpPr>
        <p:spPr>
          <a:xfrm>
            <a:off x="5154480" y="4110120"/>
            <a:ext cx="30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3232"/>
                </a:solidFill>
                <a:latin typeface="微软雅黑"/>
                <a:ea typeface="微软雅黑"/>
              </a:rPr>
              <a:t>设计细节详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Box 28"/>
          <p:cNvSpPr/>
          <p:nvPr/>
        </p:nvSpPr>
        <p:spPr>
          <a:xfrm>
            <a:off x="5154480" y="5280120"/>
            <a:ext cx="30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23232"/>
                </a:solidFill>
                <a:latin typeface="微软雅黑"/>
                <a:ea typeface="微软雅黑"/>
              </a:rPr>
              <a:t>结果概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29" descr="WPSppt-封面"/>
          <p:cNvPicPr/>
          <p:nvPr/>
        </p:nvPicPr>
        <p:blipFill>
          <a:blip r:embed="rId2"/>
          <a:stretch/>
        </p:blipFill>
        <p:spPr>
          <a:xfrm>
            <a:off x="4732200" y="1739880"/>
            <a:ext cx="2729160" cy="5778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0"/>
          <p:cNvSpPr/>
          <p:nvPr/>
        </p:nvSpPr>
        <p:spPr>
          <a:xfrm>
            <a:off x="5016600" y="20160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3232"/>
                </a:solidFill>
                <a:latin typeface="Calibri"/>
              </a:rPr>
              <a:t>hanmail8825</a:t>
            </a:r>
            <a:r>
              <a:rPr b="1" lang="zh-CN" sz="1600" spc="-1" strike="noStrike">
                <a:solidFill>
                  <a:srgbClr val="ff9b05"/>
                </a:solidFill>
                <a:latin typeface="Calibri"/>
              </a:rPr>
              <a:t>@</a:t>
            </a:r>
            <a:r>
              <a:rPr b="1" lang="zh-CN" sz="1600" spc="-1" strike="noStrike">
                <a:solidFill>
                  <a:srgbClr val="323232"/>
                </a:solidFill>
                <a:latin typeface="Calibri"/>
              </a:rPr>
              <a:t>126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31"/>
          <p:cNvSpPr/>
          <p:nvPr/>
        </p:nvSpPr>
        <p:spPr>
          <a:xfrm>
            <a:off x="4565520" y="55872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Kozuka Gothic Pr6N H"/>
                <a:ea typeface="Kozuka Gothic Pr6N H"/>
              </a:rPr>
              <a:t>DESIGN OF TH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66"/>
          <p:cNvPicPr/>
          <p:nvPr/>
        </p:nvPicPr>
        <p:blipFill>
          <a:blip r:embed="rId1"/>
          <a:stretch/>
        </p:blipFill>
        <p:spPr>
          <a:xfrm>
            <a:off x="6480" y="0"/>
            <a:ext cx="1218564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AutoShape 3"/>
          <p:cNvSpPr/>
          <p:nvPr/>
        </p:nvSpPr>
        <p:spPr>
          <a:xfrm>
            <a:off x="11638080" y="5969160"/>
            <a:ext cx="309600" cy="311040"/>
          </a:xfrm>
          <a:custGeom>
            <a:avLst/>
            <a:gdLst>
              <a:gd name="textAreaLeft" fmla="*/ 15120 w 309600"/>
              <a:gd name="textAreaRight" fmla="*/ 294480 w 309600"/>
              <a:gd name="textAreaTop" fmla="*/ 15120 h 311040"/>
              <a:gd name="textAreaBottom" fmla="*/ 295920 h 311040"/>
            </a:gdLst>
            <a:ahLst/>
            <a:rect l="textAreaLeft" t="textAreaTop" r="textAreaRight" b="textAreaBottom"/>
            <a:pathLst>
              <a:path w="21600" h="21700">
                <a:moveTo>
                  <a:pt x="3600" y="0"/>
                </a:moveTo>
                <a:arcTo wR="3600" hR="3600" stAng="16200000" swAng="-5400000"/>
                <a:lnTo>
                  <a:pt x="0" y="18100"/>
                </a:lnTo>
                <a:arcTo wR="3600" hR="3600" stAng="10800000" swAng="-5400000"/>
                <a:lnTo>
                  <a:pt x="18000" y="217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11661840" y="5994360"/>
            <a:ext cx="260280" cy="260280"/>
          </a:xfrm>
          <a:prstGeom prst="roundRect">
            <a:avLst>
              <a:gd name="adj" fmla="val 16667"/>
            </a:avLst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1296800" y="6300720"/>
            <a:ext cx="311040" cy="3096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AutoShape 6"/>
          <p:cNvSpPr/>
          <p:nvPr/>
        </p:nvSpPr>
        <p:spPr>
          <a:xfrm>
            <a:off x="11322000" y="6326280"/>
            <a:ext cx="260280" cy="258840"/>
          </a:xfrm>
          <a:prstGeom prst="roundRect">
            <a:avLst>
              <a:gd name="adj" fmla="val 16667"/>
            </a:avLst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AutoShape 7"/>
          <p:cNvSpPr/>
          <p:nvPr/>
        </p:nvSpPr>
        <p:spPr>
          <a:xfrm>
            <a:off x="11638080" y="6300720"/>
            <a:ext cx="309600" cy="3096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AutoShape 8"/>
          <p:cNvSpPr/>
          <p:nvPr/>
        </p:nvSpPr>
        <p:spPr>
          <a:xfrm>
            <a:off x="11661840" y="6326280"/>
            <a:ext cx="260280" cy="25884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1901160" y="3298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有即是空  空即是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2602080" y="399744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Calibri"/>
                <a:ea typeface="黑体"/>
              </a:rPr>
              <a:t>不可因低价商业项目，而房地对作品的要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942120" y="4680000"/>
            <a:ext cx="100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Adobe 黑体 Std R"/>
                <a:ea typeface="Adobe 黑体 Std R"/>
              </a:rPr>
              <a:t>Not to lower quality in view of low business value of an art 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12" descr="WPSppt-封面"/>
          <p:cNvPicPr/>
          <p:nvPr/>
        </p:nvPicPr>
        <p:blipFill>
          <a:blip r:embed="rId2"/>
          <a:stretch/>
        </p:blipFill>
        <p:spPr>
          <a:xfrm>
            <a:off x="1449360" y="1316160"/>
            <a:ext cx="2728800" cy="57924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13"/>
          <p:cNvSpPr/>
          <p:nvPr/>
        </p:nvSpPr>
        <p:spPr>
          <a:xfrm>
            <a:off x="5016600" y="20160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3232"/>
                </a:solidFill>
                <a:latin typeface="Calibri"/>
              </a:rPr>
              <a:t>hanmail8825</a:t>
            </a:r>
            <a:r>
              <a:rPr b="1" lang="zh-CN" sz="1600" spc="-1" strike="noStrike">
                <a:solidFill>
                  <a:srgbClr val="ff9b05"/>
                </a:solidFill>
                <a:latin typeface="Calibri"/>
              </a:rPr>
              <a:t>@</a:t>
            </a:r>
            <a:r>
              <a:rPr b="1" lang="zh-CN" sz="1600" spc="-1" strike="noStrike">
                <a:solidFill>
                  <a:srgbClr val="323232"/>
                </a:solidFill>
                <a:latin typeface="Calibri"/>
              </a:rPr>
              <a:t>126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4565520" y="55872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Kozuka Gothic Pr6N H"/>
                <a:ea typeface="Kozuka Gothic Pr6N H"/>
              </a:rPr>
              <a:t>DESIGN OF TH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WPSppt-封面"/>
          <p:cNvPicPr/>
          <p:nvPr/>
        </p:nvPicPr>
        <p:blipFill>
          <a:blip r:embed="rId1"/>
          <a:stretch/>
        </p:blipFill>
        <p:spPr>
          <a:xfrm>
            <a:off x="0" y="0"/>
            <a:ext cx="12188880" cy="6850080"/>
          </a:xfrm>
          <a:prstGeom prst="rect">
            <a:avLst/>
          </a:prstGeom>
          <a:ln w="0">
            <a:noFill/>
          </a:ln>
        </p:spPr>
      </p:pic>
      <p:sp>
        <p:nvSpPr>
          <p:cNvPr id="581" name="AutoShape 3"/>
          <p:cNvSpPr/>
          <p:nvPr/>
        </p:nvSpPr>
        <p:spPr>
          <a:xfrm>
            <a:off x="11638080" y="5969160"/>
            <a:ext cx="309600" cy="311040"/>
          </a:xfrm>
          <a:custGeom>
            <a:avLst/>
            <a:gdLst>
              <a:gd name="textAreaLeft" fmla="*/ 15120 w 309600"/>
              <a:gd name="textAreaRight" fmla="*/ 294480 w 309600"/>
              <a:gd name="textAreaTop" fmla="*/ 15120 h 311040"/>
              <a:gd name="textAreaBottom" fmla="*/ 295920 h 311040"/>
            </a:gdLst>
            <a:ahLst/>
            <a:rect l="textAreaLeft" t="textAreaTop" r="textAreaRight" b="textAreaBottom"/>
            <a:pathLst>
              <a:path w="21600" h="21700">
                <a:moveTo>
                  <a:pt x="3600" y="0"/>
                </a:moveTo>
                <a:arcTo wR="3600" hR="3600" stAng="16200000" swAng="-5400000"/>
                <a:lnTo>
                  <a:pt x="0" y="18100"/>
                </a:lnTo>
                <a:arcTo wR="3600" hR="3600" stAng="10800000" swAng="-5400000"/>
                <a:lnTo>
                  <a:pt x="18000" y="217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11661840" y="5994360"/>
            <a:ext cx="260280" cy="260280"/>
          </a:xfrm>
          <a:prstGeom prst="roundRect">
            <a:avLst>
              <a:gd name="adj" fmla="val 16667"/>
            </a:avLst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AutoShape 5"/>
          <p:cNvSpPr/>
          <p:nvPr/>
        </p:nvSpPr>
        <p:spPr>
          <a:xfrm>
            <a:off x="11296800" y="6300720"/>
            <a:ext cx="311040" cy="3096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AutoShape 6"/>
          <p:cNvSpPr/>
          <p:nvPr/>
        </p:nvSpPr>
        <p:spPr>
          <a:xfrm>
            <a:off x="11322000" y="6326280"/>
            <a:ext cx="260280" cy="258840"/>
          </a:xfrm>
          <a:prstGeom prst="roundRect">
            <a:avLst>
              <a:gd name="adj" fmla="val 16667"/>
            </a:avLst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AutoShape 7"/>
          <p:cNvSpPr/>
          <p:nvPr/>
        </p:nvSpPr>
        <p:spPr>
          <a:xfrm>
            <a:off x="11638080" y="6300720"/>
            <a:ext cx="309600" cy="3096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11661840" y="6326280"/>
            <a:ext cx="260280" cy="25884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6397560" y="2251080"/>
            <a:ext cx="581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永远坚信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设计可以拯救你的国家，可以改变世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Always believe that design can s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黑体"/>
                <a:ea typeface="黑体"/>
              </a:rPr>
              <a:t>your country and change the wor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10" descr="WPSppt-展示页"/>
          <p:cNvPicPr/>
          <p:nvPr/>
        </p:nvPicPr>
        <p:blipFill>
          <a:blip r:embed="rId2"/>
          <a:stretch/>
        </p:blipFill>
        <p:spPr>
          <a:xfrm>
            <a:off x="1038240" y="1347840"/>
            <a:ext cx="4592520" cy="55148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11"/>
          <p:cNvSpPr/>
          <p:nvPr/>
        </p:nvSpPr>
        <p:spPr>
          <a:xfrm>
            <a:off x="2782080" y="3508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  <a:ea typeface="微软雅黑"/>
              </a:rPr>
              <a:t>图片展示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12" descr="WPSppt-封面"/>
          <p:cNvPicPr/>
          <p:nvPr/>
        </p:nvPicPr>
        <p:blipFill>
          <a:blip r:embed="rId3"/>
          <a:stretch/>
        </p:blipFill>
        <p:spPr>
          <a:xfrm>
            <a:off x="6502320" y="1484280"/>
            <a:ext cx="2727360" cy="5796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3"/>
          <p:cNvSpPr/>
          <p:nvPr/>
        </p:nvSpPr>
        <p:spPr>
          <a:xfrm>
            <a:off x="5016600" y="20160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3232"/>
                </a:solidFill>
                <a:latin typeface="Calibri"/>
              </a:rPr>
              <a:t>hanmail8825</a:t>
            </a:r>
            <a:r>
              <a:rPr b="1" lang="zh-CN" sz="1600" spc="-1" strike="noStrike">
                <a:solidFill>
                  <a:srgbClr val="ff9b05"/>
                </a:solidFill>
                <a:latin typeface="Calibri"/>
              </a:rPr>
              <a:t>@</a:t>
            </a:r>
            <a:r>
              <a:rPr b="1" lang="zh-CN" sz="1600" spc="-1" strike="noStrike">
                <a:solidFill>
                  <a:srgbClr val="323232"/>
                </a:solidFill>
                <a:latin typeface="Calibri"/>
              </a:rPr>
              <a:t>126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 Box 14"/>
          <p:cNvSpPr/>
          <p:nvPr/>
        </p:nvSpPr>
        <p:spPr>
          <a:xfrm>
            <a:off x="4565520" y="55872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Kozuka Gothic Pr6N H"/>
                <a:ea typeface="Kozuka Gothic Pr6N H"/>
              </a:rPr>
              <a:t>DESIGN OF TH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WPSppt-封面"/>
          <p:cNvPicPr/>
          <p:nvPr/>
        </p:nvPicPr>
        <p:blipFill>
          <a:blip r:embed="rId1"/>
          <a:stretch/>
        </p:blipFill>
        <p:spPr>
          <a:xfrm>
            <a:off x="25560" y="1440"/>
            <a:ext cx="12191760" cy="6816960"/>
          </a:xfrm>
          <a:prstGeom prst="rect">
            <a:avLst/>
          </a:prstGeom>
          <a:ln w="0">
            <a:noFill/>
          </a:ln>
        </p:spPr>
      </p:pic>
      <p:sp>
        <p:nvSpPr>
          <p:cNvPr id="594" name="AutoShape 3"/>
          <p:cNvSpPr/>
          <p:nvPr/>
        </p:nvSpPr>
        <p:spPr>
          <a:xfrm>
            <a:off x="11638080" y="5969160"/>
            <a:ext cx="309600" cy="311040"/>
          </a:xfrm>
          <a:custGeom>
            <a:avLst/>
            <a:gdLst>
              <a:gd name="textAreaLeft" fmla="*/ 15120 w 309600"/>
              <a:gd name="textAreaRight" fmla="*/ 294480 w 309600"/>
              <a:gd name="textAreaTop" fmla="*/ 15120 h 311040"/>
              <a:gd name="textAreaBottom" fmla="*/ 295920 h 311040"/>
            </a:gdLst>
            <a:ahLst/>
            <a:rect l="textAreaLeft" t="textAreaTop" r="textAreaRight" b="textAreaBottom"/>
            <a:pathLst>
              <a:path w="21600" h="21700">
                <a:moveTo>
                  <a:pt x="3600" y="0"/>
                </a:moveTo>
                <a:arcTo wR="3600" hR="3600" stAng="16200000" swAng="-5400000"/>
                <a:lnTo>
                  <a:pt x="0" y="18100"/>
                </a:lnTo>
                <a:arcTo wR="3600" hR="3600" stAng="10800000" swAng="-5400000"/>
                <a:lnTo>
                  <a:pt x="18000" y="217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AutoShape 4"/>
          <p:cNvSpPr/>
          <p:nvPr/>
        </p:nvSpPr>
        <p:spPr>
          <a:xfrm>
            <a:off x="11661840" y="5994360"/>
            <a:ext cx="260280" cy="260280"/>
          </a:xfrm>
          <a:prstGeom prst="roundRect">
            <a:avLst>
              <a:gd name="adj" fmla="val 16667"/>
            </a:avLst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11296800" y="6300720"/>
            <a:ext cx="311040" cy="3096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11322000" y="6326280"/>
            <a:ext cx="260280" cy="258840"/>
          </a:xfrm>
          <a:prstGeom prst="roundRect">
            <a:avLst>
              <a:gd name="adj" fmla="val 16667"/>
            </a:avLst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11638080" y="6300720"/>
            <a:ext cx="309600" cy="3096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AutoShape 8"/>
          <p:cNvSpPr/>
          <p:nvPr/>
        </p:nvSpPr>
        <p:spPr>
          <a:xfrm>
            <a:off x="11661840" y="6326280"/>
            <a:ext cx="260280" cy="25884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0" name="Group 9"/>
          <p:cNvGrpSpPr/>
          <p:nvPr/>
        </p:nvGrpSpPr>
        <p:grpSpPr>
          <a:xfrm>
            <a:off x="7698960" y="2793600"/>
            <a:ext cx="282600" cy="281160"/>
            <a:chOff x="7698960" y="2793600"/>
            <a:chExt cx="282600" cy="281160"/>
          </a:xfrm>
        </p:grpSpPr>
        <p:sp>
          <p:nvSpPr>
            <p:cNvPr id="601" name="Oval 10"/>
            <p:cNvSpPr/>
            <p:nvPr/>
          </p:nvSpPr>
          <p:spPr>
            <a:xfrm flipH="1" flipV="1">
              <a:off x="7698600" y="2793240"/>
              <a:ext cx="282600" cy="28116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Oval 11"/>
            <p:cNvSpPr/>
            <p:nvPr/>
          </p:nvSpPr>
          <p:spPr>
            <a:xfrm flipH="1" flipV="1">
              <a:off x="7758360" y="2851920"/>
              <a:ext cx="164880" cy="163800"/>
            </a:xfrm>
            <a:prstGeom prst="ellipse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Group 12"/>
          <p:cNvGrpSpPr/>
          <p:nvPr/>
        </p:nvGrpSpPr>
        <p:grpSpPr>
          <a:xfrm>
            <a:off x="7698960" y="2187720"/>
            <a:ext cx="282600" cy="280800"/>
            <a:chOff x="7698960" y="2187720"/>
            <a:chExt cx="282600" cy="280800"/>
          </a:xfrm>
        </p:grpSpPr>
        <p:sp>
          <p:nvSpPr>
            <p:cNvPr id="604" name="Oval 13"/>
            <p:cNvSpPr/>
            <p:nvPr/>
          </p:nvSpPr>
          <p:spPr>
            <a:xfrm flipH="1" flipV="1">
              <a:off x="7698600" y="2187720"/>
              <a:ext cx="282600" cy="280800"/>
            </a:xfrm>
            <a:prstGeom prst="ellipse">
              <a:avLst/>
            </a:prstGeom>
            <a:solidFill>
              <a:srgbClr val="c23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Oval 14"/>
            <p:cNvSpPr/>
            <p:nvPr/>
          </p:nvSpPr>
          <p:spPr>
            <a:xfrm flipH="1" flipV="1">
              <a:off x="7757640" y="2244960"/>
              <a:ext cx="164880" cy="163800"/>
            </a:xfrm>
            <a:prstGeom prst="ellipse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6" name="Group 15"/>
          <p:cNvGrpSpPr/>
          <p:nvPr/>
        </p:nvGrpSpPr>
        <p:grpSpPr>
          <a:xfrm>
            <a:off x="7698960" y="3390480"/>
            <a:ext cx="282600" cy="281160"/>
            <a:chOff x="7698960" y="3390480"/>
            <a:chExt cx="282600" cy="281160"/>
          </a:xfrm>
        </p:grpSpPr>
        <p:sp>
          <p:nvSpPr>
            <p:cNvPr id="607" name="Oval 16"/>
            <p:cNvSpPr/>
            <p:nvPr/>
          </p:nvSpPr>
          <p:spPr>
            <a:xfrm flipH="1" flipV="1">
              <a:off x="7698600" y="3390120"/>
              <a:ext cx="282600" cy="281160"/>
            </a:xfrm>
            <a:prstGeom prst="ellipse">
              <a:avLst/>
            </a:prstGeom>
            <a:solidFill>
              <a:srgbClr val="c2e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Oval 17"/>
            <p:cNvSpPr/>
            <p:nvPr/>
          </p:nvSpPr>
          <p:spPr>
            <a:xfrm flipH="1" flipV="1">
              <a:off x="7757640" y="3448440"/>
              <a:ext cx="164880" cy="16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Group 18"/>
          <p:cNvGrpSpPr/>
          <p:nvPr/>
        </p:nvGrpSpPr>
        <p:grpSpPr>
          <a:xfrm>
            <a:off x="7698960" y="3984120"/>
            <a:ext cx="282600" cy="281160"/>
            <a:chOff x="7698960" y="3984120"/>
            <a:chExt cx="282600" cy="281160"/>
          </a:xfrm>
        </p:grpSpPr>
        <p:sp>
          <p:nvSpPr>
            <p:cNvPr id="610" name="Oval 19"/>
            <p:cNvSpPr/>
            <p:nvPr/>
          </p:nvSpPr>
          <p:spPr>
            <a:xfrm flipH="1" flipV="1">
              <a:off x="7698600" y="3983760"/>
              <a:ext cx="282600" cy="2811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Oval 20"/>
            <p:cNvSpPr/>
            <p:nvPr/>
          </p:nvSpPr>
          <p:spPr>
            <a:xfrm flipH="1" flipV="1">
              <a:off x="7757640" y="4042080"/>
              <a:ext cx="164880" cy="1638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Group 21"/>
          <p:cNvGrpSpPr/>
          <p:nvPr/>
        </p:nvGrpSpPr>
        <p:grpSpPr>
          <a:xfrm>
            <a:off x="7698960" y="4587480"/>
            <a:ext cx="282600" cy="281160"/>
            <a:chOff x="7698960" y="4587480"/>
            <a:chExt cx="282600" cy="281160"/>
          </a:xfrm>
        </p:grpSpPr>
        <p:sp>
          <p:nvSpPr>
            <p:cNvPr id="613" name="Oval 22"/>
            <p:cNvSpPr/>
            <p:nvPr/>
          </p:nvSpPr>
          <p:spPr>
            <a:xfrm flipH="1" flipV="1">
              <a:off x="7698600" y="4587120"/>
              <a:ext cx="282600" cy="2811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Oval 23"/>
            <p:cNvSpPr/>
            <p:nvPr/>
          </p:nvSpPr>
          <p:spPr>
            <a:xfrm flipH="1" flipV="1">
              <a:off x="7757640" y="4645440"/>
              <a:ext cx="164880" cy="1638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Group 24"/>
          <p:cNvGrpSpPr/>
          <p:nvPr/>
        </p:nvGrpSpPr>
        <p:grpSpPr>
          <a:xfrm>
            <a:off x="7698960" y="5187960"/>
            <a:ext cx="282600" cy="280800"/>
            <a:chOff x="7698960" y="5187960"/>
            <a:chExt cx="282600" cy="280800"/>
          </a:xfrm>
        </p:grpSpPr>
        <p:sp>
          <p:nvSpPr>
            <p:cNvPr id="616" name="Oval 25"/>
            <p:cNvSpPr/>
            <p:nvPr/>
          </p:nvSpPr>
          <p:spPr>
            <a:xfrm flipH="1" flipV="1">
              <a:off x="7698600" y="5187960"/>
              <a:ext cx="282600" cy="2808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Oval 26"/>
            <p:cNvSpPr/>
            <p:nvPr/>
          </p:nvSpPr>
          <p:spPr>
            <a:xfrm flipH="1" flipV="1">
              <a:off x="7756920" y="5244480"/>
              <a:ext cx="164880" cy="16380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Text Box 27"/>
          <p:cNvSpPr/>
          <p:nvPr/>
        </p:nvSpPr>
        <p:spPr>
          <a:xfrm>
            <a:off x="8381880" y="2103480"/>
            <a:ext cx="16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0+-10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纮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8381880" y="2687760"/>
            <a:ext cx="16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10-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29"/>
          <p:cNvSpPr/>
          <p:nvPr/>
        </p:nvSpPr>
        <p:spPr>
          <a:xfrm>
            <a:off x="8381880" y="3290760"/>
            <a:ext cx="16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20-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8381880" y="3884760"/>
            <a:ext cx="16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30-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8381880" y="4487760"/>
            <a:ext cx="16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40-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8381880" y="5072040"/>
            <a:ext cx="16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60</a:t>
            </a:r>
            <a:r>
              <a:rPr b="1" lang="zh-CN" sz="2000" spc="-1" strike="noStrike">
                <a:solidFill>
                  <a:srgbClr val="333333"/>
                </a:solidFill>
                <a:latin typeface="黑体"/>
                <a:ea typeface="黑体"/>
              </a:rPr>
              <a:t>及以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Picture 33" descr="WPSppt-概率"/>
          <p:cNvPicPr/>
          <p:nvPr/>
        </p:nvPicPr>
        <p:blipFill>
          <a:blip r:embed="rId2"/>
          <a:stretch/>
        </p:blipFill>
        <p:spPr>
          <a:xfrm>
            <a:off x="1542960" y="1790640"/>
            <a:ext cx="4254480" cy="407376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34"/>
          <p:cNvSpPr/>
          <p:nvPr/>
        </p:nvSpPr>
        <p:spPr>
          <a:xfrm>
            <a:off x="5016600" y="20160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3232"/>
                </a:solidFill>
                <a:latin typeface="Calibri"/>
              </a:rPr>
              <a:t>hanmail8825</a:t>
            </a:r>
            <a:r>
              <a:rPr b="1" lang="zh-CN" sz="1600" spc="-1" strike="noStrike">
                <a:solidFill>
                  <a:srgbClr val="ff9b05"/>
                </a:solidFill>
                <a:latin typeface="Calibri"/>
              </a:rPr>
              <a:t>@</a:t>
            </a:r>
            <a:r>
              <a:rPr b="1" lang="zh-CN" sz="1600" spc="-1" strike="noStrike">
                <a:solidFill>
                  <a:srgbClr val="323232"/>
                </a:solidFill>
                <a:latin typeface="Calibri"/>
              </a:rPr>
              <a:t>126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4565520" y="55872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Kozuka Gothic Pr6N H"/>
                <a:ea typeface="Kozuka Gothic Pr6N H"/>
              </a:rPr>
              <a:t>DESIGN OF TH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WPSppt-封面"/>
          <p:cNvPicPr/>
          <p:nvPr/>
        </p:nvPicPr>
        <p:blipFill>
          <a:blip r:embed="rId1"/>
          <a:stretch/>
        </p:blipFill>
        <p:spPr>
          <a:xfrm>
            <a:off x="7920" y="19080"/>
            <a:ext cx="12192120" cy="68166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3"/>
          <p:cNvSpPr/>
          <p:nvPr/>
        </p:nvSpPr>
        <p:spPr>
          <a:xfrm>
            <a:off x="5016600" y="20160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23232"/>
                </a:solidFill>
                <a:latin typeface="Calibri"/>
              </a:rPr>
              <a:t>hanmail8825</a:t>
            </a:r>
            <a:r>
              <a:rPr b="1" lang="zh-CN" sz="1600" spc="-1" strike="noStrike">
                <a:solidFill>
                  <a:srgbClr val="ff9b05"/>
                </a:solidFill>
                <a:latin typeface="Calibri"/>
              </a:rPr>
              <a:t>@</a:t>
            </a:r>
            <a:r>
              <a:rPr b="1" lang="zh-CN" sz="1600" spc="-1" strike="noStrike">
                <a:solidFill>
                  <a:srgbClr val="323232"/>
                </a:solidFill>
                <a:latin typeface="Calibri"/>
              </a:rPr>
              <a:t>126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4565520" y="55872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Kozuka Gothic Pr6N H"/>
                <a:ea typeface="Kozuka Gothic Pr6N H"/>
              </a:rPr>
              <a:t>DESIGN OF TH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5"/>
          <p:cNvSpPr/>
          <p:nvPr/>
        </p:nvSpPr>
        <p:spPr>
          <a:xfrm>
            <a:off x="11638080" y="5969160"/>
            <a:ext cx="309600" cy="311040"/>
          </a:xfrm>
          <a:custGeom>
            <a:avLst/>
            <a:gdLst>
              <a:gd name="textAreaLeft" fmla="*/ 15120 w 309600"/>
              <a:gd name="textAreaRight" fmla="*/ 294480 w 309600"/>
              <a:gd name="textAreaTop" fmla="*/ 15120 h 311040"/>
              <a:gd name="textAreaBottom" fmla="*/ 295920 h 311040"/>
            </a:gdLst>
            <a:ahLst/>
            <a:rect l="textAreaLeft" t="textAreaTop" r="textAreaRight" b="textAreaBottom"/>
            <a:pathLst>
              <a:path w="21600" h="21700">
                <a:moveTo>
                  <a:pt x="3600" y="0"/>
                </a:moveTo>
                <a:arcTo wR="3600" hR="3600" stAng="16200000" swAng="-5400000"/>
                <a:lnTo>
                  <a:pt x="0" y="18100"/>
                </a:lnTo>
                <a:arcTo wR="3600" hR="3600" stAng="10800000" swAng="-5400000"/>
                <a:lnTo>
                  <a:pt x="18000" y="217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6"/>
          <p:cNvSpPr/>
          <p:nvPr/>
        </p:nvSpPr>
        <p:spPr>
          <a:xfrm>
            <a:off x="11661840" y="5994360"/>
            <a:ext cx="260280" cy="260280"/>
          </a:xfrm>
          <a:prstGeom prst="roundRect">
            <a:avLst>
              <a:gd name="adj" fmla="val 16667"/>
            </a:avLst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7"/>
          <p:cNvSpPr/>
          <p:nvPr/>
        </p:nvSpPr>
        <p:spPr>
          <a:xfrm>
            <a:off x="11296800" y="6300720"/>
            <a:ext cx="311040" cy="3096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8"/>
          <p:cNvSpPr/>
          <p:nvPr/>
        </p:nvSpPr>
        <p:spPr>
          <a:xfrm>
            <a:off x="11322000" y="6326280"/>
            <a:ext cx="260280" cy="258840"/>
          </a:xfrm>
          <a:prstGeom prst="roundRect">
            <a:avLst>
              <a:gd name="adj" fmla="val 16667"/>
            </a:avLst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9"/>
          <p:cNvSpPr/>
          <p:nvPr/>
        </p:nvSpPr>
        <p:spPr>
          <a:xfrm>
            <a:off x="11638080" y="6300720"/>
            <a:ext cx="309600" cy="3096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10"/>
          <p:cNvSpPr/>
          <p:nvPr/>
        </p:nvSpPr>
        <p:spPr>
          <a:xfrm>
            <a:off x="11661840" y="6326280"/>
            <a:ext cx="260280" cy="25884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1"/>
          <p:cNvSpPr/>
          <p:nvPr/>
        </p:nvSpPr>
        <p:spPr>
          <a:xfrm>
            <a:off x="619200" y="1687680"/>
            <a:ext cx="280800" cy="5170320"/>
          </a:xfrm>
          <a:prstGeom prst="flowChartProcess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Picture 15" descr="WPSppt-条形"/>
          <p:cNvPicPr/>
          <p:nvPr/>
        </p:nvPicPr>
        <p:blipFill>
          <a:blip r:embed="rId2"/>
          <a:stretch/>
        </p:blipFill>
        <p:spPr>
          <a:xfrm>
            <a:off x="636480" y="1677960"/>
            <a:ext cx="4983120" cy="696960"/>
          </a:xfrm>
          <a:prstGeom prst="rect">
            <a:avLst/>
          </a:prstGeom>
          <a:ln w="0">
            <a:noFill/>
          </a:ln>
        </p:spPr>
      </p:pic>
      <p:sp>
        <p:nvSpPr>
          <p:cNvPr id="638" name="AutoShape 11"/>
          <p:cNvSpPr/>
          <p:nvPr/>
        </p:nvSpPr>
        <p:spPr>
          <a:xfrm>
            <a:off x="3303720" y="2919240"/>
            <a:ext cx="314280" cy="3938760"/>
          </a:xfrm>
          <a:prstGeom prst="flowChartProcess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6" descr="WPSppt-条形"/>
          <p:cNvPicPr/>
          <p:nvPr/>
        </p:nvPicPr>
        <p:blipFill>
          <a:blip r:embed="rId3"/>
          <a:stretch/>
        </p:blipFill>
        <p:spPr>
          <a:xfrm>
            <a:off x="3363840" y="2911320"/>
            <a:ext cx="6873840" cy="1001880"/>
          </a:xfrm>
          <a:prstGeom prst="rect">
            <a:avLst/>
          </a:prstGeom>
          <a:ln w="0">
            <a:noFill/>
          </a:ln>
        </p:spPr>
      </p:pic>
      <p:sp>
        <p:nvSpPr>
          <p:cNvPr id="640" name="AutoShape 11"/>
          <p:cNvSpPr/>
          <p:nvPr/>
        </p:nvSpPr>
        <p:spPr>
          <a:xfrm>
            <a:off x="6006960" y="4084560"/>
            <a:ext cx="304920" cy="2773440"/>
          </a:xfrm>
          <a:prstGeom prst="flowChartProcess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17" descr="WPSppt-条形"/>
          <p:cNvPicPr/>
          <p:nvPr/>
        </p:nvPicPr>
        <p:blipFill>
          <a:blip r:embed="rId4"/>
          <a:stretch/>
        </p:blipFill>
        <p:spPr>
          <a:xfrm>
            <a:off x="6046920" y="4121280"/>
            <a:ext cx="5719680" cy="985680"/>
          </a:xfrm>
          <a:prstGeom prst="rect">
            <a:avLst/>
          </a:prstGeom>
          <a:ln w="0">
            <a:noFill/>
          </a:ln>
        </p:spPr>
      </p:pic>
      <p:sp>
        <p:nvSpPr>
          <p:cNvPr id="642" name="AutoShape 11"/>
          <p:cNvSpPr/>
          <p:nvPr/>
        </p:nvSpPr>
        <p:spPr>
          <a:xfrm>
            <a:off x="8710560" y="5353200"/>
            <a:ext cx="300240" cy="1504800"/>
          </a:xfrm>
          <a:prstGeom prst="flowChartProcess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3" name="Picture 18" descr="WPSppt-条形"/>
          <p:cNvPicPr/>
          <p:nvPr/>
        </p:nvPicPr>
        <p:blipFill>
          <a:blip r:embed="rId5"/>
          <a:stretch/>
        </p:blipFill>
        <p:spPr>
          <a:xfrm>
            <a:off x="8750160" y="5345280"/>
            <a:ext cx="2876760" cy="69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WPSppt-封面"/>
          <p:cNvPicPr/>
          <p:nvPr/>
        </p:nvPicPr>
        <p:blipFill>
          <a:blip r:embed="rId1"/>
          <a:stretch/>
        </p:blipFill>
        <p:spPr>
          <a:xfrm>
            <a:off x="-4680" y="34920"/>
            <a:ext cx="12183840" cy="68166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WPSppt-结束"/>
          <p:cNvPicPr/>
          <p:nvPr/>
        </p:nvPicPr>
        <p:blipFill>
          <a:blip r:embed="rId2"/>
          <a:stretch/>
        </p:blipFill>
        <p:spPr>
          <a:xfrm>
            <a:off x="878040" y="2486160"/>
            <a:ext cx="3078000" cy="103824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4"/>
          <p:cNvSpPr/>
          <p:nvPr/>
        </p:nvSpPr>
        <p:spPr>
          <a:xfrm>
            <a:off x="4587840" y="57456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92929"/>
                </a:solidFill>
                <a:latin typeface="Kozuka Gothic Pr6N H"/>
                <a:ea typeface="Kozuka Gothic Pr6N H"/>
              </a:rPr>
              <a:t>DESIGN OF THE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5" descr="WPSppt-结束"/>
          <p:cNvPicPr/>
          <p:nvPr/>
        </p:nvPicPr>
        <p:blipFill>
          <a:blip r:embed="rId3"/>
          <a:stretch/>
        </p:blipFill>
        <p:spPr>
          <a:xfrm>
            <a:off x="1046160" y="2639880"/>
            <a:ext cx="5342040" cy="846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" descr="WPSppt-结束"/>
          <p:cNvPicPr/>
          <p:nvPr/>
        </p:nvPicPr>
        <p:blipFill>
          <a:blip r:embed="rId4"/>
          <a:stretch/>
        </p:blipFill>
        <p:spPr>
          <a:xfrm>
            <a:off x="5486400" y="266760"/>
            <a:ext cx="1276200" cy="2728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WPSppt-结束"/>
          <p:cNvPicPr/>
          <p:nvPr/>
        </p:nvPicPr>
        <p:blipFill>
          <a:blip r:embed="rId5"/>
          <a:stretch/>
        </p:blipFill>
        <p:spPr>
          <a:xfrm>
            <a:off x="1098720" y="3963960"/>
            <a:ext cx="29271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51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1T07:04:26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