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850-1A03-4BA5-B14A-C4F51D92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E1E-D1FA-4587-881F-D9B974B0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F42-E1DB-450B-BF16-688F139D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59F-49E2-4BA3-8D3F-8374A1D3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580-9382-43F6-ABC6-75771E71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228-DEA9-4896-A649-703002EF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505-5906-4A26-B528-80D45EC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B99-2FEC-484F-8039-351ACC8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21C-EFAD-4A54-933D-E5C0BBF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E6B-0143-425F-B103-D91652F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62D-061F-4393-B9E2-8BDB849B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37A-AE9F-44CE-A094-DC2C6D3C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CCFB-0928-45F5-AF7E-DE199D66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22AB-007B-43A4-8BFE-40F83AEB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73D5-1760-4A98-8631-ECFFA980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014C-42A1-4965-80BE-66490317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16BC-919A-45B3-9B72-D96B7804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1B3E-193E-413B-917B-4840752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F5F7-F603-4492-B3F1-64176BB7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23F8-433B-48F2-96AC-987280B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0A55-58D1-45EA-8ECE-8DF69D1D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F31A-5F93-40BF-B709-AEF42FA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3BC9-8DA2-41A0-8E38-C1C9C7C2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1F3A-9756-48C9-BF07-1CE9C886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469800" y="365040"/>
            <a:ext cx="8229600" cy="10526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9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899400" y="6316560"/>
            <a:ext cx="1800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83C6-AD83-4ABE-B339-A47DBFE608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2CBE-CC50-457B-A204-C29E67EEF1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9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5373-E526-451D-8079-6819AE639A0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商务范儿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501720"/>
            <a:ext cx="64008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企业宣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3394080" y="20829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企业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3394080" y="111132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公司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394080" y="304488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相关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394080" y="399420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发展探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43080" y="5245200"/>
            <a:ext cx="23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方正细倩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3394080" y="22701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企业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394080" y="129852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ccff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公司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394080" y="323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相关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394080" y="41799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方正细倩简体"/>
              </a:rPr>
              <a:t>发展探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谢谢观赏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0T05:00:59Z</dcterms:modified>
  <cp:revision>1</cp:revision>
  <dc:subject/>
  <dc:title>商务范儿PPT</dc:title>
</cp:coreProperties>
</file>