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26A8C-4125-4A0C-A0A5-3A636C5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C7CC-29C8-4C61-8ACF-C97A272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0704-5D77-4E63-B83B-A953279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A273-381A-4A54-8074-EB148EE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34E81-D4D9-43AC-A0A3-355E2E4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C0FC-510F-4138-8B07-1F2081D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9523-B3B9-496D-9A20-1DCA5FF7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2629-14B0-4248-A480-B179D55A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3E0B-3FF8-4331-A83B-5F7D1A5F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6C24-3D5B-443B-A5BE-40591596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2385-C476-404E-9C22-D8C0F76B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18CAF-AE49-43C3-90A3-14998A8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2E5B-B9E9-4C73-A616-CAEE0DF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61573-8B01-42BF-988D-F3C5FCB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1ED3D-F926-4775-B4D0-DEC676A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3C3E-41CC-4B47-830D-9E111F5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5579-5448-409D-A60B-9CC03EB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32FB-9D81-4B47-A519-734D7E0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5D30E-D9D7-490F-A97E-3E700BD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2855-7B6B-496F-8F7A-50498DD6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19C8-158A-4DAA-B870-ABF337B6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2AE61-A5D7-4E3B-B0F3-1F7195CB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912AF-2436-4C71-874C-AA910C5F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DAFD-AE4F-436A-913E-E09F3803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16D11-AB5C-4DA6-AF3E-E795B248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8290-DE50-4A2F-B900-690823D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B43F6-AC74-4EA6-B251-8165C189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102F7-F2E6-48B1-9A87-F4AE6A2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55E68-3273-4C2F-9653-1DA273AC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8BD34-6F7E-418C-9556-FB1DCA1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671-71B8-45B9-9328-FE684999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B73BF-3DB8-4CFE-98C7-E109B01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F869A-ADF4-4F15-9797-FBEFE9A8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F18F-0C12-4D56-AD45-444A5BC9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1E0B-C077-46CA-A540-7337E1C3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66235-2153-4146-A11B-81A013E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85A7F-D065-49F1-8F62-43299CB0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59F28-CBE6-45A9-B4CA-75A5F60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69825-48A4-46B6-B0F7-CC6A438C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D0167-ABB8-4F81-B3A8-C7A850D8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4474D-57F3-42D1-B077-546DA20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A8A-DC73-4CC9-9CFC-11E62F9F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2245-0334-4953-A3E0-8B66870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64F3F-A217-48CC-9FF7-7056206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0B519-2C92-4390-A368-A52A7A6F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D36FF-E110-4D70-A976-BB044188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0ABA0-5412-4F64-BD8F-79FF8108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AF31-5D33-423E-BB09-76F5C2F4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55BED-E0AD-4869-A251-FC90D011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393F-707A-4F00-8258-06C38C2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6860B-E9DA-442E-B34C-4D7A106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85506-D6C4-42BC-A326-444F121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C73-924B-41F0-B4C5-1B4BB869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B79E6-6F96-4A7D-A826-57340E74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EA9D-BE6E-41ED-BDF8-ABB807D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55CDE-93D7-4EAD-9732-88AD406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8E2D6-3CC2-4904-9824-108DE2F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B8C97-1ADB-4C9B-898B-E30C319D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8DC9-FAE2-42E0-997B-D9A9D728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7F432-F4FF-4C70-8EE0-07A98794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5B303-CB48-4D5C-AF82-3AC31364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5302B-0A54-4B35-A04E-F69E3E51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AE03A-BC53-4C62-B8EA-9DC7214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7D4-5794-4524-B5F1-065E6DE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248EC-F593-4615-95AB-756C03C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43D49-8B8D-4DA9-AC35-950167B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DD3A6-9C03-484E-8184-31FB30E7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AB4C-7EC3-4795-94F6-D334D72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4FF3-1928-43BA-9CC8-833714A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18883-3CD6-47E4-952E-E265C59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FEFA1-BAA8-4AB3-8FF9-587AE38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A12CF-42F5-4AA0-B976-B97D7788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1D41C-CFB7-4EAC-9EAD-C5C66217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F44-C3FA-44FA-9656-8DC0AF2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4C2-1557-414F-8679-BF8A48AC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818-E5F1-4D51-9A02-0A64BE6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A00-C181-45BD-ADDD-013B41C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912-4C91-4191-B637-3827B7D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9C5-CEF3-46B4-8020-F1A4528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D47-8192-4C1E-BE76-8B04D300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71-34AB-440C-B24D-C2130EDC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734-3507-4ED7-AA21-67B3E506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8D70-2C66-479E-A7E6-9EA747C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057E-BA27-4E37-826A-B7D49E7F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2B13-4328-47A2-9B6B-A468FD1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E995-AF8E-4B83-A259-2F54C6E5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4421-00A3-42B5-A651-FBC72FD9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3D3-940B-47DC-8014-FA20339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0D7-D8C1-4A76-AA94-20BEC9D0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D26-4338-4CE6-8E78-45D67B4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5CE-FDAD-4737-9C2C-31E4A3E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3A93-93C6-40A7-BFAC-C3763074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6E22-F5AD-4D73-845C-06E5476F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D514-BDCF-44E6-86E3-66181B08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1684-DDC1-41D1-B4BF-4BBB50C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7EAF-266E-4096-9C35-603D32E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4BD6-AF14-4929-8B5D-743D683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9477-7394-450D-89FE-0F2E62A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FC18-A19D-4E56-AADB-7B9A47F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662B-1D6F-497F-BA5D-3B47D5C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FD15-676A-4DBD-B54C-5CD5D84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3EF3-F2E6-4953-8389-0A78232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0E52-3DF9-48F9-978F-B034ED8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1571-4DBB-461C-9C2E-388BA042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DDF8-FDF0-47D9-AAF0-5B0BDA9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3DEA-731A-416E-8AAE-FBF827AC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5E58-758A-4958-AA86-B2F0EFF0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86AE-5630-4C3E-A234-A8EC373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82E0-8717-4C84-8C5F-96B1A4B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61AB-68A0-4C91-A73B-A6D7B9C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219E-6B03-4E44-91E2-1391FF5E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BF47-3D38-4DDB-B27E-1179AB4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D993-6FA6-4113-BC97-8F5FED0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9AF0-6002-4CE2-B0B8-3F3160E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6C0D-F456-453C-92AE-E8B283F5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DAB1-554B-4E26-9685-3E4B05E4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C423-A0D8-44E6-9576-0D1DDF0C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E280-F058-4F63-A042-E1889E54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E072-7D32-43D9-A64A-9E7F518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74D4-ADA6-486A-A2B6-5A32C8F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BE77-3BA3-49B0-8055-F7DB7AFC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760E-E63E-4BA7-B45D-1F670CCC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A922-6410-4049-B8A1-92C173E8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4048-18A2-4299-8164-D3AC88A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03F3-6E18-4697-B0F5-67D04AE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8516-EFC6-4BCB-A34E-B0E2FE5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E889-C877-4DBE-90A6-13E18D4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72178-62C4-44A5-A125-78D6383B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9372-6DAE-4A36-8884-73F0B7C6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BC44-0F8B-481E-8508-1B6B80D5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719A-8F43-40B9-B23E-5CC77CD4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946D-B423-407F-AF07-8AFAA60D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EDD2-7E13-4A81-BE26-57304EB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44C52-32B2-4D3B-8AE9-BB50070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6E7A-445F-48A8-854E-B145149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3BE71-2869-4550-A187-FAE494F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52DA3-A3E6-4276-9A46-A9DF9FE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F961-5FA2-4C12-AD82-6739DF6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0C4A-DC2B-4E1A-9C2F-BE8C01D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31E3-D10A-4767-A7E7-F670B0ED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5AB5-E051-4253-93CF-F4707BB9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F5EE-334A-4DAB-B01A-4044BFA8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E5A1-D26C-4EC1-A191-7C9358E0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9B2E-6A39-4653-BC79-30820A6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烽火LOGO(new-ENG)(1) copy(06-05-08-54-14)(06-06-23-02-26)"/>
          <p:cNvPicPr/>
          <p:nvPr/>
        </p:nvPicPr>
        <p:blipFill>
          <a:blip r:embed="rId3"/>
          <a:srcRect l="29756" t="0" r="5782" b="0"/>
          <a:stretch/>
        </p:blipFill>
        <p:spPr>
          <a:xfrm>
            <a:off x="7380360" y="6313320"/>
            <a:ext cx="1571400" cy="544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0" y="6453360"/>
            <a:ext cx="4276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BlackCn"/>
              </a:rPr>
              <a:t>HONGXIN COMMUNICATION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" name="Picture 76" descr="C:\Users\Dapeng\Desktop\无标题.bmp"/>
          <p:cNvPicPr/>
          <p:nvPr/>
        </p:nvPicPr>
        <p:blipFill>
          <a:blip r:embed="rId4"/>
          <a:stretch/>
        </p:blipFill>
        <p:spPr>
          <a:xfrm>
            <a:off x="0" y="6238800"/>
            <a:ext cx="9153360" cy="619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6" descr="C:\Users\Dapeng\Desktop\无标题.bmp"/>
          <p:cNvPicPr/>
          <p:nvPr/>
        </p:nvPicPr>
        <p:blipFill>
          <a:blip r:embed="rId5"/>
          <a:stretch/>
        </p:blipFill>
        <p:spPr>
          <a:xfrm>
            <a:off x="0" y="6238800"/>
            <a:ext cx="9153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180-AEDF-4F19-84D6-81B18E136C2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9E6-E099-4D6A-BD9C-0F5DA5552D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CCA-DDF1-4AA6-9EE9-768E005C3CB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F4F7-BD26-4765-B081-C22A22749A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DF83-E234-4821-99E8-BF04ED45165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8B1-FB60-4ED3-AB39-69B1FEF2B2F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1B4-03BF-4DF5-8BD0-8FDC5F61DCD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2F3-EC56-4C73-9D0C-7F3E2C47AA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462-5428-4728-959E-2DE16E8BDCF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A87A-4D78-4CB3-A0A4-93F7978F246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3FF-3B62-4526-8659-3658ADDF37A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AA3-664E-4908-A997-9F453296F0C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6" descr="C:\Users\Dapeng\Desktop\无标题.bmp"/>
          <p:cNvPicPr/>
          <p:nvPr/>
        </p:nvPicPr>
        <p:blipFill>
          <a:blip r:embed="rId3"/>
          <a:stretch/>
        </p:blipFill>
        <p:spPr>
          <a:xfrm>
            <a:off x="0" y="6237360"/>
            <a:ext cx="9153360" cy="619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98D9-5B0A-40D3-AA0E-3F711F9AAC7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693-4FF8-4EF1-9C3A-4898F73382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94D3-B4A8-447B-9B46-E0DE42CCD87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019-0752-495F-9955-44931A6C59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8472-D9BE-4FC5-BA30-470AECC1439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1289-CD34-4645-954C-DD4D3A11C1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5FC8-7C1D-4417-BF71-AB681A19D82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AD5-6D6D-4572-9861-E347D9B96C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1C8-953D-4DD5-9EEC-76143F9BD49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31DD-84DA-4F7D-AA1E-695AC4AECA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61B1-B209-4489-AD67-824D7F99CAF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EFA3-7520-47B2-A6C6-FAA6DEF078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1280" y="458136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257480" y="58053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2:15:59Z</dcterms:created>
  <dc:creator>Dapeng Hao</dc:creator>
  <dc:description/>
  <dc:language>en-US</dc:language>
  <cp:lastModifiedBy>a</cp:lastModifiedBy>
  <dcterms:modified xsi:type="dcterms:W3CDTF">2015-01-12T13:31:28Z</dcterms:modified>
  <cp:revision>2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