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9C0C-2FC7-4EED-B5CB-A72FE542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B1F3-D4B1-4B57-AE27-20BF4AA0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4E99-D22D-4149-A6CB-1D30BC91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D067-E092-4EDF-8C06-7C49A7E0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D0E4-BF81-4216-B854-913BDAD0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F11F-7CCD-451F-BF9F-295A9673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2113-EBBC-4B35-B414-EEEFE430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407A-DAE5-49CC-9333-34EF8C34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CC6C-AF63-463D-A306-85822A24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F689-A5C9-464A-8F11-50EBC27B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3E7B-5DAC-4B08-BDB1-7BC5EE55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1203-64EC-4969-BADE-BF9CD784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1CF1-A6EB-4932-AD15-58106253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2F66-FB7C-4E63-8CD7-09F37096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1675-2E16-4B30-943C-1FE0833B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F703-3163-49AF-AEC5-50336665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12D2-C0DD-4C8D-A977-3DF97F08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0B709-8DDC-42E8-9B9D-F42038DC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EBFD0-14B8-4CF1-BD70-BAF8AE38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2547F-4FB1-4D0E-B905-F67700D5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EF99D-D7EB-4C46-9128-6F2404BA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1F5D9-12CB-4C8D-9D4A-79C1EB89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809E-35F5-4CAC-98DA-2E8C9C3C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9A9A0-E374-4069-A59F-6311826D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5D4F2-4DFC-4230-85D0-0E73CD51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63879-A1A6-4399-94C4-2B4C8146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920E4-BC5E-4D30-8B2A-4ED048DA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0BAE9-9B43-4A36-AD4A-786D1121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FBC27-C2AF-4361-A841-904F1CB3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17DC0-C373-4232-AD9F-B4A918B3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136D-082C-40FC-BCE9-C3AEE11F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B48F-643F-415D-9BF8-95944853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487D-CA7B-46C5-B12A-79C59B6C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EBAC-8BA5-4678-BCBD-23C7AD67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72CC-6C3F-46B8-9351-775037D0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0178-9610-49D3-8144-0DDC55DE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ADC0-ABCB-4AF8-A400-DF4AC16704B8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B769-0852-409B-8415-7FF5CB0691D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2938-1213-4D87-B447-7D29AF21DB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843D-396C-4FD8-B339-2E70292F2B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首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目录页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过度页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内容页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结束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8:01:06Z</dcterms:created>
  <dc:creator>sg</dc:creator>
  <dc:description/>
  <dc:language>en-US</dc:language>
  <cp:lastModifiedBy>a</cp:lastModifiedBy>
  <dcterms:modified xsi:type="dcterms:W3CDTF">2015-01-14T08:01:14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