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EFB-AB4B-4FFC-8015-DB44F096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6A3-5EB3-401B-ADFE-CF8134FD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2C55B-3090-4122-A2C9-125D946C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833FF-D4FA-46FE-BCDF-637232F1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C219-BC4F-45F0-91F5-310FCF1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D05A2-2359-4405-871A-BCAD255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06DD4-6EA9-4EA5-83E8-C806C6B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6509C-1E96-40D8-9F20-D53E98D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980C-5F03-4675-AD1E-88ED394B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85F43-764A-45F6-8DFD-96B8120E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058CF-65FC-445B-BD7C-8A7EAF5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639C8-CC81-43B7-B881-2F3F53A6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24F-BB79-419C-BEBF-3E380CFB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44542-9380-4291-99E3-7D22444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E113C-E757-4864-ADF2-0A6C7579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A7A0-36E8-4316-B79A-18A5CA6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D65F8-59BB-4560-875A-E5EAA5D6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E5472-F415-4D21-BD53-E70FCF24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6D3F-0C5A-47F3-9A52-2AED18E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1E340-A44F-409C-B4DE-7032AA3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80D46-11E0-4FBC-85B5-AC0FFD6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D87CF-45BE-421B-A76F-20735227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C1A16-3CC2-4DE0-A4F3-5D395F93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905-4C73-4C5F-B533-F233EBA6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016D6-7B14-4052-8BFE-FDA750A0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7FAA-F715-41B7-B541-3EECEDBA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25354-E802-42F0-B37B-B30DC67E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E24E-FE39-425E-A068-B457E8D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B3EED-903A-4D3F-A754-3A1DF1D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8CD70-5D32-48CA-9415-1B4FF2B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7ED20-55B6-4023-AE42-F59E6F19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0464E-EAF7-4101-9453-910D12A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FE510-8DCB-493A-8E89-B410771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A55E6-2CAD-49D9-B346-B061886A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95D1-18BE-4179-8E42-803786ED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02F5D-5C93-4D52-BD67-91D0BF8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AD586-FCCD-4975-9BDB-5839DAE4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949E-A531-4626-8460-C7D8D7B5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0FD6F-BDD8-4131-B943-EB9591F8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BFA4B-A669-4722-A474-E03EA0DD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F4E05-4FF0-4809-9F1A-2193A57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9DF9F-D8F2-48CA-816E-2C5253C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2EDE8-44F4-4F4A-B1BC-69EE789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B5E6D-1F78-45DB-B39E-9994F40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458D4-DAE5-447A-A695-E2065C6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7EAB-2569-4EA8-A37D-732B919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84547-94EF-4631-A1E8-CE2165F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AEC0-33B0-4A38-AEC2-1D13493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DEA2C-219F-49CA-B926-19A6B6E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29075-8E1F-4D8F-9245-6F416B9F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8B7CE-BFA5-4522-A3BB-BD5E71EC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B258A-E3DA-4D7F-92B6-FE593930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6EA99-39C1-4AFA-9502-C0F3AF4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44433-02A2-4946-8C35-F2E23F4C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5664F-3217-477D-A334-D13BFDA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42DBF-5201-4CDC-9C2A-D4731D7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0C6-8A27-42D9-9373-273E80D2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74DB7-B4EF-494B-A34C-3B464047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54D98-E248-4804-B5F9-8E14BABA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363C2-F2D2-4AE6-B495-2EC982E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33008-E29A-44FA-9DEC-721E55D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4A5EC-2623-4455-9A26-21E5AD8E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F68D93-A9B2-4797-B3C1-29B530AF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1814E-D45E-4B84-BC68-7DFD1B3B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A33-674C-438A-9BAF-ECDA469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387-2574-4EE4-AFDE-F384441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A7D-2F6E-4447-B277-D233F9E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FE7-82AD-4B3E-A4AF-8E2BC57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6A4-3635-45F4-BFB8-27BDE1A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6CBD-9FC1-43C3-8E64-447D9A0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2F40-03A4-4C35-B5BB-0C4809C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B36-A544-4B0C-B64F-05073E1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05EF-7531-4460-9AB0-C01A95D2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D678-9B9B-4661-8EF7-FC832D41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1490-CD2C-4DE4-A076-A52FCCD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CEDD-D5E7-4691-B12F-7DCB158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F3C7-A99C-4241-8F8A-62013C0E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73D1-1BB9-4BB8-AE4D-746A728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6A8F-B987-4A06-9B24-D04977A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430-EB44-4F5A-9657-E009DDF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EC42-FA63-4D7D-950E-1E2A131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ADF0E-BD59-4DD1-A95F-282FFF5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670D-E843-42A8-9282-0B3A40C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C186-8771-4D09-8402-A2D9618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8491-3BE0-4B4D-80A3-A00AC2EE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5224-786B-4D44-B587-1BB86F28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1587-6D53-49A7-BCF9-113C6570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1808-DFAD-4AC6-B3A8-CAD50976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0C9F-2D0B-42B8-A1B6-24CE3B2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2435E-9A0A-48DF-9644-E49C964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F55-764F-48BD-93F1-8256F1DF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0236-4B14-4FC6-B7B0-037C3D53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BF6E6-F8B6-4AB3-9864-03BB824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24A55-1481-4AE2-9428-251E4FC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7BBE-A195-4EAC-8D3B-9C4BD47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342D-0652-407E-9202-BEFC511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F3548-0C01-4A9F-89F7-360521F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AE4E-9693-437E-A1A1-C7E1FB5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3EDC-5257-456D-88EE-149468CD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2B14-D2AF-4770-AB23-7B723CAF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D05F-C494-4965-8861-3112E7AF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6B1-3A84-4A5D-850D-FE16C002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E45A0-4E2B-4405-878E-AC29E02C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53F4-075A-4024-853F-F8D44F26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F289-3114-4B93-BD32-7D269327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8088-8F60-4306-8B61-7B155B5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10E4-BB75-49FE-A9A1-EE33271A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D3B8-DEC9-4BC1-8890-2EB3C3B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ED93D-A7DB-4BDB-B5F3-0A990270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4BF7-F4A0-486F-9541-8BDB7F8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C2B1-6C52-4A23-A505-93175CD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5724A-F565-4BBF-BBA5-B0B9E5B5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B4C-04E9-4D1C-A561-69770DE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8E7A-CC42-4683-9F68-B28D432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2FF5-2847-4295-94B2-5DE71DB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1CEF-67D3-4A44-AB63-08D0A659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4DEF-F281-4C3A-A71E-918CBC72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3D84E-5050-4763-A539-450ECCB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2A60-F444-49B5-96CA-28847BAC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F28D-4159-435C-93A7-B256528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2912-04FD-4D32-8963-24FD051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C2DB-BDB2-461E-AC86-9EB079CD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D02A-3065-4293-9835-19FBF7B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5AD-EDB6-4C3A-88B1-4EEF4CD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E5516-AECB-49E0-80DD-776CE66A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5A73-9CD8-403F-AFBE-69015109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F37C-6393-45ED-95FF-BFFCE8DC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6E4B2-DDB0-459C-AC58-C35C35F1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01490-B06B-441D-B275-BDE1A0C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DA94F-8BCC-4C37-B291-BC23168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05180-5416-4182-9CC0-E1244C8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4BAC2-A402-4D03-A9BC-BC35D26D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4C50B-5A3B-4D5D-84D2-E5CACE50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04F1-49D5-430B-94B7-77177DD5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017-98F6-48A7-9664-E7B38EF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00EF-12F6-4851-8CA5-F84987B6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DA83-554F-46F8-807E-153E840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7318-F4D7-4C43-A03C-CB28A29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5650-1415-487F-A6E4-DCEC8593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9DA1F-F881-49F2-B1D9-628513E4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23C8B-774B-40AA-A13B-70A7F49C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360C-9A8A-43F6-BFFC-A0B309E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F1506-FC40-4150-B43B-C23BF53C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E7AB-DF25-41A6-9334-0C6A5094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2EBC-B832-490D-AC38-6E0845CC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ADC-0B6F-4BA4-A139-E427945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DAAB9-98A6-4EB2-A872-6646706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224E8-9C59-4953-8772-027D160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55805-993E-48DC-90A7-AE531369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5CB0-77A1-4F52-A1B3-EDB152BE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8BFD-9B3B-407B-B463-94CB9225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987F-0250-447F-9157-94CF106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55B1-F57C-4EE7-AC9F-6A76E834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A9162-EBE0-4E9E-B7EF-0DFCA8DE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2E27-404C-4F6D-8165-75722A4C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7A102-9A2E-4565-BF8F-2CAC63C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54ED-4CE8-4C2B-AD6E-8612FAFFA0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B41-8381-4736-A28D-A296593BE1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460-9233-43DB-B3D0-B1691CE543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CE0-396C-401D-BF1C-69D8320183A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A81-6A17-4B88-99AA-BEF7FD54F33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42D-C0FC-4FDE-B53C-60777C83084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8EE0-E71C-4D83-ADA9-6D4895BBF62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69E-6669-48FF-AC98-82FA98EE38C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CA60-10C8-4F97-839E-DB00B450DAB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63C-BB5A-42E8-9D5B-95FC9DD245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AE4C-9D97-46C1-9879-C4B64CCD0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2CE4-D30A-4F4C-A1A9-19C03045E01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BA2-14EC-4242-BEDF-35B6093714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CA21-E8E0-4EC6-AC05-0ED7281C0DA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BF1-A2D1-48BB-8118-3727BBFA858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0E47-9463-4419-BDDF-382102ABDF1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488-86DE-4C97-A678-C7B6F752F5A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19E-0789-4AF7-9579-A834B336A5C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ECF1-8248-4577-94FE-169783B19B0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F37D-8470-4AE7-9E10-6C8F090CBDC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D4B6-C9E2-486E-BE56-0F389EA4552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17DA-E799-412D-A275-8380801BE60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C629-7B47-459A-8EF3-49F01330CC4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B4EE-EC2C-4976-9095-A7455EB2462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6462-7790-4AF4-A04F-82A2FFA47EF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C:\Users\Administrator\Desktop\mbkp\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3"/>
          <p:cNvSpPr/>
          <p:nvPr/>
        </p:nvSpPr>
        <p:spPr>
          <a:xfrm>
            <a:off x="3257640" y="2403360"/>
            <a:ext cx="5538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宽屏橘黄色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-4680" y="3354480"/>
            <a:ext cx="12187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23c27"/>
                </a:solidFill>
                <a:latin typeface="Arial"/>
                <a:ea typeface="微软雅黑"/>
              </a:rPr>
              <a:t>SIMPLE,POWERFUL AND FR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-14400" y="3341520"/>
            <a:ext cx="12187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微软雅黑"/>
              </a:rPr>
              <a:t>SIMPLE,POWERFUL AND FR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" descr="C:\Users\Administrator\Desktop\mbkp\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3"/>
          <p:cNvSpPr/>
          <p:nvPr/>
        </p:nvSpPr>
        <p:spPr>
          <a:xfrm>
            <a:off x="504720" y="390600"/>
            <a:ext cx="3338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演示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1447920" y="2028960"/>
            <a:ext cx="3338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您的目录题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3270600" y="64440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c990"/>
                </a:solidFill>
                <a:latin typeface="微软雅黑"/>
                <a:ea typeface="微软雅黑"/>
              </a:rPr>
              <a:t>Categ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638280" y="2181240"/>
            <a:ext cx="752400" cy="569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447920" y="3209760"/>
            <a:ext cx="3338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您的目录题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10"/>
          <p:cNvSpPr/>
          <p:nvPr/>
        </p:nvSpPr>
        <p:spPr>
          <a:xfrm>
            <a:off x="638280" y="3362400"/>
            <a:ext cx="752400" cy="56988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6829560" y="2028960"/>
            <a:ext cx="3338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您的目录题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2"/>
          <p:cNvSpPr/>
          <p:nvPr/>
        </p:nvSpPr>
        <p:spPr>
          <a:xfrm>
            <a:off x="6019920" y="2181240"/>
            <a:ext cx="752400" cy="569880"/>
          </a:xfrm>
          <a:prstGeom prst="rect">
            <a:avLst/>
          </a:prstGeom>
          <a:solidFill>
            <a:srgbClr val="6ea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6829560" y="3209760"/>
            <a:ext cx="33382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您的目录题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4"/>
          <p:cNvSpPr/>
          <p:nvPr/>
        </p:nvSpPr>
        <p:spPr>
          <a:xfrm>
            <a:off x="6019920" y="3362400"/>
            <a:ext cx="752400" cy="569880"/>
          </a:xfrm>
          <a:prstGeom prst="rect">
            <a:avLst/>
          </a:prstGeom>
          <a:solidFill>
            <a:srgbClr val="a15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18"/>
          <p:cNvSpPr/>
          <p:nvPr/>
        </p:nvSpPr>
        <p:spPr>
          <a:xfrm>
            <a:off x="1077264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9"/>
          <p:cNvSpPr/>
          <p:nvPr/>
        </p:nvSpPr>
        <p:spPr>
          <a:xfrm>
            <a:off x="1135368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109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C:\Users\Administrator\Desktop\mbkp\2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3"/>
          <p:cNvSpPr/>
          <p:nvPr/>
        </p:nvSpPr>
        <p:spPr>
          <a:xfrm>
            <a:off x="4576680" y="2773440"/>
            <a:ext cx="2695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Calibri"/>
                <a:ea typeface="微软雅黑"/>
              </a:rPr>
              <a:t>输入大标题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7"/>
          <p:cNvSpPr/>
          <p:nvPr/>
        </p:nvSpPr>
        <p:spPr>
          <a:xfrm>
            <a:off x="4560840" y="341460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0"/>
          <p:cNvSpPr/>
          <p:nvPr/>
        </p:nvSpPr>
        <p:spPr>
          <a:xfrm>
            <a:off x="2979720" y="2857680"/>
            <a:ext cx="1401840" cy="1143000"/>
          </a:xfrm>
          <a:prstGeom prst="rect">
            <a:avLst/>
          </a:prstGeom>
          <a:solidFill>
            <a:srgbClr val="c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1"/>
          <p:cNvSpPr/>
          <p:nvPr/>
        </p:nvSpPr>
        <p:spPr>
          <a:xfrm>
            <a:off x="1077264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1135368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109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C:\Users\Administrator\Desktop\mbkp\3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3"/>
          <p:cNvSpPr/>
          <p:nvPr/>
        </p:nvSpPr>
        <p:spPr>
          <a:xfrm>
            <a:off x="1776240" y="649440"/>
            <a:ext cx="2695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2626"/>
                </a:solidFill>
                <a:latin typeface="Calibri"/>
                <a:ea typeface="微软雅黑"/>
              </a:rPr>
              <a:t>演示内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3794040" y="90792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微软雅黑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736560" y="1650960"/>
            <a:ext cx="694044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这里写描述文字信息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</a:t>
            </a:r>
            <a:r>
              <a:rPr b="0" lang="en-US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</a:t>
            </a:r>
            <a:r>
              <a:rPr b="0" lang="en-US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~</a:t>
            </a: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                   </a:t>
            </a:r>
            <a:r>
              <a:rPr b="0" lang="zh-CN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这里写描述文字信息，可以自由编辑内容，超方便哦</a:t>
            </a:r>
            <a:r>
              <a:rPr b="0" lang="en-US" sz="1400" spc="-1" strike="noStrike">
                <a:solidFill>
                  <a:srgbClr val="6d3814"/>
                </a:solidFill>
                <a:latin typeface="Calibri"/>
                <a:ea typeface="微软雅黑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1077264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9"/>
          <p:cNvSpPr/>
          <p:nvPr/>
        </p:nvSpPr>
        <p:spPr>
          <a:xfrm>
            <a:off x="1135368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109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10"/>
          <p:cNvSpPr/>
          <p:nvPr/>
        </p:nvSpPr>
        <p:spPr>
          <a:xfrm rot="2700000">
            <a:off x="9961200" y="1552680"/>
            <a:ext cx="1546200" cy="1546200"/>
          </a:xfrm>
          <a:prstGeom prst="rect">
            <a:avLst/>
          </a:prstGeom>
          <a:solidFill>
            <a:srgbClr val="bb0a0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21"/>
          <p:cNvSpPr/>
          <p:nvPr/>
        </p:nvSpPr>
        <p:spPr>
          <a:xfrm rot="2700000">
            <a:off x="8857440" y="2655720"/>
            <a:ext cx="1546560" cy="1546200"/>
          </a:xfrm>
          <a:prstGeom prst="rect">
            <a:avLst/>
          </a:prstGeom>
          <a:solidFill>
            <a:srgbClr val="78aa0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22"/>
          <p:cNvSpPr/>
          <p:nvPr/>
        </p:nvSpPr>
        <p:spPr>
          <a:xfrm rot="2700000">
            <a:off x="9961200" y="3749760"/>
            <a:ext cx="1546200" cy="1546200"/>
          </a:xfrm>
          <a:prstGeom prst="rect">
            <a:avLst/>
          </a:prstGeom>
          <a:solidFill>
            <a:srgbClr val="007fc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24"/>
          <p:cNvSpPr/>
          <p:nvPr/>
        </p:nvSpPr>
        <p:spPr>
          <a:xfrm>
            <a:off x="10053000" y="2136600"/>
            <a:ext cx="136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25"/>
          <p:cNvSpPr/>
          <p:nvPr/>
        </p:nvSpPr>
        <p:spPr>
          <a:xfrm>
            <a:off x="8912520" y="3201840"/>
            <a:ext cx="136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26"/>
          <p:cNvSpPr/>
          <p:nvPr/>
        </p:nvSpPr>
        <p:spPr>
          <a:xfrm>
            <a:off x="10063440" y="4303800"/>
            <a:ext cx="136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3" descr="C:\Users\Administrator\Desktop\mbkp\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-14400" y="3360600"/>
            <a:ext cx="1218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4794120" y="2583000"/>
            <a:ext cx="2660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微软雅黑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7"/>
          <p:cNvSpPr/>
          <p:nvPr/>
        </p:nvSpPr>
        <p:spPr>
          <a:xfrm>
            <a:off x="1077264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8"/>
          <p:cNvSpPr/>
          <p:nvPr/>
        </p:nvSpPr>
        <p:spPr>
          <a:xfrm>
            <a:off x="11353680" y="6229440"/>
            <a:ext cx="57168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109"/>
                </a:solidFill>
                <a:latin typeface="微软雅黑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7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2T13:15:3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