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389-13D0-4910-B8FD-45120E7B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1E2-B5BF-49EE-A5C7-D6A46FE4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154-EA21-401B-A1EE-33B82B41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DDC-D161-42F5-AD10-F98E1D9F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4C31-CFFA-41FF-91D2-1883AA02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CC6C-2F3E-4BF3-8135-1BB0EB91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03B8-E3E8-4830-BAAC-D5707960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BCA2-9554-4EB0-A200-978D6224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5B2C-DB77-4495-AF3C-B7C9173D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A675-3517-4D4D-A916-696A5F15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BCD7-007D-4A2E-A28D-425EA673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994-E9E4-4B91-B55F-A1B0EB6A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D43F-2B0D-483A-945F-4A862BF2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A1DD-4A71-4C76-BE02-4B1D598C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A159-0366-4310-A78E-D68D6E8E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130F-E1F8-4FBC-8530-84D9F5A7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52A7-6BD0-4975-8F77-E23707E9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7D695-C7CD-441F-8684-4A5DE243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C72BE-0634-4679-82BA-8F6039C3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7C99-9386-4CD8-891A-94D8F1AD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4AC67-7538-4DED-B5F1-2B8A0D8E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26A5-DBCC-41AD-820C-121F9A62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95E-CBD8-4319-A630-EDAFB108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A009-165A-4DCD-BE49-E191FC3B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F74D3-5A2B-4C59-8196-AB4A5AFD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A43E-E35A-47EF-86F3-72CBA5A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09C5E-526F-435B-9343-1FE2837E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421D-64EC-4A54-8F18-DDF40BAC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D434-FCDA-4C45-B387-9DA439AC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F102-39E6-4002-8FB6-F32945C6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E30-5630-4E02-974A-83E6A993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FAE-9022-49D7-902C-3A43F928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774-404D-4DB3-AB3D-645DB0D6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B4D-EED8-44B1-B287-CCD870CB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A96-E7F0-4535-A05D-256FB5D4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EE0-EE81-4D85-A02F-920DADA9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CA40-86F8-4533-A5C4-0C2C64E2D0A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E347-D258-4FB2-A2CB-6FAD8D7524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BE03-2082-4E13-B377-AC73A6353F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0791-DF70-4BA7-B36B-7E8CA8AC23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loading1"/>
          <p:cNvPicPr/>
          <p:nvPr/>
        </p:nvPicPr>
        <p:blipFill>
          <a:blip r:embed="rId1"/>
          <a:stretch/>
        </p:blipFill>
        <p:spPr>
          <a:xfrm>
            <a:off x="-250920" y="-25560"/>
            <a:ext cx="9823680" cy="6883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710880" y="4838760"/>
            <a:ext cx="193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康标题宋W9(P)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华康标题宋W9(P)"/>
              </a:rPr>
              <a:t>impl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康标题宋W9(P)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华康标题宋W9(P)"/>
              </a:rPr>
              <a:t>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引言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插画界面"/>
          <p:cNvPicPr/>
          <p:nvPr/>
        </p:nvPicPr>
        <p:blipFill>
          <a:blip r:embed="rId1"/>
          <a:stretch/>
        </p:blipFill>
        <p:spPr>
          <a:xfrm>
            <a:off x="108000" y="6480"/>
            <a:ext cx="9074160" cy="6807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480200" y="36450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繁宋体"/>
              </a:rPr>
              <a:t>拥有一家自己的咖啡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35560" y="4091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繁宋体"/>
              </a:rPr>
              <a:t>养一只可爱的小猫和小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147200" y="4738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繁宋体"/>
              </a:rPr>
              <a:t>没事儿在工作室里画着小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55960" y="5516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繁宋体"/>
              </a:rPr>
              <a:t>好好的照顾着爸爸妈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454200" y="6237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繁宋体"/>
              </a:rPr>
              <a:t>拥有一个像爸爸一样爱自己的老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929160" y="581976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繁宋体"/>
                <a:ea typeface="微软繁宋体"/>
              </a:rPr>
              <a:t>赚着不多不少的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18960" y="5445000"/>
            <a:ext cx="10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繁线体"/>
              </a:rPr>
              <a:t>可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繁宋体"/>
              </a:rPr>
              <a:t>以随时背起背包去旅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41080" y="3933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繁宋体"/>
              </a:rPr>
              <a:t>有一群可以一起疯的朋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7093080" y="677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  <a:ea typeface="仿宋_GB2312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Lucida Bright"/>
                <a:ea typeface="仿宋_GB2312"/>
              </a:rPr>
              <a:t>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6948360" y="136224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生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7230240" y="3327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工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6083640" y="2414520"/>
            <a:ext cx="23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爱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亲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繁线体"/>
              </a:rPr>
              <a:t>友情 </a:t>
            </a:r>
            <a:r>
              <a:rPr b="0" lang="en-US" sz="18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E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line"/>
          <p:cNvPicPr/>
          <p:nvPr/>
        </p:nvPicPr>
        <p:blipFill>
          <a:blip r:embed="rId2"/>
          <a:stretch/>
        </p:blipFill>
        <p:spPr>
          <a:xfrm>
            <a:off x="7058160" y="-82440"/>
            <a:ext cx="69840" cy="1522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line"/>
          <p:cNvPicPr/>
          <p:nvPr/>
        </p:nvPicPr>
        <p:blipFill>
          <a:blip r:embed="rId3"/>
          <a:stretch/>
        </p:blipFill>
        <p:spPr>
          <a:xfrm>
            <a:off x="7524720" y="3619440"/>
            <a:ext cx="152280" cy="33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梦想界面"/>
          <p:cNvPicPr/>
          <p:nvPr/>
        </p:nvPicPr>
        <p:blipFill>
          <a:blip r:embed="rId1"/>
          <a:stretch/>
        </p:blipFill>
        <p:spPr>
          <a:xfrm>
            <a:off x="108000" y="-25560"/>
            <a:ext cx="9217080" cy="6913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5292720" y="76500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e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繁线体"/>
              </a:rPr>
              <a:t>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703840" y="2732040"/>
            <a:ext cx="1247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一辈子不长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我只想在有生之年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尝试所有我没做过的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没想过的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没听过的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没看过的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年轻的时光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不可掉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让自己活得自我一点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真实一点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生活也会轻松不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生活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就是尽情的享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5157000" y="1557360"/>
            <a:ext cx="257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We should try ever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to make 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dre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come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line"/>
          <p:cNvPicPr/>
          <p:nvPr/>
        </p:nvPicPr>
        <p:blipFill>
          <a:blip r:embed="rId2"/>
          <a:stretch/>
        </p:blipFill>
        <p:spPr>
          <a:xfrm>
            <a:off x="7093080" y="-149400"/>
            <a:ext cx="83880" cy="184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line"/>
          <p:cNvPicPr/>
          <p:nvPr/>
        </p:nvPicPr>
        <p:blipFill>
          <a:blip r:embed="rId3"/>
          <a:stretch/>
        </p:blipFill>
        <p:spPr>
          <a:xfrm>
            <a:off x="5940360" y="5516640"/>
            <a:ext cx="146160" cy="31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想法界面"/>
          <p:cNvPicPr/>
          <p:nvPr/>
        </p:nvPicPr>
        <p:blipFill>
          <a:blip r:embed="rId1"/>
          <a:stretch/>
        </p:blipFill>
        <p:spPr>
          <a:xfrm>
            <a:off x="324000" y="-2556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4451760" y="907920"/>
            <a:ext cx="393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ove·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amily·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爱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亲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友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286600" y="2349360"/>
            <a:ext cx="27104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拥有</a:t>
            </a:r>
            <a:r>
              <a:rPr b="1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个幸福的家庭，过着甜蜜平平淡淡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繁线体"/>
              </a:rPr>
              <a:t>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日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个疼爱自己的好老公，好爸爸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只可爱的小宠物，猫猫叫香草，狗狗叫布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父母健康，每天幸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群可以互相呼之喝去的好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个闺蜜知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开心了就大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难过了就大哭</a:t>
            </a:r>
            <a:r>
              <a:rPr b="0" lang="en-US" sz="2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生活就是这么 </a:t>
            </a:r>
            <a:r>
              <a:rPr b="0" lang="en-US" sz="28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动画界面"/>
          <p:cNvPicPr/>
          <p:nvPr/>
        </p:nvPicPr>
        <p:blipFill>
          <a:blip r:embed="rId1"/>
          <a:stretch/>
        </p:blipFill>
        <p:spPr>
          <a:xfrm>
            <a:off x="-106200" y="-25560"/>
            <a:ext cx="91422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5443200" y="2133720"/>
            <a:ext cx="103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ob </a:t>
            </a:r>
            <a:r>
              <a:rPr b="0" lang="zh-CN" sz="18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ine"/>
          <p:cNvPicPr/>
          <p:nvPr/>
        </p:nvPicPr>
        <p:blipFill>
          <a:blip r:embed="rId2"/>
          <a:stretch/>
        </p:blipFill>
        <p:spPr>
          <a:xfrm>
            <a:off x="6300720" y="2852640"/>
            <a:ext cx="184320" cy="4005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7103160" y="2997360"/>
            <a:ext cx="135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不奢求有多么荣华富贵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只要一份满意的工作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一个可以一直执着下去的爱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35280" y="1177920"/>
            <a:ext cx="2442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ometimes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没事儿画画画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写写自己的故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听听喜欢的演唱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35160" y="4068720"/>
            <a:ext cx="16315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微软繁线体"/>
              </a:rPr>
              <a:t>ome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背着背包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去世界各地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繁线体"/>
              </a:rPr>
              <a:t>呼吸不一样的空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020000" y="189000"/>
            <a:ext cx="21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tle D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line"/>
          <p:cNvPicPr/>
          <p:nvPr/>
        </p:nvPicPr>
        <p:blipFill>
          <a:blip r:embed="rId3"/>
          <a:stretch/>
        </p:blipFill>
        <p:spPr>
          <a:xfrm>
            <a:off x="7812000" y="476280"/>
            <a:ext cx="12060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自我介绍界面"/>
          <p:cNvPicPr/>
          <p:nvPr/>
        </p:nvPicPr>
        <p:blipFill>
          <a:blip r:embed="rId1"/>
          <a:stretch/>
        </p:blipFill>
        <p:spPr>
          <a:xfrm>
            <a:off x="-69840" y="-98280"/>
            <a:ext cx="9250200" cy="6938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962520" y="21747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繁线体"/>
              </a:rPr>
              <a:t>谢谢观赏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758320" y="1844640"/>
            <a:ext cx="341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微软繁线体"/>
                <a:ea typeface="微软繁线体"/>
              </a:rPr>
              <a:t>hanks for your watc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line"/>
          <p:cNvPicPr/>
          <p:nvPr/>
        </p:nvPicPr>
        <p:blipFill>
          <a:blip r:embed="rId2"/>
          <a:stretch/>
        </p:blipFill>
        <p:spPr>
          <a:xfrm>
            <a:off x="4786200" y="2852640"/>
            <a:ext cx="208080" cy="453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2T02:38:53Z</dcterms:modified>
  <cp:revision>1</cp:revision>
  <dc:subject/>
  <dc:title>PowerPoint 演示文稿</dc:title>
</cp:coreProperties>
</file>