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5AF1-9777-43FA-895F-A355D8E01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9323-CC5A-443B-86E8-49444D97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3A9BCB-6A98-4EC4-BB33-CD456E2C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4DDF6-B84B-431E-85B1-3124475F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2BD555-5B1C-4F12-A9A8-0B4B15C4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FE905F-BABC-4333-8B07-4021DE7C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9BF74-2164-422B-9911-E0B9A802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A4D13-9299-4A56-BF13-897BB87B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9F456D-57FA-449A-AF8E-097D379F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C3AB63-D1AE-4405-9225-753AF9FFA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030B16-4F70-42C8-9147-ADD28CE66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DAA946-34CA-433A-8C2B-9971A5B3C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58AB-369A-450D-B3A1-C13E0E0FD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233404-0B27-4236-BF26-8D7A36F5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E0795E-792A-49C1-8F23-71A1B129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6CBCF6-A54E-4C6D-B8FF-5D42859A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C9C419-E50F-4DEC-BDCF-7552B047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D56A47-B2F9-44BE-A4BC-4A692FDE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A2AAF3-5A5D-4D94-B5C4-CE419AFC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7A1ED2-2467-4455-8BB5-86F00EE0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B52244-6B56-4F1F-8728-809EF69F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2506D2-ACEA-4A9F-8925-90C29878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0646AE-6D49-46BE-A3FE-62CD220FF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2CA7-5FEB-4798-859D-D4BC10A61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E69A7F-5AF5-4A76-BF6F-DE59ABC66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36B79-BF0B-499E-BC9F-123BB5962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532E2-A81E-4B23-A76F-ACB2B674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886D0-3523-4FEC-91F8-1CA7ACB4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557FB7-D1D1-4340-B9F7-D65D43CB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0A743-2AAA-4430-9B5C-39F2C1E4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50E9B-F185-434E-A229-5D58D5F2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274719-0FF1-45BA-8CDF-CB7F26D3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5890A-6159-4317-9383-580DF20D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5193E-BCCA-4F3B-AC97-72886B38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480C-7039-421F-A271-A84AD7A23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5EE257-6015-46F8-A24B-40116F0A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162E7-9D7E-455C-8925-1D4E30B37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B7BF70-ECF5-497A-9BFA-7139E2518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61DBED-BD6D-44AB-AAEE-AD7A9749D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D09860-5788-4D36-853D-F72EFA5D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85A8CC-28C8-40E1-8423-B780715A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DD49A7-D09F-45C8-8CA8-B604E829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DC7F57-9D44-4B5C-881B-0BB215C8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B10436-C2D6-4E36-97F2-225741443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0B2D33-4C86-479F-AD85-5408B9EA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20EA-2A21-4021-8ED1-0493ACA1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8C22E2-4502-4FDC-B5D6-F53DBD17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4EA257-A62F-4E99-8808-86DDCEC1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4DE3B0-7A6B-4F5F-8AA1-CCC08D6C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47FEE9-5215-45BD-9374-699E87047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87050B-A945-439B-A535-EC5DFD049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CBF8DB-B8A2-4B04-908C-5EA1AD625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B64D08-C988-48F4-A204-DEEF2E0D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156665-F413-4CA5-BC31-DBDC1FC9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268AED-121C-4BBD-9693-5CF8EC67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7EC12A-ADCF-4AC0-A903-74BF6DAD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1DAC-C92C-42D8-9917-7D18DD5A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0F4A95-8F10-4E14-9247-C7209A68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D38B9D-A0E2-440D-B3D8-3DF97DDE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83C461-F863-4F8E-983F-26813513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B6CAF1-D93E-4531-9693-A610A27A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1883E2-0106-4459-BA24-A2AAFB47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E428BA-C187-42AB-AD9A-ADAA403B3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1D180A-F3CB-4C1F-BB53-2A1B2B366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0CE231-8215-4A39-8708-02103F150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57F02C-0456-4086-BBC5-178BE3D1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908609-A97A-458A-BA56-869C1849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F15B-6C5A-4AAC-9F32-FDA199C0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3EA6C3-6DA3-4361-97B7-783F8B58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7E15CE-8752-40BE-A071-C15D934F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BBFF52-8C7B-4BF5-983D-4E66550C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41DE9F-0F7C-4DF1-B11E-BD1739D9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89E350-5753-4373-BF04-DFB9AC58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18A2A4-FC3A-46F4-AAB9-B5963B02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AEBDF8-E4F7-4772-8E17-432DA46A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433B35-FE0E-484E-BF01-0F3C2E59F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003F5A-F723-4915-95B9-FFA344890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BA96-7B9E-4D48-8EC6-1F16CBBB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2190-C4EC-4937-8E9D-C58CCF7A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5A18-7F02-42DF-A847-A19D3D0B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A7BE-C84D-4F1B-B944-6B97797A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D181-1919-43D8-AE39-9F633E03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F140-3247-4A54-A8B4-CC841A5C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7882-5A36-4270-867D-A4DE5F94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83B1-F6E2-4189-B5BC-9FDF086A9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9306-0A81-482A-B1DB-E947EE9B7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93A8D-BD18-49D9-BC30-EB2A8BD78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38663-A459-4DB2-9826-138B773D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8CD6B-4FD5-42AF-9415-CDD963C8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F2D68-3A4B-4A1C-8938-5F51FDA2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497DB-F4D4-4ECD-8B4A-B0428282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CDFD-6758-449D-84B4-4B9A3D48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020BE-048E-45AD-9F7F-20C9A54B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44186-241B-435E-86A2-B019A092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DFDEB-3C59-4B0F-AF83-9805904A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1F108-DDC5-4C8C-A81B-0AB38C39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8E921-2E10-4364-BD63-E20DE06B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DB6E8-8284-4B62-B9E9-56D0C7BD7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7C8B9-491E-4C34-A94C-DDB3B34D4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70DB4-CD4A-4123-9669-BB2C81557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84E34-F279-4F58-8240-1C3C878F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8E5E2-CDF2-43D9-90E2-7A29AAEE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836C-2C0E-467F-AFFA-BD5F0C48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26A81-331E-4BE8-B3A8-E2F862D3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089A4-96D9-45F4-A563-2E8E211F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A8C84-2063-4925-B272-A7C892ED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20F2E-D517-48B2-AB67-D16CA923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934DE-421B-42C7-9C27-4F855973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324AF-6D2F-4610-91AD-3A9FFC32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5A06F-22EC-433A-94CD-6540CCC9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DF038-3E63-4090-9C05-DC057961E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94BDA-11CA-4347-9A99-3CC3D83EB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A74FC-E499-45C3-8092-7DEFE220E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EAAA-64B5-4291-BC2E-88D0ED63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D3162-5280-4833-A99D-93AB81F6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2D480-88E2-4B00-A888-8970A392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EFEA8-9E1A-46CE-A455-B5F269A1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F2CC3-89BB-4574-A868-AD3FB4B5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26121-94F8-4F7C-B3FA-E03664CF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2BDCC-A538-4F7B-91A6-FAEB35A3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7EE19-EF01-4033-92E9-19D6863A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8B3A1-4A47-42F7-8916-8ADCB879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C6A6E-A338-4344-AEFE-E2A56013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DF8E8-D2FC-4130-981F-741BC29EF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7C00-18E9-4133-ABD1-EC7C2927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29C42-4051-4C77-B912-17A75E179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3341D-A223-4523-8557-235181B6A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22771-EA5A-4836-AE8A-4B02D3E2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33924-CF50-4C72-8B37-D856945A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ABC0D-A11F-44F8-A533-A8CC8EE0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4E350-C099-403E-A85C-898BAB5D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2F1E5-88A1-402E-8236-DFB3B345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3980A-DA06-4C7F-977D-8C8423A7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03E0B-B55A-4122-A336-CDCDA89F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B6563-15AA-4284-B832-A4226DB9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231F-C3AD-47A0-AAA9-5A966369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4996F-E164-4EB5-BFAE-D2069760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3A2E0-EA4F-4CBD-A065-ABDC4760B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D6B65-EFB7-4DD0-B147-0AB5974B7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2D3AE-4A61-4471-BF05-B803B01E0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87E06-B0CD-4618-9F49-375B6FE5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F281C-51E9-4BC5-8640-C3CD5039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DBEB5-5ECD-4A06-B405-BAD4DDEE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ABA9B-597B-4F9E-92F8-5CDDF5D7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81E26-C412-4F42-B68F-92BD5527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D5304-5EB5-4507-949C-C58610AC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C384-D8F5-46DD-A208-3AFA8DA1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4F9B0-660B-4449-833E-2E2A0430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FDF6C-ECD9-4C98-A673-A58563BD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2AD39-B095-45BC-8FBB-C3B8E5FA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97078-86BC-4B3D-BD27-188618171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76271-B5F2-4536-991B-1723046C8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EB316-C462-4EE5-8D15-DB7E2B5C3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2B5C9-A647-460E-85FE-979B47AE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3890C-B85B-4097-BAB8-8DAA8967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4E964-2F6A-4C5E-B82A-A2123E80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82AA0-F743-473A-BA85-B905761D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EBC7-F3D6-4C95-BDCC-3A61A8E2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52C4E-2DD3-49C8-8074-13107AD2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C84DB-D2B8-4CC7-8077-7B09D223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488A5-0453-4183-9EF2-723EA8D5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71D4B-98CB-4990-ADDC-FA0C1986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0B702-6D5D-44E6-9E55-3998C5AD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21FDC-5632-46AB-A268-F69A8235F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8211B-546C-4A2F-9D6D-890581EF7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178F62-524E-4BCD-8954-DC48B03B2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A637DA-4F4D-471E-8051-A6456947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5F481C-1151-4264-B26E-25046F87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900F-6F1A-4948-988F-53F2D9BC5BD5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0B1A-966B-496F-9C9D-0281E2E7F0C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1769-299E-43B5-B331-643003C35E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4FA8-C875-4E48-A125-DF86C0E4213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FDA1-D195-4041-8D56-7D113AB97E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21BE-D8AF-4AFE-AFD8-48F70CEA2D7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DCBD-2D93-4429-8A47-66A5094602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E224-76B2-436D-87F5-BE240E435C0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D9C2-6F39-4CF4-AB0D-882B3EB2BF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A0E4-70A3-4314-8AA7-D582B2175BE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99E1-6F01-4721-8CCB-E221F45997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9657-BD5C-4AEF-9C55-9D75344BEB1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FF17-3869-4623-802D-50C0F01BC1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D735-C914-4884-B752-06A01BB08C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AA5C-F7A4-45AB-A6D7-D4A62F1E0A6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31F7-5BAD-4387-A5DC-789858BB15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349D-434A-4CC3-94C7-34BE7CF2F01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6664-27EA-418E-A8D6-3606CFF0FD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6611-AE22-4D37-A8A9-5EE830437AC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A9A1-0697-4C63-9A19-412DB95AFB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C918-4FD2-46D0-ACBC-F55A4633ECD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C6B6-A0D0-4B39-8BB8-5567CF27ED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7A2B-0373-4573-9EFC-55C8AE7599F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33EA-0AC9-4326-B1AF-9399696FEA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6182-70F9-486A-BBA0-EF256FDE72D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25ED-4251-45EB-9D7D-43CA1FE00C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2" descr="cover2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3"/>
          <p:cNvSpPr/>
          <p:nvPr/>
        </p:nvSpPr>
        <p:spPr>
          <a:xfrm>
            <a:off x="1440" y="1935000"/>
            <a:ext cx="9142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720d"/>
                </a:solidFill>
                <a:latin typeface="Helvetica LT Black"/>
              </a:rPr>
              <a:t>Research 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4"/>
          <p:cNvSpPr/>
          <p:nvPr/>
        </p:nvSpPr>
        <p:spPr>
          <a:xfrm>
            <a:off x="3591000" y="4270320"/>
            <a:ext cx="196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5"/>
          <p:cNvSpPr/>
          <p:nvPr/>
        </p:nvSpPr>
        <p:spPr>
          <a:xfrm>
            <a:off x="3541680" y="4078440"/>
            <a:ext cx="2060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af6f"/>
                </a:solidFill>
                <a:latin typeface="Arial"/>
              </a:rPr>
              <a:t>Office of W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6"/>
          <p:cNvSpPr/>
          <p:nvPr/>
        </p:nvSpPr>
        <p:spPr>
          <a:xfrm>
            <a:off x="3162240" y="4365720"/>
            <a:ext cx="281952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af6f"/>
                </a:solidFill>
                <a:latin typeface="Arial"/>
              </a:rPr>
              <a:t>Professor Laura Amrkhoul,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conten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3"/>
          <p:cNvSpPr/>
          <p:nvPr/>
        </p:nvSpPr>
        <p:spPr>
          <a:xfrm>
            <a:off x="6443640" y="360360"/>
            <a:ext cx="2556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720d"/>
                </a:solidFill>
                <a:latin typeface="Helvetica LT Black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3562200" y="1670040"/>
            <a:ext cx="3629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44e46"/>
                </a:solidFill>
                <a:latin typeface="Arial"/>
              </a:rPr>
              <a:t>What is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44e46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44e46"/>
                </a:solidFill>
                <a:latin typeface="Arial"/>
              </a:rPr>
              <a:t>Research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44e46"/>
                </a:solidFill>
                <a:latin typeface="Arial"/>
              </a:rPr>
              <a:t>The advantages of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44e46"/>
                </a:solidFill>
                <a:latin typeface="Arial"/>
              </a:rPr>
              <a:t>The role of practice in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44e46"/>
                </a:solidFill>
                <a:latin typeface="Arial"/>
              </a:rPr>
              <a:t>Ways of using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曲线 87"/>
          <p:cNvSpPr/>
          <p:nvPr/>
        </p:nvSpPr>
        <p:spPr>
          <a:xfrm>
            <a:off x="3406680" y="1773360"/>
            <a:ext cx="114480" cy="176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曲线 87"/>
          <p:cNvSpPr/>
          <p:nvPr/>
        </p:nvSpPr>
        <p:spPr>
          <a:xfrm>
            <a:off x="3406680" y="2320920"/>
            <a:ext cx="114480" cy="176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曲线 87"/>
          <p:cNvSpPr/>
          <p:nvPr/>
        </p:nvSpPr>
        <p:spPr>
          <a:xfrm>
            <a:off x="3406680" y="2867040"/>
            <a:ext cx="114480" cy="176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曲线 87"/>
          <p:cNvSpPr/>
          <p:nvPr/>
        </p:nvSpPr>
        <p:spPr>
          <a:xfrm>
            <a:off x="3406680" y="3429000"/>
            <a:ext cx="114480" cy="176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曲线 87"/>
          <p:cNvSpPr/>
          <p:nvPr/>
        </p:nvSpPr>
        <p:spPr>
          <a:xfrm>
            <a:off x="3406680" y="3962520"/>
            <a:ext cx="114480" cy="176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曲线 87"/>
          <p:cNvSpPr/>
          <p:nvPr/>
        </p:nvSpPr>
        <p:spPr>
          <a:xfrm>
            <a:off x="3406680" y="4514760"/>
            <a:ext cx="114480" cy="1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2" descr="Transition pa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3"/>
          <p:cNvSpPr/>
          <p:nvPr/>
        </p:nvSpPr>
        <p:spPr>
          <a:xfrm>
            <a:off x="2130480" y="2492280"/>
            <a:ext cx="3672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720d"/>
                </a:solidFill>
                <a:latin typeface="Arial"/>
              </a:rPr>
              <a:t>What is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4"/>
          <p:cNvSpPr/>
          <p:nvPr/>
        </p:nvSpPr>
        <p:spPr>
          <a:xfrm>
            <a:off x="2579760" y="3413160"/>
            <a:ext cx="32464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544e46"/>
                </a:solidFill>
                <a:latin typeface="Arial"/>
              </a:rPr>
              <a:t>Research is an ORGANIZED and SYSTEMATIC way of FINDING ANSWERS to QUESTION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2" descr="tex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3"/>
          <p:cNvSpPr/>
          <p:nvPr/>
        </p:nvSpPr>
        <p:spPr>
          <a:xfrm>
            <a:off x="2195640" y="716040"/>
            <a:ext cx="547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44e46"/>
                </a:solidFill>
                <a:latin typeface="Arial"/>
              </a:rPr>
              <a:t>The role of practice in resear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2411280" y="1670040"/>
            <a:ext cx="4780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544e46"/>
                </a:solidFill>
                <a:latin typeface="Arial"/>
              </a:rPr>
              <a:t>Practice-based projects are those which include as an integral part the production of an original artefact in addition to, or perhaps instead of, the production of a written thesis. (UKCGE, UK Council for Graduate Education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5"/>
          <p:cNvSpPr/>
          <p:nvPr/>
        </p:nvSpPr>
        <p:spPr>
          <a:xfrm>
            <a:off x="2468520" y="3286080"/>
            <a:ext cx="478008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44e46"/>
                </a:solidFill>
                <a:latin typeface="Arial"/>
              </a:rPr>
              <a:t>Positioning of the resear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   </a:t>
            </a: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Context and position,  researcher, practitioner or both Translat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   </a:t>
            </a: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hypothesis into 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   </a:t>
            </a: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Relationship between theory and pract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   </a:t>
            </a: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Practice to generate the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   </a:t>
            </a: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Practice as a reflection or informed by the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曲线 87"/>
          <p:cNvSpPr/>
          <p:nvPr/>
        </p:nvSpPr>
        <p:spPr>
          <a:xfrm>
            <a:off x="2558880" y="3740040"/>
            <a:ext cx="68400" cy="10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曲线 87"/>
          <p:cNvSpPr/>
          <p:nvPr/>
        </p:nvSpPr>
        <p:spPr>
          <a:xfrm>
            <a:off x="2556000" y="4086360"/>
            <a:ext cx="68040" cy="10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曲线 87"/>
          <p:cNvSpPr/>
          <p:nvPr/>
        </p:nvSpPr>
        <p:spPr>
          <a:xfrm>
            <a:off x="2556000" y="4290840"/>
            <a:ext cx="68040" cy="105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曲线 87"/>
          <p:cNvSpPr/>
          <p:nvPr/>
        </p:nvSpPr>
        <p:spPr>
          <a:xfrm>
            <a:off x="2556000" y="4505400"/>
            <a:ext cx="68040" cy="102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Transition page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0" name="Text Box 3"/>
          <p:cNvSpPr/>
          <p:nvPr/>
        </p:nvSpPr>
        <p:spPr>
          <a:xfrm>
            <a:off x="4211640" y="3424320"/>
            <a:ext cx="3672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720d"/>
                </a:solidFill>
                <a:latin typeface="Arial"/>
              </a:rPr>
              <a:t>Research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4494240" y="4240080"/>
            <a:ext cx="324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544e46"/>
                </a:solidFill>
                <a:latin typeface="Arial"/>
              </a:rPr>
              <a:t>Selecting your Topic (Novel/Feasible/Useful/Definable outcomes/Gap in knowledg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3"/>
          <p:cNvSpPr/>
          <p:nvPr/>
        </p:nvSpPr>
        <p:spPr>
          <a:xfrm>
            <a:off x="38160" y="2798640"/>
            <a:ext cx="9142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720d"/>
                </a:solidFill>
                <a:latin typeface="Helvetica LT Black"/>
              </a:rPr>
              <a:t>Thank you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0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8-01T06:53:09Z</dcterms:modified>
  <cp:revision>1</cp:revision>
  <dc:subject/>
  <dc:title>PowerPoint 演示文稿</dc:title>
</cp:coreProperties>
</file>