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EF0-2AA9-49DB-A65E-1D9FD2D9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288-0982-4D55-81E8-42D73B4E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07B-9EB3-49E0-BF1D-EC599F83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8AE-402B-407E-B75A-E940A478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3D7B-184E-4E84-9249-E4421A29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47DA-9AD4-414F-9BE9-45E05BA3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82D9-36D6-4E50-978D-7F959802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FFDE-EE4F-4D90-832D-3A928557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5AE3-D403-4E2B-8CDE-39184281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5771-C877-42E6-ADC6-5E69B923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5687-8F1C-45D0-A116-03482A1E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895-1DDF-4BCD-83A1-CCE992B2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4D69-A931-4C04-A7BD-DA464258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79E5-E0B5-44C0-8CB7-9CF17EAC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BA49-17EB-4DEF-AF80-D74F112F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A621-9D6B-4169-9881-EE0A1222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8AB7-32CA-4723-809D-70ECFC98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7FA-09A0-4E63-95A0-A2056B71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319-FEC0-459B-83C1-6EF86A5E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101-30A8-4282-B49B-F486732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321-66C5-47CB-B74C-0253FBEC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D5D-80BD-497B-96F3-C5FD7E61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F66-3302-4BF9-B7F1-50AD755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B8C-245F-4861-948E-8A3F5DA2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3FD4-60B0-4E64-9483-4DDF44EF0F9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B251-0F4B-4EA0-A06F-05F7801DC0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2115-33E3-4B1F-B533-C43B53E301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BACB-B28A-4129-B9B3-34A4AC4DB6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fographicsshowcase.com/wp-content/uploads/2011/03/airbus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fographicsshowcase.com/wp-content/uploads/2011/03/airbus1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fographicsshowcase.com/wp-content/uploads/2011/03/airbus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fographicsshowcase.com/wp-content/uploads/2011/03/airbus4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fographicsshowcase.com/wp-content/uploads/2011/03/airbus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fographicsshowcase.com/wp-content/uploads/2011/03/airbus6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graphicsshowcase.com/wp-content/uploads/2011/03/airbus7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fographicsshowcase.com/wp-content/uploads/2011/03/airbus8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fographicsshowcase.com/wp-content/uploads/2011/03/airbus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0"/>
            <a:ext cx="6048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0800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84120" y="0"/>
            <a:ext cx="836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707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5614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91486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50920"/>
            <a:ext cx="914400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1680" y="476280"/>
            <a:ext cx="9136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4:00:00Z</dcterms:created>
  <dc:creator>qinchangfeng</dc:creator>
  <dc:description/>
  <cp:keywords/>
  <dc:language>en-US</dc:language>
  <cp:lastModifiedBy>a</cp:lastModifiedBy>
  <dcterms:modified xsi:type="dcterms:W3CDTF">2014-07-17T06:08:5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