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C5F-F673-4D50-8210-39EED321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F7B-8387-486B-BC5F-E18A1F8D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61BA7-A2AA-4662-81AB-FE3377FF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BCC52-60E9-41AF-87B9-610BF229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7B57D-AFDC-4CCC-B83A-6B5FCACA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1B74D-FF87-4488-8188-AE2BC5B5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3E0A8-D199-422E-A27D-62F5795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EF579-0DEE-4E9F-B99C-8E207646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20F67-D87E-4514-BF9F-65C2001A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E721A-7C58-4779-B8FA-649B888D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F258F-93B8-40E4-9876-1FFAD479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83B48-463D-4914-849B-343BFB83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9BD-6BD1-4FCF-A48D-53B82CCA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B8F97-AE22-49D4-818A-083DE82D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383C5-8DBD-4563-A2C1-8F1CEA0A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625AC-C74E-4F88-ABD8-3CA4272A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5BB8C-1363-409F-8776-E4155D0A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5F5B6-C248-4D7A-BD2A-B17D2ED9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4DE2C-1270-4D8A-BFD6-E870553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5E8BA-E595-436D-ABF3-D50A13C6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3C21F-AF5A-4058-A405-C61BADF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20EB7-8CD4-4A91-BEC6-D5E0E488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B58EC-89EB-40AA-A093-3B2A1974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849-2E49-4F67-AE2C-0712BFE0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3FC90-3D6E-4235-8A42-0F45CD34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5260E-9EB5-452B-9773-4F8E3278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E77AA-91C0-4B65-BB87-2340792D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7F033-A213-41C3-80DE-5FA1DA00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CA63A-E40D-4C8D-B71F-F96BADF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5D5B5-EE98-4BE6-A5FC-0B0FCCBB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477BA-4DCE-457C-AAC5-DD6C40A4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4A568-B0A0-40F0-A998-FB41C2CE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37DE8-F6D5-47C3-A6A5-BE7AE89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853C5-E06F-41AE-B306-208219A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AB80-35C9-444E-9A86-E5EAB431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29DFA-DFD1-4CBC-BDB1-35B9C610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FB285-2F97-4030-98E5-E1567F27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B0571-01A3-4F9E-AB87-38859D82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221B7-A61E-4F5F-898E-998225CC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D4895-A100-4FC4-A9DE-21A2AF96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FEAC5-51F5-407F-9119-E2A7591F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3FC42-C873-4B88-AE98-E091D289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454AF-A801-4E01-BEE7-3E8E967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60FE8-F553-4F85-BF1B-26D0C90A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6299A-D5EE-48AA-8D5B-3A50C1C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3AA4-2C46-4327-A2EC-D7EEBEF6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38819-7C7A-4A7B-9B63-02E5AB47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278FD-8E3B-4BA1-B1B4-4044EF0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AFCA9-E8C0-4C53-9B32-7C140CAF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C7E77-058B-4D0D-9979-F5167DA9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03D03-07B4-47E3-8C1A-6CAED883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63503-238D-44D5-A3E7-D46F0F20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B36D9-45DB-4340-A51B-8E25A573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01400-88C5-42A6-8870-92180071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26ACC-0D80-4867-AAD4-EF7B6390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D7C82-EA2F-401A-9F7A-8CB80741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FD95-AE5B-433C-A3C0-26CE4BBF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5D8BA-70CB-4F02-B6B3-CC2EDF0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034D6-C506-4155-8DD7-81D5A70B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D6F5D-563C-4CDF-B5AF-79070BE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0F32F-F32F-4E4A-9C3E-CB8DA74C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0D6E2-1526-4B3B-B497-0EB94C1E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594AB-7CA0-4610-A678-905492D9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1A5FF-7553-47AC-A774-44307805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09A2-70E9-44C5-9CC4-744E9AC9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9579-34EC-4E16-92C3-F61FF53E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961D-3C26-42DF-82E1-AB80CB95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6167-9AA6-40E1-9DAA-C0207386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91B-1E2C-4E6C-BB75-C91A172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EDBB-5A5A-4C4E-B03D-6114E27E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8BB-08EC-4498-8038-DE922D3B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CD71-D038-4EE4-A43A-CE0B921C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E8D0-A262-4A90-AC63-BEE299CA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D5CC-C595-4FBE-B1B3-F13FD54D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DDA4-8B77-437A-8AC7-FF91B711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BD6B-44AB-4988-BB2A-537E6838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7E9A-727E-478E-AF4D-DC05D2AF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091D-9C77-4231-BAB8-3784E93A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38B8-E554-449B-BE75-E206C77E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A08-4823-4C7E-BEEB-826B89C1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AACF8-4BE9-4339-97C3-84561B1F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2A8E-A9EF-4090-A00F-D49E483C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9772-4FB6-462B-840C-E13EE0FA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F822-63D9-4055-8253-965748EE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A644-FC93-4137-9F1B-9D0EBBCE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5532-3FD3-4EA7-9DAC-02AE1D8B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234E-ACCE-40B5-B731-38A88F39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3023-320D-4636-BF4B-DB59D6C4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784A-1DAE-4E29-9EE8-3B9147CF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C6D6-446F-43AE-B41C-9C37FD3A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0E0-1C10-4548-B143-36D09E61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B11E-A1A6-4509-8222-CED6A57F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16387-1585-4D15-B043-A8AD1D45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669F-B262-4B07-8442-48837ABB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6591-88EE-49CA-9234-27793847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F7FF-22BA-42DA-AD17-A6DE7381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510B-65E3-45B2-8C0D-7E61ECFC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874B8-3D6E-4B09-9D0C-55B198DA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79AF6-C29C-40EE-BEF9-45275627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8B2F4-4E8F-41B7-BB8D-4E273FF9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DFC5F-C18B-4E38-AB15-BCEFDA4F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2CB-3F4C-47E7-8763-5A647AD7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BEA3F-7917-4D96-8CA2-8DEF92BA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D198-407B-47D1-A27D-5910FD23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75AF-00E9-4AE9-9D6D-7776B83A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9E39-8AC8-4B56-B063-149FA626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4826-BF17-4491-B7CA-B39FB2D4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242E-A99B-4F68-B345-F318E4E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1891-86FF-45A1-83A0-F9F62D6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28ED0-DBB4-4F46-9D93-D3958772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1E91-E4F5-4E6D-9DE8-F4ADB08B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7FA7E-251A-41B3-AE8E-0ED3E1CB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7D1-BECE-4E56-85EB-E5CE766C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3F98A-BCC5-46CA-AA27-2DAC6276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248D-CB50-4A45-AF13-886D38F3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C8F4F-DB16-4971-B906-290F82D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CA233-007B-489C-8B56-57D11288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67577-1DAD-4011-A7BF-99A402F8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90690-5720-4F42-B0A7-19D4E428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8A4F0-0875-4640-9127-2BD87BB0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9DDF5-6480-40A1-A754-2E1A6815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D9D5C-5366-41DA-A382-D2D5BDF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B2A09-136B-4C7B-97C7-D0DC08B8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91C-F133-4BEB-9FE3-44A23D8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9947-B0DF-400D-80B7-F40A05B3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4D066-768C-4196-AC82-899E1284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68959-F6FD-4D67-A816-928DE16B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5F65E-EB70-4F8B-A383-6CDE5A32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E78AA-8B94-4904-8585-90D31108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0C29C-6294-4BC4-AF4F-99D14BEC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8F3D0-76E3-4FC8-80B2-662FD25A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587DF-FC5D-4C2D-8409-35787041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07732-6CF6-4990-B380-EDE15B27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56312-35B9-4D46-879A-AAFD90A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28C-2C00-4751-AE38-A8CBC0E3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E7955-E64B-4013-A48D-D6836BBF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6D06F-6345-428B-BF86-B8CCD188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051EC-7253-454B-878D-C1EDD83D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7F19C-6B26-4B7C-AC38-F3DCB6EE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0CE28-9542-4517-A2FE-F6AC4ADE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D3BD-8932-4882-8A2C-22370D80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FD092-3F6B-4B19-80AE-C026E98C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7FD8-D6E7-4A40-BFCF-649C5DA3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414EE-279E-4997-96DC-9269710D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4A408-B3DC-410C-9F0A-17FFC3A7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2D1-2301-45E0-98C3-4D9DDC1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65F3C-5D14-47DC-B2E7-1BD1924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9E1EA-C65D-424C-9300-233ACDB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F1C3D-C3BD-443E-B0AD-DFF52E1C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343EE-9D45-43C8-A9B8-16426CA6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1B455-8E9F-4E49-B7A1-B656962A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13739-83C3-4DD1-AB6B-7820D79E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2C56F-D26D-4D7B-ACA8-03C40970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0874B-F8C2-467B-BFCC-C073FC46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6C5AB-3B29-4D02-8DF2-4A60A830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3DFF0-CA43-4308-89BE-7A04A283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103D-8B77-4C91-A936-ED806AC958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D587-F201-48C5-8428-45DA8A0C898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6C2-699F-4F5B-AE40-78B22D1B684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ED4C-34BE-4E38-AB38-042D8D91099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363E-1270-45B7-9F2A-192D176D6DE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8B2C-7180-4BD2-B7E6-7DEC53252D8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E7A5-C848-4E9D-A4F2-A0BC9D9D24A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A72-1437-4BEC-BAF1-06A21FDB0CF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2D8-BD21-47C0-9DD8-CC392E0F8C8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0F47-6B14-420B-B794-B1FFCA0082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FD6-2158-4CD3-A26B-281502363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3C4C-5201-466E-987C-CBA49182FAB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7334-4CE3-418C-9692-61AE51AF893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5A9F-23FF-4139-A121-B09A3E9989C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236E-DC5A-45AB-B1BA-0D614DB592E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C252-6C31-4BEE-9E53-67769B49812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A6CD-61EF-4C60-8A37-E62B7E17523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1FAF-C0D6-48D4-A039-3ECCACD54E8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B46-738E-4B21-B9D5-2B5219CDB2A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9C3C-9E28-4DA9-AC90-C43F6C86DB4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163F-52B7-4105-9536-BE2A8B23C6F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873A-D826-4867-892A-29F356D7DCA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675C-7A95-4752-A9B1-35FAB845133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9680-3343-401A-8834-A5FC40B6846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9D50-75A7-4008-8C65-A5CB17F6B01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2" descr="封面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图片 2" descr="目录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3"/>
          <p:cNvSpPr/>
          <p:nvPr/>
        </p:nvSpPr>
        <p:spPr>
          <a:xfrm>
            <a:off x="2712960" y="1814400"/>
            <a:ext cx="7035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产地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制作工艺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贮藏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功效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5. </a:t>
            </a:r>
            <a:r>
              <a:rPr b="0" lang="zh-CN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绿茶的相关产品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…………… </a:t>
            </a:r>
            <a:r>
              <a:rPr b="0" lang="en-US" sz="36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2" descr="主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4"/>
          <p:cNvSpPr/>
          <p:nvPr/>
        </p:nvSpPr>
        <p:spPr>
          <a:xfrm>
            <a:off x="4970520" y="590400"/>
            <a:ext cx="21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产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6"/>
          <p:cNvSpPr/>
          <p:nvPr/>
        </p:nvSpPr>
        <p:spPr>
          <a:xfrm>
            <a:off x="1106640" y="1962000"/>
            <a:ext cx="10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绿茶作为中国的主要茶类，全国年产</a:t>
            </a:r>
            <a:r>
              <a:rPr b="0" lang="en-US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万吨茶叶，产量位居六大初制茶之首。中国生产绿茶的范围极为广泛，贵州、江西、安徽、浙江、江苏、四川、湖南、湖北、广西、福建为我国的绿茶主产省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2" descr="主页.jpg"/>
          <p:cNvPicPr/>
          <p:nvPr/>
        </p:nvPicPr>
        <p:blipFill>
          <a:blip r:embed="rId1"/>
          <a:stretch/>
        </p:blipFill>
        <p:spPr>
          <a:xfrm>
            <a:off x="0" y="-39600"/>
            <a:ext cx="12192120" cy="68533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4"/>
          <p:cNvSpPr/>
          <p:nvPr/>
        </p:nvSpPr>
        <p:spPr>
          <a:xfrm>
            <a:off x="4808520" y="604800"/>
            <a:ext cx="271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制茶工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5502240" y="2227320"/>
            <a:ext cx="16812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杀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揉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干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2" descr="主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4"/>
          <p:cNvSpPr/>
          <p:nvPr/>
        </p:nvSpPr>
        <p:spPr>
          <a:xfrm>
            <a:off x="4970520" y="590400"/>
            <a:ext cx="21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贮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6"/>
          <p:cNvSpPr/>
          <p:nvPr/>
        </p:nvSpPr>
        <p:spPr>
          <a:xfrm>
            <a:off x="4630680" y="1873080"/>
            <a:ext cx="277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一、忌潮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二、忌高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三、忌阳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四、忌氧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五、忌异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2" descr="主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Box 4"/>
          <p:cNvSpPr/>
          <p:nvPr/>
        </p:nvSpPr>
        <p:spPr>
          <a:xfrm>
            <a:off x="4970520" y="590400"/>
            <a:ext cx="21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功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1308240" y="2211480"/>
            <a:ext cx="1088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防辐射   抵抗病毒菌   美容护肤   缓解疲劳   抗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醒脑提神   利尿解乏   降脂助消化</a:t>
            </a: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抗坏老   护齿明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2" descr="主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4"/>
          <p:cNvSpPr/>
          <p:nvPr/>
        </p:nvSpPr>
        <p:spPr>
          <a:xfrm>
            <a:off x="4541760" y="574560"/>
            <a:ext cx="34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综艺_GBK"/>
                <a:ea typeface="方正综艺_GBK"/>
              </a:rPr>
              <a:t>相关产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2021040" y="2581200"/>
            <a:ext cx="83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绿茶瘦身茶方    绿茶粉    绿茶面膜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2" descr="过渡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3" descr="尾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9T06:57:2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