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CAF0-01D0-4782-8EE4-A4EAA77A8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F533-54A0-461E-AA86-153B0CDCE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B79B-B3CC-4DEC-8BE8-ECABDA265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9F8D-421D-47D5-93C6-046716C36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6CB5-EA7B-4F16-9397-1CB718156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C8525-6CF5-481A-8327-3D453F526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E11D1-8B0A-43A2-8900-B22BAC0A7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0E177-669B-41B6-A4B9-9922B6E1F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21311-12B9-47C0-8DF2-8079F6EFC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820C1-088E-4678-B630-F1C8B0740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02E8-3170-4CF6-B4D7-656A4DC97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A10BC-4812-4FEE-BFA4-B20FADDFA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3FE94-A511-44AC-96EF-14A2AA466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D00E8-3F39-41EB-B7FC-C6E898772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7CB3B-0095-4690-959A-AED3A70A5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1EF2C-EB61-4C2C-A614-40862C35E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F0F75-E16F-43B1-915D-E66FFC1E7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BB32F-327B-47DE-94DD-E4B45D3E6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3358EB-4A5A-46CB-BF33-3AED7780C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BC08B8-2497-487A-AB09-3CBC9CE4A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F1D658-04CE-4A72-8F93-77D4A90E9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BAEC-5F9C-4DB9-BF9C-021EAB553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3914F3-749A-413F-AB8B-EFA91172E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244675-FB20-4E7E-8B4C-BD35A78B9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E0505D-21FA-43A5-8911-EE95F946C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2EDA15-2C3B-4A7C-90F4-0402AE051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CC0DDA-DF01-448F-8C63-28C2CD6A9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6857C6-AD73-4CDC-9E2E-EE6DFE4BF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739662-6AE3-4246-BA1F-48080A99E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54666D-2DF1-4EDC-A959-87BF2C221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119605-A4A7-46AD-9457-08FA39F30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364C-2F22-44E2-A7DA-DE20A138A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F9F3-DD0A-44BE-9BAD-F73462788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3019-1EF4-45DA-B805-2E569E00F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2E42-224C-4B62-BC82-D8E22AC8C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EC2E-AE5D-4BAB-9D7D-F0F024664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FA368-0713-4E6F-9E8A-D0EC0B168293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FD1C4-9FE3-4AAC-A6DE-6C2640A8AB65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BE322-C0CE-4233-A2ED-5BC53E9B7F0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DBF81-F251-4530-BE4A-2FF080537F4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0001"/>
          <p:cNvPicPr/>
          <p:nvPr/>
        </p:nvPicPr>
        <p:blipFill>
          <a:blip r:embed="rId1"/>
          <a:stretch/>
        </p:blipFill>
        <p:spPr>
          <a:xfrm>
            <a:off x="-14400" y="0"/>
            <a:ext cx="9190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c5c5"/>
            </a:gs>
            <a:gs pos="50000">
              <a:srgbClr val="e6e6e6"/>
            </a:gs>
            <a:gs pos="100000">
              <a:srgbClr val="c5c5c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2"/>
          <p:cNvGrpSpPr/>
          <p:nvPr/>
        </p:nvGrpSpPr>
        <p:grpSpPr>
          <a:xfrm>
            <a:off x="-93600" y="98280"/>
            <a:ext cx="8816760" cy="6426360"/>
            <a:chOff x="-93600" y="98280"/>
            <a:chExt cx="8816760" cy="6426360"/>
          </a:xfrm>
        </p:grpSpPr>
        <p:pic>
          <p:nvPicPr>
            <p:cNvPr id="163" name="Picture 3" descr="00003"/>
            <p:cNvPicPr/>
            <p:nvPr/>
          </p:nvPicPr>
          <p:blipFill>
            <a:blip r:embed="rId1"/>
            <a:srcRect l="35435" t="10500" r="35435" b="57747"/>
            <a:stretch/>
          </p:blipFill>
          <p:spPr>
            <a:xfrm>
              <a:off x="-93600" y="98280"/>
              <a:ext cx="2656440" cy="217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Picture 4" descr="00003"/>
            <p:cNvPicPr/>
            <p:nvPr/>
          </p:nvPicPr>
          <p:blipFill>
            <a:blip r:embed="rId2"/>
            <a:srcRect l="35435" t="10500" r="35435" b="57747"/>
            <a:stretch/>
          </p:blipFill>
          <p:spPr>
            <a:xfrm>
              <a:off x="7382520" y="5426280"/>
              <a:ext cx="1340640" cy="1098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5" name="Text Box 5"/>
          <p:cNvSpPr/>
          <p:nvPr/>
        </p:nvSpPr>
        <p:spPr>
          <a:xfrm>
            <a:off x="2987640" y="2205000"/>
            <a:ext cx="338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行楷"/>
              </a:rPr>
              <a:t>廉者得民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6"/>
          <p:cNvSpPr/>
          <p:nvPr/>
        </p:nvSpPr>
        <p:spPr>
          <a:xfrm>
            <a:off x="2987640" y="3154320"/>
            <a:ext cx="338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行楷"/>
              </a:rPr>
              <a:t>身正则廉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7"/>
          <p:cNvSpPr/>
          <p:nvPr/>
        </p:nvSpPr>
        <p:spPr>
          <a:xfrm>
            <a:off x="2987640" y="4135320"/>
            <a:ext cx="338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行楷"/>
              </a:rPr>
              <a:t>爱民出清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0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00002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3" descr="00003"/>
          <p:cNvPicPr/>
          <p:nvPr/>
        </p:nvPicPr>
        <p:blipFill>
          <a:blip r:embed="rId3"/>
          <a:srcRect l="35435" t="7875" r="34253" b="55122"/>
          <a:stretch/>
        </p:blipFill>
        <p:spPr>
          <a:xfrm>
            <a:off x="3132000" y="539640"/>
            <a:ext cx="2770200" cy="25369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00004"/>
          <p:cNvPicPr/>
          <p:nvPr/>
        </p:nvPicPr>
        <p:blipFill>
          <a:blip r:embed="rId4"/>
          <a:srcRect l="47248" t="42001" r="45279" b="21001"/>
          <a:stretch/>
        </p:blipFill>
        <p:spPr>
          <a:xfrm>
            <a:off x="4191120" y="2879640"/>
            <a:ext cx="684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7" dur="3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00005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3" descr="00007"/>
          <p:cNvPicPr/>
          <p:nvPr/>
        </p:nvPicPr>
        <p:blipFill>
          <a:blip r:embed="rId3"/>
          <a:srcRect l="53154" t="57747" r="19684" b="10500"/>
          <a:stretch/>
        </p:blipFill>
        <p:spPr>
          <a:xfrm>
            <a:off x="5148360" y="3645000"/>
            <a:ext cx="2484360" cy="21780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4" descr="00006"/>
          <p:cNvPicPr/>
          <p:nvPr/>
        </p:nvPicPr>
        <p:blipFill>
          <a:blip r:embed="rId4"/>
          <a:srcRect l="31497" t="73497" r="9844" b="5250"/>
          <a:stretch/>
        </p:blipFill>
        <p:spPr>
          <a:xfrm>
            <a:off x="3220920" y="4727520"/>
            <a:ext cx="5364360" cy="14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8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00008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3" descr="00009"/>
          <p:cNvPicPr/>
          <p:nvPr/>
        </p:nvPicPr>
        <p:blipFill>
          <a:blip r:embed="rId3"/>
          <a:srcRect l="11813" t="57747" r="60242" b="10500"/>
          <a:stretch/>
        </p:blipFill>
        <p:spPr>
          <a:xfrm>
            <a:off x="1079640" y="3498840"/>
            <a:ext cx="2555640" cy="21780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4" descr="00010"/>
          <p:cNvPicPr/>
          <p:nvPr/>
        </p:nvPicPr>
        <p:blipFill>
          <a:blip r:embed="rId4"/>
          <a:srcRect l="19684" t="21001" r="70873" b="42001"/>
          <a:stretch/>
        </p:blipFill>
        <p:spPr>
          <a:xfrm>
            <a:off x="1800360" y="981000"/>
            <a:ext cx="86364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9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00011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3" descr="00012"/>
          <p:cNvPicPr/>
          <p:nvPr/>
        </p:nvPicPr>
        <p:blipFill>
          <a:blip r:embed="rId3"/>
          <a:srcRect l="19684" t="26251" r="19684" b="42001"/>
          <a:stretch/>
        </p:blipFill>
        <p:spPr>
          <a:xfrm>
            <a:off x="1800360" y="1682640"/>
            <a:ext cx="5543280" cy="21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14T07:22:42Z</dcterms:created>
  <dc:creator>sg</dc:creator>
  <dc:description/>
  <dc:language>en-US</dc:language>
  <cp:lastModifiedBy>a</cp:lastModifiedBy>
  <dcterms:modified xsi:type="dcterms:W3CDTF">2015-01-14T07:22:51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