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FED1-FBAC-449A-9025-D43D9D04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8C1-8806-4B7F-ADBC-D9BB0BC2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F0B-F2BB-42A2-9EA7-60000471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D67-7708-4B87-98C1-48042C28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CD51-D085-4BB4-95B6-665EE208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CD71-24CE-4EB7-B76C-5DEC673F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B4EB-1CCE-4833-8514-067F5A17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4D79-BB67-453F-BB1C-4D303187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3524-B4BB-47DE-82EB-F4E01D45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F6E7-49BC-49CB-97B0-4EFC3182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FB36-975B-4308-B263-F326F905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3DF-E48E-44C4-8786-E3B2A79E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F9E3-4BCF-4499-A4A8-740749DB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373D-CD38-4EE5-BBB4-30C91BF5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4896-23C6-45B1-986C-2C9E1846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E447-66E7-41F2-B833-C9F108FA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F69C-1A7A-4662-A1AA-34555949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793-F66C-4E18-BE39-C942DD19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947-F2B7-4119-8296-2023983E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6F4-36F8-45B4-AA04-DC43A9DF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2D36-1407-4F3A-96FA-149E8EAC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29E3-6A64-4E86-B09D-F21358B3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A7F-262E-41B6-B17F-E5E3D796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085-26A7-4DE5-8744-47026623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153B-2D6B-414E-A09B-2F4D123A23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FC32-8256-49AC-BAA5-4899A214D80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412E-962A-4D2B-A0A0-A217A6523F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lomo (1)"/>
          <p:cNvPicPr/>
          <p:nvPr/>
        </p:nvPicPr>
        <p:blipFill>
          <a:blip r:embed="rId1"/>
          <a:stretch/>
        </p:blipFill>
        <p:spPr>
          <a:xfrm>
            <a:off x="0" y="620640"/>
            <a:ext cx="9142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lomo (2)"/>
          <p:cNvPicPr/>
          <p:nvPr/>
        </p:nvPicPr>
        <p:blipFill>
          <a:blip r:embed="rId1"/>
          <a:stretch/>
        </p:blipFill>
        <p:spPr>
          <a:xfrm>
            <a:off x="0" y="620640"/>
            <a:ext cx="9142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mo (3)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lomo (4)"/>
          <p:cNvPicPr/>
          <p:nvPr/>
        </p:nvPicPr>
        <p:blipFill>
          <a:blip r:embed="rId1"/>
          <a:stretch/>
        </p:blipFill>
        <p:spPr>
          <a:xfrm>
            <a:off x="7920" y="703440"/>
            <a:ext cx="9142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lomo (5)"/>
          <p:cNvPicPr/>
          <p:nvPr/>
        </p:nvPicPr>
        <p:blipFill>
          <a:blip r:embed="rId1"/>
          <a:stretch/>
        </p:blipFill>
        <p:spPr>
          <a:xfrm>
            <a:off x="1440" y="54936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06:09:40Z</dcterms:created>
  <dc:creator>Administrator</dc:creator>
  <dc:description/>
  <cp:keywords/>
  <dc:language>en-US</dc:language>
  <cp:lastModifiedBy>a</cp:lastModifiedBy>
  <dcterms:modified xsi:type="dcterms:W3CDTF">2014-07-16T08:44:4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