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925B-C920-4683-977F-73EB8494B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7733-22E7-4D02-BB9F-D2D7326F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59ABE-2190-45CF-BAEA-DEDF20C4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480DD-5AB0-40DF-9FE1-0B3B8A1B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290FD-54ED-4B27-BD5D-322C3E23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9D1D5-32CF-4DB3-BD5A-CFEF0C69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74882-EE7E-4878-8068-38AFE5CC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0D763-DAB8-4C5F-B40B-1A0B8542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DBC07-E5F2-45B2-B02E-2E395234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30AAD-2330-449A-A89C-96EBE595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7E91A-2F99-44D2-B6E6-EF28A331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3C9A6-FC3E-427A-8706-662425816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B706-0D66-4B4B-B8B5-544305C5B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10BEA8-1A0B-4C29-93A4-C60CAC23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670DA-8EEC-46FF-92B1-C51E3CEE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E428E0-AA62-48AA-AB7E-3987FDA6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7C4EF-250B-45EB-B275-1A2A44BA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E97B9-B6B2-41C6-9628-72407AB2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490E2-FF63-4D59-BADA-53EC2828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56402-7E27-4E39-B8E0-C7FCD70A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7FD7E-CB83-439C-8D34-9266B38D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06AB4-658C-4163-AF71-8200B4E4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25B13-EE3C-45EE-B0FE-D6CE2261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B59E-5EB1-47FC-A510-5ACFD60CA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E1CA2-1B6B-479F-B40A-CDD17768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8AB31-4D5F-4C6F-97C2-C3AE5AD48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2C4A3-86BC-47EF-98E4-E5784A7B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C4F67-39EF-44CD-85C2-F2368586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A5A9A-6ED3-4D50-991D-630AAFB4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E94C3-9319-4348-BFE1-49C19F92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CA587-D093-4A00-9825-6D7C4E24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6CB33-AF69-499E-BC34-602D7D7E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85981-2CDF-42AD-8B0E-F18F7B6C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26404-06EF-4E33-9D06-8954DC75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2FC1-F687-44B6-8C1E-1DE09B58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6FD8B-B939-43CC-A49E-7ECE0FDB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93457-2FB9-4133-9227-E7664CFC1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897F0-931D-403D-BAC5-E8CF8363C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A283FB-B35C-494E-8304-4C916E7B4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FB996-5DC8-4EF4-B688-126E2AB9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78034-956F-4B1B-A6C3-1D0207F8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3261E-CEAC-455F-8267-EEFAA279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D3FADC-7341-4BF7-B096-409CA2AC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41AEC7-458D-4B80-B098-1ED3A5FC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2F729-CCE4-4413-B1A0-569B5863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2A3C-9F73-4EAA-81B4-354D54B2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8AD72-74FA-45AF-B4B4-19966F96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417A30-8D40-4C8B-BEF0-6FD3473B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3FF2A-CB37-4D62-B2BB-E9E95BE5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4CB16-BC32-4477-A0D1-A95860609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78BC8-5F29-4203-BB63-535B64C4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4DC6BD-0D58-45DD-AA0E-2B084ED4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536216-F5B5-46F4-BCA5-A690B05E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529CFB-D3E9-454D-8C97-EFF77F88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CB21B7-7118-477A-BB2E-F6358ACA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AC8489-419A-4D7F-B3D5-915FED4F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F3F9-CCD2-4B55-9DCE-C4D4D402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E6AA49-A699-43D9-9DBF-195EEB3F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BA62AB-D060-4AC6-8EEC-4DAC0D26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3B602F-5574-468D-87B6-523125E3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2C0A58-FE1E-4E4B-A4A8-4BD5DAB9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2EA176-4132-4DB6-898B-BD86B616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0D68AF-5565-4AA7-B97D-C6801ECF6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C910C1-D1E0-4959-9781-16196A481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FDCB01-F4A6-4572-90BA-B8E79E6D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2269CC-2DBD-4B19-8EEB-984DECDD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F44FB6-675B-4555-82F4-0C0955CD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BC5C-E6B6-47CE-A5D9-4F92E314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DE8DAF-F082-421B-AC00-9EE17D9C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D6E2B8-1E3A-4089-B334-AFCEF7AE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9BCFC1-9BCD-433B-BBC6-31174BF4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68B05D-517A-4F57-AACB-F880701D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A87EE1-E094-4DBB-AFAC-A7E3DA39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A47CBC-4EC6-433A-B4AF-7D5F11F1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1B1AC3-B097-4D85-981F-AE093B5A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8823B8-C228-4F3A-A3EC-805036062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607F16-CEA9-4FFF-B802-2B2FCDBA5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5D7449-4AD0-4CF9-82F6-72BAE40E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D3A4-4C68-4CC1-999C-20FED5F3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F72962-EB36-4EDE-8D26-E56154F4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FA0616-44C3-4FE3-8954-8B72B3E2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15DD7A-767D-4BC6-8FA2-94E79766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1C7EFA-717B-43D9-B070-5A890EC8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21B45C-620E-4470-BC9F-77AB9453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53B255-9065-416A-8A1C-A583AD5B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26714B-6AD6-4338-8CC6-BF02A0DB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708522-7749-472D-B40F-50AC2C61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B629F7-10A4-47B9-B888-FC9CE786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67D20D-62BA-4079-B9E3-0A36C040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5448-5111-40C7-AF50-A983AEC0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706A09-C222-4DAB-AB0F-526AB4FA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7C4E4A-D447-42C9-A337-6F1A6A25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D53AA9-E85C-4B61-B9C4-A48CBBA2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B3DFD3-3DB1-4355-90BC-1EFE8751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5C5AF8-9EEF-4424-8BE3-7982407E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19CA23-56A7-4726-945E-DC1CF3B3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84DCEA-EC3F-420E-BAA5-32C5F039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CDF330-58FE-4AA6-A86E-0AF6B0C3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97ACF7-C3E8-4971-94FE-8E7879EB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B984EF-48A4-48D7-AB56-C515A164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109E-E9DA-4C72-A3E7-1C605272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4D2610-0A8F-4B92-9E0E-75992E4E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3B0199-76E7-4050-8D08-03BE18B5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F410D0-901D-4A9E-BEE8-479B08F7F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101584-55F0-4938-A267-E61FBDB9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4EA085-83D7-41ED-BABB-91A6E30C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1E7322-AA1B-4CED-BE08-796E796D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67DE3F-179D-408E-95FD-81AABB89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2153C0-D520-432E-9897-9470910F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0DD11C-AEBC-4284-B602-8C576124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E5AEB0-9306-4984-BCCC-2CCEFA5C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57C6-455C-4C7D-8687-EB448EAA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915C-4809-43BC-8B98-3119B0E3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CC9FA6-6FA8-4C58-B0B1-9A8389AD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0C500C-763D-4977-BC4D-60A382EA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8BBE86-F34F-4FB1-84CC-154C8053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2E8492-2298-433D-BFD3-2DB43D85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72DD58-BBCC-47C9-BB1F-13AAFEA4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A612ED-9699-4329-AF07-A06A3E43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3FF84B-9FFA-4374-8E31-D49F58F0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FD5F6B-02CF-478D-BFCD-2F329461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0688C5-FCB8-41B5-AC87-8A438445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45011C-20AC-4577-B6F8-69B0FE8D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203B-4E84-4A1A-AA17-AD3891B6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D029B6-D4AC-4681-9C0F-309AC448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E5D486-66E8-4F6F-8EC4-CF118C1F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594958-0330-4363-956A-79C731A3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0DE9E0-1FC5-4970-896E-C30289D8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EA539C-F260-4B29-8784-7B5A3F6B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A36A5F-E1B2-41C9-A536-F533C2C0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0DA2C2-D195-422D-8295-9DF32D90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E2D296-48C6-4875-9B59-08304D98C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0C497E-6F7F-4F75-A1C3-E9681D54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83422E-140B-4954-A345-280833EC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9013-3F77-4750-9BFB-AF88FEC4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ED9D16-DE3F-4671-A2A4-D7DF6D73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39B936-FC24-49A8-94D4-7D2D0DE4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483CD6-E5F8-40B2-8FE7-3FC46582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F9E442-DF2C-4F0B-AE33-BEA0CEC1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232367-AD61-445E-917E-331C8C60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8E7B9E-2359-4973-94CA-AC235746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E5403C-1EAF-4372-82F5-DAB26646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3207E2-2CBC-4BDA-8D9F-7DD66F692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AF5CE6-C21A-430E-96B8-8FBB2E4F9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8C6378-6ECE-482C-A1D0-02D227DAB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C7E5-7599-422E-B0F7-36E33056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4F7D88-DE3C-4D35-BF0D-B0070108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3D237D-E370-43D4-B709-FB549D00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945202-8DDC-4CCF-8FC3-BECD7788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AA4D27-F9EF-4A74-A8AA-704E8CB3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426EF4-CE59-4265-B5F3-E2310CE0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6602AA-B78F-4327-B085-D698B0FB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DD6CCB-04D5-463A-9CF9-9086413C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2AE04B-9423-4FC1-9BA3-125B3336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50D62C-B1D4-474C-B9C9-6158050F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648677-C47F-4F6B-8C62-E36B69542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A96B-6DBA-416A-B5F1-4389A5D28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0723C7-D6FA-41C3-B8D6-7033378CB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BB7476-4450-4116-A4A7-B73B65B65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92939F-2302-4DAF-8D25-BF566EFE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E21845-9DC5-4085-86A6-01F86A0E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D6341F-08E4-494E-9B7A-C9A341F1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DE2A95-0DC6-4DC1-81D2-20FFC21D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CC8FED-B66B-46A0-9BB8-9487806A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613CFF-0D5F-482F-99F7-5794EF82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EA97F4-4ECC-4123-8097-6E08D63E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19A6E1-89DA-4D21-A3F5-0A755AF0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8332F-5A10-4828-8411-58BB41807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B8240B-C47D-4DBE-A2B8-AE423AF5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9337F2-AB6C-432D-B97D-C0B9F15E7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39BC0D-9DED-48B8-9394-B22CF423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99B406-884B-49A5-B82D-B02F2DFA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F3AC2A-6D24-4448-A946-4482B8B8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CF2379-1F87-4324-B018-D5C17639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D0976E-6A23-4F51-9706-07FA676E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A59ED6-9623-44E8-B6F7-37307152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B34DDB-54C0-4952-9FAF-3C660F31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B29C7F-09A4-4D4B-A7F7-0E2F5105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322E8-7FE8-42F0-B949-A936B750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E2FCAC-6795-40B2-AA98-EA8CDEFA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3806C1-B269-43ED-9DE2-4D509DA9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3F1264-6508-4494-BC0F-E1A33281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AE8D23-3BB2-459D-BE47-C3973105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A18370-E6FA-4BC4-AA55-C9B7F49A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7B5AB4-B79D-4110-9EDF-48CBBA60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25DD55-A622-467C-B060-503A82ED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25AAA9-35BB-4316-9F98-A8502701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02892B-28FA-44F4-A673-2731EBD8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CB418C-45A3-4936-BBC8-98775F1F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C6328-5C36-41D8-9899-00DAF1EF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C8826D-1412-45D3-BD84-CCC37C68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DDC540-1757-482C-AED9-6E9B81F2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1E26D7-7D4D-422B-9DD0-CDD07568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4CE3AF-A0DA-4277-8672-E787A18D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D49023-242F-4EF7-9829-F636C9F4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236904-109C-4FA3-B5D9-7BF22421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02F3CC-6324-4BD1-8DF8-27DE7BF7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3962AD-8D0F-4814-97DA-C1BC51551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9D4571-BC28-434E-BFB2-04224048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DBB5BC-2AC8-4319-9A39-164CA72D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F10FF-29A7-40AF-9EEE-97BD15B1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3BF350-BC82-4606-94DF-601BE819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8BF2D4-7D62-4FF5-9BF6-F6580332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DFA49B-8B95-4E31-A725-4AC376DC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05398D-7AEF-46FC-9313-39D5F660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8BCEAB-5F9E-4F1B-BC16-AFFAA2F4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8606E4-E520-438F-8B40-5CC2EC54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AD4C17-3689-4456-B68D-0A623687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AA6FB1-5D71-4C52-AEFA-F340A9B6C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303782-6A9F-4F7D-9D5D-E7D74B994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B58C3-3587-4B2F-BB70-465D4062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2C06-9BC2-48E9-BD33-3868A81D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EF03F-3316-4FBD-AA89-A3A0F385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35AA4-F8C2-4AA1-B593-9A15B3D0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4B515-15B1-49C9-8CD4-E71CD5C5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AEBFD-0553-4533-8396-BA6AD33B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145A1-F24E-46D7-9C17-128A3986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72316-B861-4190-A22E-734290F7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66DF5-3F86-4AA6-BF04-98766422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04ADC-F631-4FC4-8FD6-85A57F3C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B8DC8-BAC3-4BFA-8C88-ECAD7F47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BABFB-78EA-4009-A5F3-B97F4800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517B-3327-47A1-8FFC-26E81516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D1233-53DD-4991-BCD9-71E4B068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90D92-37AF-4454-B62C-59191179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B871A-356B-450A-8B17-0C21E333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4EB79-E7DC-497A-B6D0-5128006C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64762-B1CD-4F04-AF7E-3D1E4238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34BD4-DED4-4D99-8975-B350AAA8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06D32-9180-4118-A52C-EE7EC35E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EF364-CFF7-4322-90AF-91BC12154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7728E-9D73-4A85-AABD-54787D0D1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CBC25-7C2B-41ED-B535-EFAE5B24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0644-1874-4756-A76B-31660D1A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3EA94-38DE-44EE-94CA-9E0679F4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E159E-30CA-4C45-82D9-FDC051FD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5B252-F999-48BC-9762-B1D436A2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7EA4E-B401-4303-A8ED-3B3E7BC8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F78E3-9E85-4B47-89FE-5F08AD81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6ED41-11F8-4957-97BD-DC79346A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F55ED-14DD-4603-82AB-26D9C0C9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3E291-56E3-401A-935A-C95CD0E5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49C61-4E93-4486-B37E-B2A80C76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8B375-09C1-4D53-9900-335C6F37A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37F6-8A7F-4E4D-B078-17AEF6EB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46CEA-2BF2-494C-8EC2-ABAC80511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F4406-06DC-4909-A35D-3A7A99C1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C4674-2563-40BC-9286-C5D93BFE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5380C-5957-4BF2-8D31-A16F2397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4D22B-C868-4445-990E-9C3A7A7D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88AEB-8BD3-4483-A264-F0AEC519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0C74D-E309-440D-B783-0BD34660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34772-7A62-4FD4-ACA5-48791C2E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40236-8EED-4373-8012-296A98F2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ACCE3-D756-4471-A0F2-BA3DF273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ECA8-1F7C-4BA6-832C-10158179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CF6E5-3934-4089-829D-2390F3F6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B51E0-913C-48BA-B362-A2905542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C4B31-CE98-4680-869A-1769FA633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1FDA1-6CE9-40D4-A037-61CDC337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3FB2A-D263-4745-99A4-D50915F5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465AF-5BEF-412E-9CAC-9B5DFB05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54944-879B-4CD2-A607-7888BC1A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ADDC3-DC94-4EFA-964B-C9B3B8F2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EA201-1D0C-48D3-8B44-7D6C5618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8F778-581F-4DC0-895C-3E51A9D8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80C4-01EF-46DB-ABDB-61666413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B0A32-A908-4DFE-B7D0-29D4FFEA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EC553-2952-4104-8AA5-9EECA615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36BAF-543E-4602-B0A6-BC2176AA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CB5B5-8426-46A6-8E20-56EF2D726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2FE95-D125-448C-B040-A551CF6D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D01F0-6765-4357-BEC2-58894493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4ED4B-B30E-4922-86D9-DD7F3330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F711B-7FF2-4792-94F4-0C382299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F4647-55FC-4916-9BA0-EB06BB44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E462B-7432-40A5-AB80-AD3C679B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195B-4989-4655-9927-EC5C1F21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C690D-0752-4ED0-BECD-6A69BCD3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726FC-5F75-49F6-AA0C-2FE60376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649B0-5498-45FC-916F-CC7EE10A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4FA23-D908-42C2-A327-4626860D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1642B-C12E-4602-B51F-C4C5AFC6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7CE11-3B0D-495A-8EFA-5797F3BD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CE1CE-BA2E-417E-96A7-5FDF59C5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6DBC8-F315-4FF4-91E1-789DA34EC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A7CE2-68D5-4A47-935F-BA453A8D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79EE9-EF54-48D5-B594-595C0D4F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pptok.com/" TargetMode="External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pptok.com/" TargetMode="External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pptok.com/" TargetMode="External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pptok.com/" TargetMode="External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pptok.com/" TargetMode="External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pptok.com/" TargetMode="External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pptok.com/" TargetMode="External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pptok.com/" TargetMode="External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pptok.com/" TargetMode="External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pptok.com/" TargetMode="External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pptok.com/" TargetMode="External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0CDB-AE77-43FB-BC77-7CD5FCFA91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434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5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436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437" name="圆角矩形 10"/>
            <p:cNvGrpSpPr/>
            <p:nvPr/>
          </p:nvGrpSpPr>
          <p:grpSpPr>
            <a:xfrm>
              <a:off x="2987640" y="4562640"/>
              <a:ext cx="2074320" cy="212400"/>
              <a:chOff x="2987640" y="4562640"/>
              <a:chExt cx="2074320" cy="212400"/>
            </a:xfrm>
          </p:grpSpPr>
          <p:pic>
            <p:nvPicPr>
              <p:cNvPr id="438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432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9" name="Text Box 8"/>
              <p:cNvSpPr/>
              <p:nvPr/>
            </p:nvSpPr>
            <p:spPr>
              <a:xfrm>
                <a:off x="2994480" y="4570920"/>
                <a:ext cx="206244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0" name="矩形 11">
              <a:hlinkClick r:id="rId5"/>
            </p:cNvPr>
            <p:cNvSpPr/>
            <p:nvPr/>
          </p:nvSpPr>
          <p:spPr>
            <a:xfrm>
              <a:off x="5174640" y="4570920"/>
              <a:ext cx="765720" cy="200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4CE5-29EC-4380-9662-FC8126B422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483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4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485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486" name="圆角矩形 10"/>
            <p:cNvGrpSpPr/>
            <p:nvPr/>
          </p:nvGrpSpPr>
          <p:grpSpPr>
            <a:xfrm>
              <a:off x="2987640" y="4562640"/>
              <a:ext cx="2074320" cy="212400"/>
              <a:chOff x="2987640" y="4562640"/>
              <a:chExt cx="2074320" cy="212400"/>
            </a:xfrm>
          </p:grpSpPr>
          <p:pic>
            <p:nvPicPr>
              <p:cNvPr id="487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432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8" name="Text Box 8"/>
              <p:cNvSpPr/>
              <p:nvPr/>
            </p:nvSpPr>
            <p:spPr>
              <a:xfrm>
                <a:off x="2994480" y="4570920"/>
                <a:ext cx="206244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89" name="矩形 11">
              <a:hlinkClick r:id="rId5"/>
            </p:cNvPr>
            <p:cNvSpPr/>
            <p:nvPr/>
          </p:nvSpPr>
          <p:spPr>
            <a:xfrm>
              <a:off x="5174640" y="4570920"/>
              <a:ext cx="765720" cy="200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75BF-8F6B-43F4-93BD-BBFF80512B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532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534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535" name="圆角矩形 10"/>
            <p:cNvGrpSpPr/>
            <p:nvPr/>
          </p:nvGrpSpPr>
          <p:grpSpPr>
            <a:xfrm>
              <a:off x="2987640" y="4562640"/>
              <a:ext cx="2074320" cy="212400"/>
              <a:chOff x="2987640" y="4562640"/>
              <a:chExt cx="2074320" cy="212400"/>
            </a:xfrm>
          </p:grpSpPr>
          <p:pic>
            <p:nvPicPr>
              <p:cNvPr id="536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432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7" name="Text Box 8"/>
              <p:cNvSpPr/>
              <p:nvPr/>
            </p:nvSpPr>
            <p:spPr>
              <a:xfrm>
                <a:off x="2994480" y="4570920"/>
                <a:ext cx="206244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8" name="矩形 11">
              <a:hlinkClick r:id="rId5"/>
            </p:cNvPr>
            <p:cNvSpPr/>
            <p:nvPr/>
          </p:nvSpPr>
          <p:spPr>
            <a:xfrm>
              <a:off x="5174640" y="4570920"/>
              <a:ext cx="765720" cy="200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A874-396A-4B1F-8F03-EFE38E72A9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7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50CF-343E-49BB-812B-A3AAB2EE37C9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38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39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9493-34C6-4C05-8C41-9A495CC7C93B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40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A1AE-EA07-4D1D-844A-54A08F8927C8}" type="datetime">
              <a:rPr b="0" lang="zh-CN" sz="10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41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42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D6A9-18D0-40E6-B722-C6DEF11BD938}" type="slidenum">
              <a:rPr b="0" lang="zh-CN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3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E1CC-7F90-422B-8F47-EC943DB9A3BF}" type="datetime">
              <a:rPr b="0" lang="zh-CN" sz="10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4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5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4BFC-6947-4159-9207-2B87D6C04E2B}" type="slidenum">
              <a:rPr b="0" lang="zh-CN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6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D894-11CE-41E1-BAB6-DD68EF9465F2}" type="datetime">
              <a:rPr b="0" lang="zh-CN" sz="10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7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8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4479-BDF4-4DB0-8A51-D42215A98793}" type="slidenum">
              <a:rPr b="0" lang="zh-CN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 type="dt" idx="49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0AB3-8C1F-4744-A2EE-90B1A09F1712}" type="datetime">
              <a:rPr b="0" lang="zh-CN" sz="10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 type="ftr" idx="50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 type="sldNum" idx="51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0136-B6D0-4C65-8415-C04351AA3951}" type="slidenum">
              <a:rPr b="0" lang="zh-CN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52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352A-7DDE-421A-A543-BB2A09B5620F}" type="datetime">
              <a:rPr b="0" lang="zh-CN" sz="10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53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54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E952-E122-4081-BF35-A74EA3B48954}" type="slidenum">
              <a:rPr b="0" lang="zh-CN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92E1-8FD6-4D73-B6D7-07CB8C80DD6F}" type="datetime">
              <a:rPr b="0" lang="zh-CN" sz="10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B804-68B2-4290-9F57-E38CB9EFF4AC}" type="slidenum">
              <a:rPr b="0" lang="zh-CN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4026-8C87-49B1-BFE3-4C07CC5C7C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47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49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50" name="圆角矩形 10"/>
            <p:cNvGrpSpPr/>
            <p:nvPr/>
          </p:nvGrpSpPr>
          <p:grpSpPr>
            <a:xfrm>
              <a:off x="2987640" y="4562640"/>
              <a:ext cx="2074320" cy="212400"/>
              <a:chOff x="2987640" y="4562640"/>
              <a:chExt cx="2074320" cy="212400"/>
            </a:xfrm>
          </p:grpSpPr>
          <p:pic>
            <p:nvPicPr>
              <p:cNvPr id="51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432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Text Box 13"/>
              <p:cNvSpPr/>
              <p:nvPr/>
            </p:nvSpPr>
            <p:spPr>
              <a:xfrm>
                <a:off x="2994480" y="4570920"/>
                <a:ext cx="206244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" name="矩形 11">
              <a:hlinkClick r:id="rId5"/>
            </p:cNvPr>
            <p:cNvSpPr/>
            <p:nvPr/>
          </p:nvSpPr>
          <p:spPr>
            <a:xfrm>
              <a:off x="5174640" y="4570920"/>
              <a:ext cx="765720" cy="200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 type="dt" idx="58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4D5C-7EAE-407B-A926-D6A5D4A71FAE}" type="datetime">
              <a:rPr b="0" lang="zh-CN" sz="10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ftr" idx="59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 type="sldNum" idx="60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BB51-A841-4E45-96E1-DEAAC007613B}" type="slidenum">
              <a:rPr b="0" lang="zh-CN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 type="dt" idx="6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9168-A91B-4C56-BFA0-71F384A1DFEB}" type="datetime">
              <a:rPr b="0" lang="zh-CN" sz="10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 type="ftr" idx="6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 type="sldNum" idx="6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5AE1-A3CA-4590-B0B6-67FE90AFB238}" type="slidenum">
              <a:rPr b="0" lang="zh-CN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6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682B-0242-4771-B639-792B07A11110}" type="datetime">
              <a:rPr b="0" lang="zh-CN" sz="10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ftr" idx="6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 type="sldNum" idx="6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D3EF-F7F2-4674-BAF6-432830B67B95}" type="slidenum">
              <a:rPr b="0" lang="zh-CN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 type="dt" idx="67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52F5-41C9-4D41-B6B2-6DFF8D3402E0}" type="datetime">
              <a:rPr b="0" lang="zh-CN" sz="10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 type="ftr" idx="68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 type="sldNum" idx="69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7964-97E1-4F27-9A53-374E954C4C7A}" type="slidenum">
              <a:rPr b="0" lang="zh-CN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 type="dt" idx="70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975B-65F4-48F1-A1D6-E0626ED3A64F}" type="datetime">
              <a:rPr b="0" lang="zh-CN" sz="10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 type="ftr" idx="71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 type="sldNum" idx="72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FED7-FD18-4CA1-95F3-7C0DE9AC7765}" type="slidenum">
              <a:rPr b="0" lang="zh-CN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91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93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94" name="圆角矩形 10"/>
            <p:cNvGrpSpPr/>
            <p:nvPr/>
          </p:nvGrpSpPr>
          <p:grpSpPr>
            <a:xfrm>
              <a:off x="2987640" y="4562640"/>
              <a:ext cx="2074320" cy="212400"/>
              <a:chOff x="2987640" y="4562640"/>
              <a:chExt cx="2074320" cy="212400"/>
            </a:xfrm>
          </p:grpSpPr>
          <p:pic>
            <p:nvPicPr>
              <p:cNvPr id="95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432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Text Box 8"/>
              <p:cNvSpPr/>
              <p:nvPr/>
            </p:nvSpPr>
            <p:spPr>
              <a:xfrm>
                <a:off x="2994480" y="4570920"/>
                <a:ext cx="206244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7" name="矩形 11">
              <a:hlinkClick r:id="rId5"/>
            </p:cNvPr>
            <p:cNvSpPr/>
            <p:nvPr/>
          </p:nvSpPr>
          <p:spPr>
            <a:xfrm>
              <a:off x="5174640" y="4570920"/>
              <a:ext cx="765720" cy="200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208E-9AF8-4D71-8795-685BC2057FB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140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142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143" name="圆角矩形 10"/>
            <p:cNvGrpSpPr/>
            <p:nvPr/>
          </p:nvGrpSpPr>
          <p:grpSpPr>
            <a:xfrm>
              <a:off x="2987640" y="4562640"/>
              <a:ext cx="2074320" cy="212400"/>
              <a:chOff x="2987640" y="4562640"/>
              <a:chExt cx="2074320" cy="212400"/>
            </a:xfrm>
          </p:grpSpPr>
          <p:pic>
            <p:nvPicPr>
              <p:cNvPr id="144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432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Text Box 8"/>
              <p:cNvSpPr/>
              <p:nvPr/>
            </p:nvSpPr>
            <p:spPr>
              <a:xfrm>
                <a:off x="2994480" y="4570920"/>
                <a:ext cx="206244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6" name="矩形 11">
              <a:hlinkClick r:id="rId5"/>
            </p:cNvPr>
            <p:cNvSpPr/>
            <p:nvPr/>
          </p:nvSpPr>
          <p:spPr>
            <a:xfrm>
              <a:off x="5174640" y="4570920"/>
              <a:ext cx="765720" cy="200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867A-A782-462C-8F2B-703F7119F8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189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191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192" name="圆角矩形 10"/>
            <p:cNvGrpSpPr/>
            <p:nvPr/>
          </p:nvGrpSpPr>
          <p:grpSpPr>
            <a:xfrm>
              <a:off x="2987640" y="4562640"/>
              <a:ext cx="2074320" cy="212400"/>
              <a:chOff x="2987640" y="4562640"/>
              <a:chExt cx="2074320" cy="212400"/>
            </a:xfrm>
          </p:grpSpPr>
          <p:pic>
            <p:nvPicPr>
              <p:cNvPr id="193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432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Text Box 8"/>
              <p:cNvSpPr/>
              <p:nvPr/>
            </p:nvSpPr>
            <p:spPr>
              <a:xfrm>
                <a:off x="2994480" y="4570920"/>
                <a:ext cx="206244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5" name="矩形 11">
              <a:hlinkClick r:id="rId5"/>
            </p:cNvPr>
            <p:cNvSpPr/>
            <p:nvPr/>
          </p:nvSpPr>
          <p:spPr>
            <a:xfrm>
              <a:off x="5174640" y="4570920"/>
              <a:ext cx="765720" cy="200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B67F-FEEA-4F7D-8FA4-A16AF3DAF2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238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240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241" name="圆角矩形 10"/>
            <p:cNvGrpSpPr/>
            <p:nvPr/>
          </p:nvGrpSpPr>
          <p:grpSpPr>
            <a:xfrm>
              <a:off x="2987640" y="4562640"/>
              <a:ext cx="2074320" cy="212400"/>
              <a:chOff x="2987640" y="4562640"/>
              <a:chExt cx="2074320" cy="212400"/>
            </a:xfrm>
          </p:grpSpPr>
          <p:pic>
            <p:nvPicPr>
              <p:cNvPr id="242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432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Text Box 8"/>
              <p:cNvSpPr/>
              <p:nvPr/>
            </p:nvSpPr>
            <p:spPr>
              <a:xfrm>
                <a:off x="2994480" y="4570920"/>
                <a:ext cx="206244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4" name="矩形 11">
              <a:hlinkClick r:id="rId5"/>
            </p:cNvPr>
            <p:cNvSpPr/>
            <p:nvPr/>
          </p:nvSpPr>
          <p:spPr>
            <a:xfrm>
              <a:off x="5174640" y="4570920"/>
              <a:ext cx="765720" cy="200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1CE9-773A-4279-8C1B-BF3BAAAA8F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287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289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290" name="圆角矩形 10"/>
            <p:cNvGrpSpPr/>
            <p:nvPr/>
          </p:nvGrpSpPr>
          <p:grpSpPr>
            <a:xfrm>
              <a:off x="2987640" y="4562640"/>
              <a:ext cx="2074320" cy="212400"/>
              <a:chOff x="2987640" y="4562640"/>
              <a:chExt cx="2074320" cy="212400"/>
            </a:xfrm>
          </p:grpSpPr>
          <p:pic>
            <p:nvPicPr>
              <p:cNvPr id="291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432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Text Box 8"/>
              <p:cNvSpPr/>
              <p:nvPr/>
            </p:nvSpPr>
            <p:spPr>
              <a:xfrm>
                <a:off x="2994480" y="4570920"/>
                <a:ext cx="206244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3" name="矩形 11">
              <a:hlinkClick r:id="rId5"/>
            </p:cNvPr>
            <p:cNvSpPr/>
            <p:nvPr/>
          </p:nvSpPr>
          <p:spPr>
            <a:xfrm>
              <a:off x="5174640" y="4570920"/>
              <a:ext cx="765720" cy="200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DBA0-1193-47A2-A39B-856F263C79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336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338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339" name="圆角矩形 10"/>
            <p:cNvGrpSpPr/>
            <p:nvPr/>
          </p:nvGrpSpPr>
          <p:grpSpPr>
            <a:xfrm>
              <a:off x="2987640" y="4562640"/>
              <a:ext cx="2074320" cy="212400"/>
              <a:chOff x="2987640" y="4562640"/>
              <a:chExt cx="2074320" cy="212400"/>
            </a:xfrm>
          </p:grpSpPr>
          <p:pic>
            <p:nvPicPr>
              <p:cNvPr id="340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432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1" name="Text Box 8"/>
              <p:cNvSpPr/>
              <p:nvPr/>
            </p:nvSpPr>
            <p:spPr>
              <a:xfrm>
                <a:off x="2994480" y="4570920"/>
                <a:ext cx="206244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2" name="矩形 11">
              <a:hlinkClick r:id="rId5"/>
            </p:cNvPr>
            <p:cNvSpPr/>
            <p:nvPr/>
          </p:nvSpPr>
          <p:spPr>
            <a:xfrm>
              <a:off x="5174640" y="4570920"/>
              <a:ext cx="765720" cy="200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912D-17DF-49FE-A207-495283F80B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385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387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388" name="圆角矩形 10"/>
            <p:cNvGrpSpPr/>
            <p:nvPr/>
          </p:nvGrpSpPr>
          <p:grpSpPr>
            <a:xfrm>
              <a:off x="2987640" y="4562640"/>
              <a:ext cx="2074320" cy="212400"/>
              <a:chOff x="2987640" y="4562640"/>
              <a:chExt cx="2074320" cy="212400"/>
            </a:xfrm>
          </p:grpSpPr>
          <p:pic>
            <p:nvPicPr>
              <p:cNvPr id="389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432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Text Box 8"/>
              <p:cNvSpPr/>
              <p:nvPr/>
            </p:nvSpPr>
            <p:spPr>
              <a:xfrm>
                <a:off x="2994480" y="4570920"/>
                <a:ext cx="206244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1" name="矩形 11">
              <a:hlinkClick r:id="rId5"/>
            </p:cNvPr>
            <p:cNvSpPr/>
            <p:nvPr/>
          </p:nvSpPr>
          <p:spPr>
            <a:xfrm>
              <a:off x="5174640" y="4570920"/>
              <a:ext cx="765720" cy="200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D754-B1EF-4547-8D09-3C9CFF3E28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" Target="slide3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9.xml"/><Relationship Id="rId10" Type="http://schemas.openxmlformats.org/officeDocument/2006/relationships/slide" Target="slide11.xml"/><Relationship Id="rId11" Type="http://schemas.openxmlformats.org/officeDocument/2006/relationships/slide" Target="slide13.xml"/><Relationship Id="rId12" Type="http://schemas.openxmlformats.org/officeDocument/2006/relationships/slide" Target="slide15.xml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" Target="slide3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9.xml"/><Relationship Id="rId10" Type="http://schemas.openxmlformats.org/officeDocument/2006/relationships/slide" Target="slide11.xml"/><Relationship Id="rId11" Type="http://schemas.openxmlformats.org/officeDocument/2006/relationships/slide" Target="slide13.xml"/><Relationship Id="rId12" Type="http://schemas.openxmlformats.org/officeDocument/2006/relationships/slide" Target="slide15.xml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" Target="slide3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9.xml"/><Relationship Id="rId10" Type="http://schemas.openxmlformats.org/officeDocument/2006/relationships/slide" Target="slide11.xml"/><Relationship Id="rId11" Type="http://schemas.openxmlformats.org/officeDocument/2006/relationships/slide" Target="slide13.xml"/><Relationship Id="rId12" Type="http://schemas.openxmlformats.org/officeDocument/2006/relationships/slide" Target="slide15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" Target="slide3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9.xml"/><Relationship Id="rId10" Type="http://schemas.openxmlformats.org/officeDocument/2006/relationships/slide" Target="slide11.xml"/><Relationship Id="rId11" Type="http://schemas.openxmlformats.org/officeDocument/2006/relationships/slide" Target="slide13.xml"/><Relationship Id="rId12" Type="http://schemas.openxmlformats.org/officeDocument/2006/relationships/slide" Target="slide15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" Target="slide3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9.xml"/><Relationship Id="rId10" Type="http://schemas.openxmlformats.org/officeDocument/2006/relationships/slide" Target="slide11.xml"/><Relationship Id="rId11" Type="http://schemas.openxmlformats.org/officeDocument/2006/relationships/slide" Target="slide13.xml"/><Relationship Id="rId12" Type="http://schemas.openxmlformats.org/officeDocument/2006/relationships/slide" Target="slide15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" Target="slide3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9.xml"/><Relationship Id="rId10" Type="http://schemas.openxmlformats.org/officeDocument/2006/relationships/slide" Target="slide11.xml"/><Relationship Id="rId11" Type="http://schemas.openxmlformats.org/officeDocument/2006/relationships/slide" Target="slide13.xml"/><Relationship Id="rId12" Type="http://schemas.openxmlformats.org/officeDocument/2006/relationships/slide" Target="slide15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073" name="矩形 54"/>
          <p:cNvSpPr/>
          <p:nvPr/>
        </p:nvSpPr>
        <p:spPr>
          <a:xfrm>
            <a:off x="0" y="1450800"/>
            <a:ext cx="91440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矩形 55"/>
          <p:cNvSpPr/>
          <p:nvPr/>
        </p:nvSpPr>
        <p:spPr>
          <a:xfrm>
            <a:off x="0" y="190332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矩形 56"/>
          <p:cNvSpPr/>
          <p:nvPr/>
        </p:nvSpPr>
        <p:spPr>
          <a:xfrm>
            <a:off x="0" y="2355840"/>
            <a:ext cx="9144000" cy="4557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矩形 57"/>
          <p:cNvSpPr/>
          <p:nvPr/>
        </p:nvSpPr>
        <p:spPr>
          <a:xfrm>
            <a:off x="0" y="280980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矩形 58"/>
          <p:cNvSpPr/>
          <p:nvPr/>
        </p:nvSpPr>
        <p:spPr>
          <a:xfrm>
            <a:off x="-15840" y="3263760"/>
            <a:ext cx="9142200" cy="447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矩形 59"/>
          <p:cNvSpPr/>
          <p:nvPr/>
        </p:nvSpPr>
        <p:spPr>
          <a:xfrm>
            <a:off x="-1440" y="3711600"/>
            <a:ext cx="91422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矩形 60"/>
          <p:cNvSpPr/>
          <p:nvPr/>
        </p:nvSpPr>
        <p:spPr>
          <a:xfrm>
            <a:off x="-17640" y="4164120"/>
            <a:ext cx="9142560" cy="37620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0" name="组合 63"/>
          <p:cNvGrpSpPr/>
          <p:nvPr/>
        </p:nvGrpSpPr>
        <p:grpSpPr>
          <a:xfrm>
            <a:off x="3500280" y="592200"/>
            <a:ext cx="1997280" cy="711000"/>
            <a:chOff x="3500280" y="592200"/>
            <a:chExt cx="1997280" cy="711000"/>
          </a:xfrm>
        </p:grpSpPr>
        <p:sp>
          <p:nvSpPr>
            <p:cNvPr id="1081" name="TextBox 61"/>
            <p:cNvSpPr/>
            <p:nvPr/>
          </p:nvSpPr>
          <p:spPr>
            <a:xfrm>
              <a:off x="3644640" y="592200"/>
              <a:ext cx="185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f2f2"/>
                  </a:solidFill>
                  <a:latin typeface="方正综艺简体(视频)"/>
                  <a:ea typeface="方正综艺简体(视频)"/>
                </a:rPr>
                <a:t>LOGO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TextBox 62"/>
            <p:cNvSpPr/>
            <p:nvPr/>
          </p:nvSpPr>
          <p:spPr>
            <a:xfrm>
              <a:off x="3500280" y="1041840"/>
              <a:ext cx="1620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logo her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3" name="TextBox 67"/>
          <p:cNvSpPr/>
          <p:nvPr/>
        </p:nvSpPr>
        <p:spPr>
          <a:xfrm>
            <a:off x="1646280" y="2185920"/>
            <a:ext cx="585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综艺简体(视频)"/>
                <a:ea typeface="方正综艺简体(视频)"/>
              </a:rPr>
              <a:t>单击添加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TextBox 68"/>
          <p:cNvSpPr/>
          <p:nvPr/>
        </p:nvSpPr>
        <p:spPr>
          <a:xfrm>
            <a:off x="1650960" y="2922480"/>
            <a:ext cx="585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综艺简体(视频)"/>
                <a:ea typeface="方正综艺简体(视频)"/>
              </a:rPr>
              <a:t>单击添加副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4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4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4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52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52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52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52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52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4" presetSubtype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5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366" name="矩形 29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TextBox 5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8" name="组合 52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1369" name="矩形 12"/>
            <p:cNvSpPr/>
            <p:nvPr/>
          </p:nvSpPr>
          <p:spPr>
            <a:xfrm>
              <a:off x="-20520" y="145080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0" name="矩形 22"/>
            <p:cNvSpPr/>
            <p:nvPr/>
          </p:nvSpPr>
          <p:spPr>
            <a:xfrm>
              <a:off x="-20520" y="19047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1" name="矩形 27"/>
            <p:cNvSpPr/>
            <p:nvPr/>
          </p:nvSpPr>
          <p:spPr>
            <a:xfrm>
              <a:off x="-20520" y="23587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2" name="矩形 32"/>
            <p:cNvSpPr/>
            <p:nvPr/>
          </p:nvSpPr>
          <p:spPr>
            <a:xfrm>
              <a:off x="-20520" y="2811240"/>
              <a:ext cx="3621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3" name="矩形 37"/>
            <p:cNvSpPr/>
            <p:nvPr/>
          </p:nvSpPr>
          <p:spPr>
            <a:xfrm>
              <a:off x="-20520" y="32655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4" name="矩形 42"/>
            <p:cNvSpPr/>
            <p:nvPr/>
          </p:nvSpPr>
          <p:spPr>
            <a:xfrm>
              <a:off x="-20520" y="37195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5" name="矩形 47"/>
            <p:cNvSpPr/>
            <p:nvPr/>
          </p:nvSpPr>
          <p:spPr>
            <a:xfrm>
              <a:off x="-39600" y="417348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6" name="组合 51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1377" name="TextBox 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8" name="TextBox 23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9" name="TextBox 2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0" name="TextBox 33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1" name="TextBox 38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2" name="TextBox 43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3" name="TextBox 48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4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TextBox 34">
            <a:hlinkClick r:id="rId2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TextBox 36">
            <a:hlinkClick r:id="rId3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TextBox 39">
            <a:hlinkClick r:id="rId4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TextBox 41">
            <a:hlinkClick r:id="rId5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TextBox 44">
            <a:hlinkClick r:id="rId6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TextBox 46">
            <a:hlinkClick r:id="rId7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TextBox 49">
            <a:hlinkClick r:id="rId8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2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393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矩形 10"/>
          <p:cNvSpPr/>
          <p:nvPr/>
        </p:nvSpPr>
        <p:spPr>
          <a:xfrm rot="19548000">
            <a:off x="-6787800" y="1281240"/>
            <a:ext cx="1014732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5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1396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7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8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9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0" name="TextBox 14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7" name="组合 27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1408" name="矩形 28"/>
            <p:cNvSpPr/>
            <p:nvPr/>
          </p:nvSpPr>
          <p:spPr>
            <a:xfrm>
              <a:off x="-20520" y="145080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9" name="矩形 29"/>
            <p:cNvSpPr/>
            <p:nvPr/>
          </p:nvSpPr>
          <p:spPr>
            <a:xfrm>
              <a:off x="-20520" y="19047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0" name="矩形 30"/>
            <p:cNvSpPr/>
            <p:nvPr/>
          </p:nvSpPr>
          <p:spPr>
            <a:xfrm>
              <a:off x="-20520" y="23587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1" name="矩形 31"/>
            <p:cNvSpPr/>
            <p:nvPr/>
          </p:nvSpPr>
          <p:spPr>
            <a:xfrm>
              <a:off x="-20520" y="2811240"/>
              <a:ext cx="3621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2" name="矩形 32"/>
            <p:cNvSpPr/>
            <p:nvPr/>
          </p:nvSpPr>
          <p:spPr>
            <a:xfrm>
              <a:off x="-20520" y="32655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3" name="矩形 33"/>
            <p:cNvSpPr/>
            <p:nvPr/>
          </p:nvSpPr>
          <p:spPr>
            <a:xfrm>
              <a:off x="-20520" y="37195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4" name="矩形 34"/>
            <p:cNvSpPr/>
            <p:nvPr/>
          </p:nvSpPr>
          <p:spPr>
            <a:xfrm>
              <a:off x="-39600" y="417348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5" name="组合 35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1416" name="TextBox 3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7" name="TextBox 37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8" name="TextBox 3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9" name="TextBox 39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0" name="TextBox 40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1" name="TextBox 41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2" name="TextBox 42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3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TextBox 52">
            <a:hlinkClick r:id="rId6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TextBox 53">
            <a:hlinkClick r:id="rId7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TextBox 54">
            <a:hlinkClick r:id="rId8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TextBox 55">
            <a:hlinkClick r:id="rId9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TextBox 56">
            <a:hlinkClick r:id="rId10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TextBox 57">
            <a:hlinkClick r:id="rId11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TextBox 58">
            <a:hlinkClick r:id="rId12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393" dur="750" fill="hold"/>
                                        <p:tgtEl>
                                          <p:spTgt spid="1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4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395" dur="750" fill="hold"/>
                                        <p:tgtEl>
                                          <p:spTgt spid="1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25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25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1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05" dur="25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25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411" dur="1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13" dur="25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25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419" dur="1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21" dur="25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25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427" dur="1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29" dur="25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25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435" dur="1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37" dur="25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5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443" dur="1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45" dur="25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5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451" dur="1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53" dur="25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1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432" name="矩形 30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TextBox 5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4" name="组合 52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1435" name="矩形 12"/>
            <p:cNvSpPr/>
            <p:nvPr/>
          </p:nvSpPr>
          <p:spPr>
            <a:xfrm>
              <a:off x="-20520" y="145080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6" name="矩形 22"/>
            <p:cNvSpPr/>
            <p:nvPr/>
          </p:nvSpPr>
          <p:spPr>
            <a:xfrm>
              <a:off x="-20520" y="19047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7" name="矩形 27"/>
            <p:cNvSpPr/>
            <p:nvPr/>
          </p:nvSpPr>
          <p:spPr>
            <a:xfrm>
              <a:off x="-20520" y="23587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8" name="矩形 32"/>
            <p:cNvSpPr/>
            <p:nvPr/>
          </p:nvSpPr>
          <p:spPr>
            <a:xfrm>
              <a:off x="-20520" y="2811240"/>
              <a:ext cx="3621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9" name="矩形 37"/>
            <p:cNvSpPr/>
            <p:nvPr/>
          </p:nvSpPr>
          <p:spPr>
            <a:xfrm>
              <a:off x="-20520" y="32655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0" name="矩形 42"/>
            <p:cNvSpPr/>
            <p:nvPr/>
          </p:nvSpPr>
          <p:spPr>
            <a:xfrm>
              <a:off x="-20520" y="37195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1" name="矩形 47"/>
            <p:cNvSpPr/>
            <p:nvPr/>
          </p:nvSpPr>
          <p:spPr>
            <a:xfrm>
              <a:off x="-39600" y="417348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2" name="组合 51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1443" name="TextBox 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4" name="TextBox 23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5" name="TextBox 2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6" name="TextBox 33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7" name="TextBox 38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8" name="TextBox 43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9" name="TextBox 48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0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TextBox 34">
            <a:hlinkClick r:id="rId2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TextBox 36">
            <a:hlinkClick r:id="rId3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TextBox 39">
            <a:hlinkClick r:id="rId4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TextBox 41">
            <a:hlinkClick r:id="rId5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TextBox 44">
            <a:hlinkClick r:id="rId6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TextBox 46">
            <a:hlinkClick r:id="rId7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TextBox 49">
            <a:hlinkClick r:id="rId8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459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矩形 10"/>
          <p:cNvSpPr/>
          <p:nvPr/>
        </p:nvSpPr>
        <p:spPr>
          <a:xfrm rot="19548000">
            <a:off x="-6787800" y="1281240"/>
            <a:ext cx="1014732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1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1462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3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4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5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6" name="TextBox 14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3" name="组合 27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1474" name="矩形 28"/>
            <p:cNvSpPr/>
            <p:nvPr/>
          </p:nvSpPr>
          <p:spPr>
            <a:xfrm>
              <a:off x="-20520" y="145080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5" name="矩形 29"/>
            <p:cNvSpPr/>
            <p:nvPr/>
          </p:nvSpPr>
          <p:spPr>
            <a:xfrm>
              <a:off x="-20520" y="19047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6" name="矩形 30"/>
            <p:cNvSpPr/>
            <p:nvPr/>
          </p:nvSpPr>
          <p:spPr>
            <a:xfrm>
              <a:off x="-20520" y="23587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7" name="矩形 31"/>
            <p:cNvSpPr/>
            <p:nvPr/>
          </p:nvSpPr>
          <p:spPr>
            <a:xfrm>
              <a:off x="-20520" y="2811240"/>
              <a:ext cx="3621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8" name="矩形 32"/>
            <p:cNvSpPr/>
            <p:nvPr/>
          </p:nvSpPr>
          <p:spPr>
            <a:xfrm>
              <a:off x="-20520" y="32655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9" name="矩形 33"/>
            <p:cNvSpPr/>
            <p:nvPr/>
          </p:nvSpPr>
          <p:spPr>
            <a:xfrm>
              <a:off x="-20520" y="37195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0" name="矩形 34"/>
            <p:cNvSpPr/>
            <p:nvPr/>
          </p:nvSpPr>
          <p:spPr>
            <a:xfrm>
              <a:off x="-39600" y="417348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1" name="组合 35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1482" name="TextBox 3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3" name="TextBox 37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4" name="TextBox 3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5" name="TextBox 39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6" name="TextBox 40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7" name="TextBox 41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8" name="TextBox 42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9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TextBox 52">
            <a:hlinkClick r:id="rId6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TextBox 53">
            <a:hlinkClick r:id="rId7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TextBox 54">
            <a:hlinkClick r:id="rId8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TextBox 55">
            <a:hlinkClick r:id="rId9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TextBox 56">
            <a:hlinkClick r:id="rId10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TextBox 57">
            <a:hlinkClick r:id="rId11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TextBox 58">
            <a:hlinkClick r:id="rId12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460" dur="750" fill="hold"/>
                                        <p:tgtEl>
                                          <p:spTgt spid="1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462" dur="750" fill="hold"/>
                                        <p:tgtEl>
                                          <p:spTgt spid="1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25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25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0" dur="1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72" dur="25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5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478" dur="1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0" dur="25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25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486" dur="1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8" dur="25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25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494" dur="1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96" dur="25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5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502" dur="1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04" dur="25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25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510" dur="1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12" dur="25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25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518" dur="1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20" dur="25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7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498" name="矩形 29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TextBox 5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0" name="组合 52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1501" name="矩形 12"/>
            <p:cNvSpPr/>
            <p:nvPr/>
          </p:nvSpPr>
          <p:spPr>
            <a:xfrm>
              <a:off x="-20520" y="145080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2" name="矩形 22"/>
            <p:cNvSpPr/>
            <p:nvPr/>
          </p:nvSpPr>
          <p:spPr>
            <a:xfrm>
              <a:off x="-20520" y="19047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3" name="矩形 27"/>
            <p:cNvSpPr/>
            <p:nvPr/>
          </p:nvSpPr>
          <p:spPr>
            <a:xfrm>
              <a:off x="-20520" y="23587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4" name="矩形 32"/>
            <p:cNvSpPr/>
            <p:nvPr/>
          </p:nvSpPr>
          <p:spPr>
            <a:xfrm>
              <a:off x="-20520" y="2811240"/>
              <a:ext cx="3621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5" name="矩形 37"/>
            <p:cNvSpPr/>
            <p:nvPr/>
          </p:nvSpPr>
          <p:spPr>
            <a:xfrm>
              <a:off x="-20520" y="32655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6" name="矩形 42"/>
            <p:cNvSpPr/>
            <p:nvPr/>
          </p:nvSpPr>
          <p:spPr>
            <a:xfrm>
              <a:off x="-20520" y="37195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7" name="矩形 47"/>
            <p:cNvSpPr/>
            <p:nvPr/>
          </p:nvSpPr>
          <p:spPr>
            <a:xfrm>
              <a:off x="-39600" y="417348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8" name="组合 51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1509" name="TextBox 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0" name="TextBox 23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1" name="TextBox 2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2" name="TextBox 33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3" name="TextBox 38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4" name="TextBox 43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5" name="TextBox 48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6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TextBox 34">
            <a:hlinkClick r:id="rId2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TextBox 36">
            <a:hlinkClick r:id="rId3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TextBox 39">
            <a:hlinkClick r:id="rId4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TextBox 41">
            <a:hlinkClick r:id="rId5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TextBox 44">
            <a:hlinkClick r:id="rId6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TextBox 46">
            <a:hlinkClick r:id="rId7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TextBox 49">
            <a:hlinkClick r:id="rId8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4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525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矩形 10"/>
          <p:cNvSpPr/>
          <p:nvPr/>
        </p:nvSpPr>
        <p:spPr>
          <a:xfrm rot="19548000">
            <a:off x="-6787800" y="1281240"/>
            <a:ext cx="1014732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7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1528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9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0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1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2" name="TextBox 14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39" name="组合 27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1540" name="矩形 28"/>
            <p:cNvSpPr/>
            <p:nvPr/>
          </p:nvSpPr>
          <p:spPr>
            <a:xfrm>
              <a:off x="-20520" y="145080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1" name="矩形 29"/>
            <p:cNvSpPr/>
            <p:nvPr/>
          </p:nvSpPr>
          <p:spPr>
            <a:xfrm>
              <a:off x="-20520" y="19047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2" name="矩形 30"/>
            <p:cNvSpPr/>
            <p:nvPr/>
          </p:nvSpPr>
          <p:spPr>
            <a:xfrm>
              <a:off x="-20520" y="23587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3" name="矩形 31"/>
            <p:cNvSpPr/>
            <p:nvPr/>
          </p:nvSpPr>
          <p:spPr>
            <a:xfrm>
              <a:off x="-20520" y="2811240"/>
              <a:ext cx="3621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4" name="矩形 32"/>
            <p:cNvSpPr/>
            <p:nvPr/>
          </p:nvSpPr>
          <p:spPr>
            <a:xfrm>
              <a:off x="-20520" y="32655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5" name="矩形 33"/>
            <p:cNvSpPr/>
            <p:nvPr/>
          </p:nvSpPr>
          <p:spPr>
            <a:xfrm>
              <a:off x="-20520" y="37195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6" name="矩形 34"/>
            <p:cNvSpPr/>
            <p:nvPr/>
          </p:nvSpPr>
          <p:spPr>
            <a:xfrm>
              <a:off x="-39600" y="417348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7" name="组合 35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1548" name="TextBox 3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9" name="TextBox 37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0" name="TextBox 3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1" name="TextBox 39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2" name="TextBox 40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3" name="TextBox 41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4" name="TextBox 42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5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TextBox 52">
            <a:hlinkClick r:id="rId6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TextBox 53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TextBox 54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TextBox 55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TextBox 56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TextBox 57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TextBox 58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0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527" dur="750" fill="hold"/>
                                        <p:tgtEl>
                                          <p:spTgt spid="1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8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529" dur="750" fill="hold"/>
                                        <p:tgtEl>
                                          <p:spTgt spid="1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25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25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7" dur="1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39" dur="25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25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545" dur="1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47" dur="25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25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553" dur="1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55" dur="25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25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561" dur="1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63" dur="25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25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569" dur="1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71" dur="25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25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577" dur="1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79" dur="25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25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585" dur="1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87" dur="25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3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564" name="TextBox 5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5" name="组合 52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1566" name="矩形 12"/>
            <p:cNvSpPr/>
            <p:nvPr/>
          </p:nvSpPr>
          <p:spPr>
            <a:xfrm>
              <a:off x="-20520" y="145080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7" name="矩形 22"/>
            <p:cNvSpPr/>
            <p:nvPr/>
          </p:nvSpPr>
          <p:spPr>
            <a:xfrm>
              <a:off x="-20520" y="19047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8" name="矩形 27"/>
            <p:cNvSpPr/>
            <p:nvPr/>
          </p:nvSpPr>
          <p:spPr>
            <a:xfrm>
              <a:off x="-20520" y="23587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9" name="矩形 32"/>
            <p:cNvSpPr/>
            <p:nvPr/>
          </p:nvSpPr>
          <p:spPr>
            <a:xfrm>
              <a:off x="-20520" y="2811240"/>
              <a:ext cx="3621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0" name="矩形 37"/>
            <p:cNvSpPr/>
            <p:nvPr/>
          </p:nvSpPr>
          <p:spPr>
            <a:xfrm>
              <a:off x="-20520" y="32655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1" name="矩形 42"/>
            <p:cNvSpPr/>
            <p:nvPr/>
          </p:nvSpPr>
          <p:spPr>
            <a:xfrm>
              <a:off x="-20520" y="37195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2" name="矩形 47"/>
            <p:cNvSpPr/>
            <p:nvPr/>
          </p:nvSpPr>
          <p:spPr>
            <a:xfrm>
              <a:off x="-39600" y="417348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3" name="组合 51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1574" name="TextBox 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5" name="TextBox 23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6" name="TextBox 2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7" name="TextBox 33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8" name="TextBox 38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9" name="TextBox 43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0" name="TextBox 48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1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TextBox 34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TextBox 36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TextBox 39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TextBox 41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TextBox 44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TextBox 46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矩形 30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TextBox 49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0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591" name="矩形 54"/>
          <p:cNvSpPr/>
          <p:nvPr/>
        </p:nvSpPr>
        <p:spPr>
          <a:xfrm>
            <a:off x="0" y="1450800"/>
            <a:ext cx="91440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矩形 55"/>
          <p:cNvSpPr/>
          <p:nvPr/>
        </p:nvSpPr>
        <p:spPr>
          <a:xfrm>
            <a:off x="0" y="190332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矩形 56"/>
          <p:cNvSpPr/>
          <p:nvPr/>
        </p:nvSpPr>
        <p:spPr>
          <a:xfrm>
            <a:off x="0" y="2355840"/>
            <a:ext cx="9144000" cy="4557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矩形 57"/>
          <p:cNvSpPr/>
          <p:nvPr/>
        </p:nvSpPr>
        <p:spPr>
          <a:xfrm>
            <a:off x="0" y="280980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矩形 58"/>
          <p:cNvSpPr/>
          <p:nvPr/>
        </p:nvSpPr>
        <p:spPr>
          <a:xfrm>
            <a:off x="-15840" y="3263760"/>
            <a:ext cx="9142200" cy="447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矩形 59"/>
          <p:cNvSpPr/>
          <p:nvPr/>
        </p:nvSpPr>
        <p:spPr>
          <a:xfrm>
            <a:off x="-1440" y="3711600"/>
            <a:ext cx="91422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矩形 60"/>
          <p:cNvSpPr/>
          <p:nvPr/>
        </p:nvSpPr>
        <p:spPr>
          <a:xfrm>
            <a:off x="-17640" y="4164120"/>
            <a:ext cx="9142560" cy="37620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8" name="组合 63"/>
          <p:cNvGrpSpPr/>
          <p:nvPr/>
        </p:nvGrpSpPr>
        <p:grpSpPr>
          <a:xfrm>
            <a:off x="3500280" y="592200"/>
            <a:ext cx="1997280" cy="711000"/>
            <a:chOff x="3500280" y="592200"/>
            <a:chExt cx="1997280" cy="711000"/>
          </a:xfrm>
        </p:grpSpPr>
        <p:sp>
          <p:nvSpPr>
            <p:cNvPr id="1599" name="TextBox 61"/>
            <p:cNvSpPr/>
            <p:nvPr/>
          </p:nvSpPr>
          <p:spPr>
            <a:xfrm>
              <a:off x="3644640" y="592200"/>
              <a:ext cx="185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f2f2"/>
                  </a:solidFill>
                  <a:latin typeface="方正综艺简体(视频)"/>
                  <a:ea typeface="方正综艺简体(视频)"/>
                </a:rPr>
                <a:t>LOGO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0" name="TextBox 62"/>
            <p:cNvSpPr/>
            <p:nvPr/>
          </p:nvSpPr>
          <p:spPr>
            <a:xfrm>
              <a:off x="3500280" y="1041840"/>
              <a:ext cx="1620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logo her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1" name="TextBox 67"/>
          <p:cNvSpPr/>
          <p:nvPr/>
        </p:nvSpPr>
        <p:spPr>
          <a:xfrm>
            <a:off x="1646280" y="2185920"/>
            <a:ext cx="585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综艺简体(视频)"/>
                <a:ea typeface="方正综艺简体(视频)"/>
              </a:rPr>
              <a:t>谢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TextBox 68"/>
          <p:cNvSpPr/>
          <p:nvPr/>
        </p:nvSpPr>
        <p:spPr>
          <a:xfrm>
            <a:off x="1650960" y="2922480"/>
            <a:ext cx="585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综艺简体(视频)"/>
                <a:ea typeface="方正综艺简体(视频)"/>
              </a:rPr>
              <a:t>THANK YO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4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4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4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4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3" presetSubtype="52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4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4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4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4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3" presetSubtype="52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4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4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4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4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3" presetSubtype="52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4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4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4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4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4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4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4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4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3" presetSubtype="52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4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4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4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3" presetSubtype="52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4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4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4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4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4" presetSubtype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2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5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3" name="Group 2"/>
          <p:cNvGrpSpPr/>
          <p:nvPr/>
        </p:nvGrpSpPr>
        <p:grpSpPr>
          <a:xfrm>
            <a:off x="1143000" y="0"/>
            <a:ext cx="6350040" cy="5143680"/>
            <a:chOff x="1143000" y="0"/>
            <a:chExt cx="6350040" cy="5143680"/>
          </a:xfrm>
        </p:grpSpPr>
        <p:sp>
          <p:nvSpPr>
            <p:cNvPr id="1604" name="矩形 4"/>
            <p:cNvSpPr/>
            <p:nvPr/>
          </p:nvSpPr>
          <p:spPr>
            <a:xfrm>
              <a:off x="1605600" y="0"/>
              <a:ext cx="5108400" cy="5508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05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1143000" y="1285920"/>
              <a:ext cx="635004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6" name="TextBox 7"/>
            <p:cNvSpPr/>
            <p:nvPr/>
          </p:nvSpPr>
          <p:spPr>
            <a:xfrm rot="20926800">
              <a:off x="2573280" y="2665080"/>
              <a:ext cx="3500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5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086" name="矩形 54"/>
          <p:cNvSpPr/>
          <p:nvPr/>
        </p:nvSpPr>
        <p:spPr>
          <a:xfrm>
            <a:off x="0" y="1450800"/>
            <a:ext cx="91440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矩形 55"/>
          <p:cNvSpPr/>
          <p:nvPr/>
        </p:nvSpPr>
        <p:spPr>
          <a:xfrm>
            <a:off x="0" y="190332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矩形 56"/>
          <p:cNvSpPr/>
          <p:nvPr/>
        </p:nvSpPr>
        <p:spPr>
          <a:xfrm>
            <a:off x="0" y="2355840"/>
            <a:ext cx="9144000" cy="4557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矩形 57"/>
          <p:cNvSpPr/>
          <p:nvPr/>
        </p:nvSpPr>
        <p:spPr>
          <a:xfrm>
            <a:off x="0" y="280980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矩形 58"/>
          <p:cNvSpPr/>
          <p:nvPr/>
        </p:nvSpPr>
        <p:spPr>
          <a:xfrm>
            <a:off x="-15840" y="3263760"/>
            <a:ext cx="9142200" cy="447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矩形 59"/>
          <p:cNvSpPr/>
          <p:nvPr/>
        </p:nvSpPr>
        <p:spPr>
          <a:xfrm>
            <a:off x="-1440" y="3711600"/>
            <a:ext cx="91422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矩形 60"/>
          <p:cNvSpPr/>
          <p:nvPr/>
        </p:nvSpPr>
        <p:spPr>
          <a:xfrm>
            <a:off x="-17640" y="4164120"/>
            <a:ext cx="9142560" cy="37620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3" name="组合 63"/>
          <p:cNvGrpSpPr/>
          <p:nvPr/>
        </p:nvGrpSpPr>
        <p:grpSpPr>
          <a:xfrm>
            <a:off x="3500280" y="592200"/>
            <a:ext cx="1997280" cy="711000"/>
            <a:chOff x="3500280" y="592200"/>
            <a:chExt cx="1997280" cy="711000"/>
          </a:xfrm>
        </p:grpSpPr>
        <p:sp>
          <p:nvSpPr>
            <p:cNvPr id="1094" name="TextBox 61"/>
            <p:cNvSpPr/>
            <p:nvPr/>
          </p:nvSpPr>
          <p:spPr>
            <a:xfrm>
              <a:off x="3644640" y="592200"/>
              <a:ext cx="185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f2f2"/>
                  </a:solidFill>
                  <a:latin typeface="方正综艺简体(视频)"/>
                  <a:ea typeface="方正综艺简体(视频)"/>
                </a:rPr>
                <a:t>LOGO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TextBox 62"/>
            <p:cNvSpPr/>
            <p:nvPr/>
          </p:nvSpPr>
          <p:spPr>
            <a:xfrm>
              <a:off x="3500280" y="1041840"/>
              <a:ext cx="1620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logo her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6" name="组合 1"/>
          <p:cNvGrpSpPr/>
          <p:nvPr/>
        </p:nvGrpSpPr>
        <p:grpSpPr>
          <a:xfrm>
            <a:off x="1646280" y="2185920"/>
            <a:ext cx="5856120" cy="1105200"/>
            <a:chOff x="1646280" y="2185920"/>
            <a:chExt cx="5856120" cy="1105200"/>
          </a:xfrm>
        </p:grpSpPr>
        <p:sp>
          <p:nvSpPr>
            <p:cNvPr id="1097" name="TextBox 67"/>
            <p:cNvSpPr/>
            <p:nvPr/>
          </p:nvSpPr>
          <p:spPr>
            <a:xfrm>
              <a:off x="1646280" y="2185920"/>
              <a:ext cx="5851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方正综艺简体(视频)"/>
                  <a:ea typeface="方正综艺简体(视频)"/>
                </a:rPr>
                <a:t>单击添加标题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8" name="TextBox 68"/>
            <p:cNvSpPr/>
            <p:nvPr/>
          </p:nvSpPr>
          <p:spPr>
            <a:xfrm>
              <a:off x="1650960" y="2922840"/>
              <a:ext cx="585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综艺简体(视频)"/>
                  <a:ea typeface="方正综艺简体(视频)"/>
                </a:rPr>
                <a:t>单击添加副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9" name="组合 15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grpSp>
          <p:nvGrpSpPr>
            <p:cNvPr id="1100" name="组合 16"/>
            <p:cNvGrpSpPr/>
            <p:nvPr/>
          </p:nvGrpSpPr>
          <p:grpSpPr>
            <a:xfrm>
              <a:off x="-286920" y="1379520"/>
              <a:ext cx="898560" cy="520560"/>
              <a:chOff x="-286920" y="1379520"/>
              <a:chExt cx="898560" cy="520560"/>
            </a:xfrm>
          </p:grpSpPr>
          <p:sp>
            <p:nvSpPr>
              <p:cNvPr id="1101" name="矩形 36"/>
              <p:cNvSpPr/>
              <p:nvPr/>
            </p:nvSpPr>
            <p:spPr>
              <a:xfrm>
                <a:off x="-20520" y="1450800"/>
                <a:ext cx="362880" cy="37584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2" name="TextBox 37"/>
              <p:cNvSpPr/>
              <p:nvPr/>
            </p:nvSpPr>
            <p:spPr>
              <a:xfrm>
                <a:off x="-286920" y="1379520"/>
                <a:ext cx="89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03" name="组合 17"/>
            <p:cNvGrpSpPr/>
            <p:nvPr/>
          </p:nvGrpSpPr>
          <p:grpSpPr>
            <a:xfrm>
              <a:off x="-286920" y="1833120"/>
              <a:ext cx="898560" cy="520560"/>
              <a:chOff x="-286920" y="1833120"/>
              <a:chExt cx="898560" cy="520560"/>
            </a:xfrm>
          </p:grpSpPr>
          <p:sp>
            <p:nvSpPr>
              <p:cNvPr id="1104" name="矩形 34"/>
              <p:cNvSpPr/>
              <p:nvPr/>
            </p:nvSpPr>
            <p:spPr>
              <a:xfrm>
                <a:off x="-20520" y="1904400"/>
                <a:ext cx="362880" cy="37692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5" name="TextBox 35"/>
              <p:cNvSpPr/>
              <p:nvPr/>
            </p:nvSpPr>
            <p:spPr>
              <a:xfrm>
                <a:off x="-286920" y="1833120"/>
                <a:ext cx="89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06" name="组合 19"/>
            <p:cNvGrpSpPr/>
            <p:nvPr/>
          </p:nvGrpSpPr>
          <p:grpSpPr>
            <a:xfrm>
              <a:off x="-286920" y="2286720"/>
              <a:ext cx="898560" cy="520560"/>
              <a:chOff x="-286920" y="2286720"/>
              <a:chExt cx="898560" cy="520560"/>
            </a:xfrm>
          </p:grpSpPr>
          <p:sp>
            <p:nvSpPr>
              <p:cNvPr id="1107" name="矩形 32"/>
              <p:cNvSpPr/>
              <p:nvPr/>
            </p:nvSpPr>
            <p:spPr>
              <a:xfrm>
                <a:off x="-20520" y="2358000"/>
                <a:ext cx="362880" cy="37584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8" name="TextBox 33"/>
              <p:cNvSpPr/>
              <p:nvPr/>
            </p:nvSpPr>
            <p:spPr>
              <a:xfrm>
                <a:off x="-286920" y="2286720"/>
                <a:ext cx="89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09" name="组合 20"/>
            <p:cNvGrpSpPr/>
            <p:nvPr/>
          </p:nvGrpSpPr>
          <p:grpSpPr>
            <a:xfrm>
              <a:off x="-286920" y="2740320"/>
              <a:ext cx="898560" cy="520560"/>
              <a:chOff x="-286920" y="2740320"/>
              <a:chExt cx="898560" cy="520560"/>
            </a:xfrm>
          </p:grpSpPr>
          <p:sp>
            <p:nvSpPr>
              <p:cNvPr id="1110" name="矩形 30"/>
              <p:cNvSpPr/>
              <p:nvPr/>
            </p:nvSpPr>
            <p:spPr>
              <a:xfrm>
                <a:off x="-20520" y="2811600"/>
                <a:ext cx="362880" cy="37584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1" name="TextBox 31"/>
              <p:cNvSpPr/>
              <p:nvPr/>
            </p:nvSpPr>
            <p:spPr>
              <a:xfrm>
                <a:off x="-286920" y="2740320"/>
                <a:ext cx="89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4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12" name="组合 21"/>
            <p:cNvGrpSpPr/>
            <p:nvPr/>
          </p:nvGrpSpPr>
          <p:grpSpPr>
            <a:xfrm>
              <a:off x="-286920" y="3194280"/>
              <a:ext cx="898560" cy="520560"/>
              <a:chOff x="-286920" y="3194280"/>
              <a:chExt cx="898560" cy="520560"/>
            </a:xfrm>
          </p:grpSpPr>
          <p:sp>
            <p:nvSpPr>
              <p:cNvPr id="1113" name="矩形 28"/>
              <p:cNvSpPr/>
              <p:nvPr/>
            </p:nvSpPr>
            <p:spPr>
              <a:xfrm>
                <a:off x="-20520" y="3265560"/>
                <a:ext cx="362880" cy="37584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4" name="TextBox 29"/>
              <p:cNvSpPr/>
              <p:nvPr/>
            </p:nvSpPr>
            <p:spPr>
              <a:xfrm>
                <a:off x="-286920" y="3194280"/>
                <a:ext cx="89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5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15" name="组合 22"/>
            <p:cNvGrpSpPr/>
            <p:nvPr/>
          </p:nvGrpSpPr>
          <p:grpSpPr>
            <a:xfrm>
              <a:off x="-286920" y="3647880"/>
              <a:ext cx="898560" cy="520560"/>
              <a:chOff x="-286920" y="3647880"/>
              <a:chExt cx="898560" cy="520560"/>
            </a:xfrm>
          </p:grpSpPr>
          <p:sp>
            <p:nvSpPr>
              <p:cNvPr id="1116" name="矩形 26"/>
              <p:cNvSpPr/>
              <p:nvPr/>
            </p:nvSpPr>
            <p:spPr>
              <a:xfrm>
                <a:off x="-20520" y="3719160"/>
                <a:ext cx="362880" cy="37692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7" name="TextBox 27"/>
              <p:cNvSpPr/>
              <p:nvPr/>
            </p:nvSpPr>
            <p:spPr>
              <a:xfrm>
                <a:off x="-286920" y="3647880"/>
                <a:ext cx="89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6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18" name="组合 23"/>
            <p:cNvGrpSpPr/>
            <p:nvPr/>
          </p:nvGrpSpPr>
          <p:grpSpPr>
            <a:xfrm>
              <a:off x="-306360" y="4101480"/>
              <a:ext cx="898560" cy="520560"/>
              <a:chOff x="-306360" y="4101480"/>
              <a:chExt cx="898560" cy="520560"/>
            </a:xfrm>
          </p:grpSpPr>
          <p:sp>
            <p:nvSpPr>
              <p:cNvPr id="1119" name="矩形 24"/>
              <p:cNvSpPr/>
              <p:nvPr/>
            </p:nvSpPr>
            <p:spPr>
              <a:xfrm>
                <a:off x="-39960" y="4172760"/>
                <a:ext cx="362880" cy="37584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0" name="TextBox 25"/>
              <p:cNvSpPr/>
              <p:nvPr/>
            </p:nvSpPr>
            <p:spPr>
              <a:xfrm>
                <a:off x="-306360" y="4101480"/>
                <a:ext cx="89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7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1" name="TextBox 38">
            <a:hlinkClick r:id="rId2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TextBox 39">
            <a:hlinkClick r:id="rId3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TextBox 40">
            <a:hlinkClick r:id="rId4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TextBox 41">
            <a:hlinkClick r:id="rId5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Box 42">
            <a:hlinkClick r:id="rId6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43">
            <a:hlinkClick r:id="rId7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TextBox 44">
            <a:hlinkClick r:id="rId8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3 0.00093 L -0.40296 0.00155 E">
                                      <p:cBhvr>
                                        <p:cTn id="63" dur="500" fill="hold"/>
                                        <p:tgtEl>
                                          <p:spTgt spid="10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8" dur="4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22" presetSubtype="2">
                                  <p:stCondLst>
                                    <p:cond delay="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71" dur="4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2" presetSubtype="2">
                                  <p:stCondLst>
                                    <p:cond delay="1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74" dur="4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2" presetSubtype="2">
                                  <p:stCondLst>
                                    <p:cond delay="1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77" dur="4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2" presetSubtype="2">
                                  <p:stCondLst>
                                    <p:cond delay="2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0" dur="4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3" dur="4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6" dur="4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5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5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5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5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3" presetSubtype="16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5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5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5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5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16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5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5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5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5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95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5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5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5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129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矩形 10"/>
          <p:cNvSpPr/>
          <p:nvPr/>
        </p:nvSpPr>
        <p:spPr>
          <a:xfrm rot="19548000">
            <a:off x="-6787800" y="1281240"/>
            <a:ext cx="1014732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1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1132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3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4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5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6" name="TextBox 14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3" name="组合 27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1144" name="矩形 28"/>
            <p:cNvSpPr/>
            <p:nvPr/>
          </p:nvSpPr>
          <p:spPr>
            <a:xfrm>
              <a:off x="-20520" y="145080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5" name="矩形 29"/>
            <p:cNvSpPr/>
            <p:nvPr/>
          </p:nvSpPr>
          <p:spPr>
            <a:xfrm>
              <a:off x="-20520" y="19047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矩形 30"/>
            <p:cNvSpPr/>
            <p:nvPr/>
          </p:nvSpPr>
          <p:spPr>
            <a:xfrm>
              <a:off x="-20520" y="23587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矩形 31"/>
            <p:cNvSpPr/>
            <p:nvPr/>
          </p:nvSpPr>
          <p:spPr>
            <a:xfrm>
              <a:off x="-20520" y="2811240"/>
              <a:ext cx="3621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矩形 32"/>
            <p:cNvSpPr/>
            <p:nvPr/>
          </p:nvSpPr>
          <p:spPr>
            <a:xfrm>
              <a:off x="-20520" y="32655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矩形 33"/>
            <p:cNvSpPr/>
            <p:nvPr/>
          </p:nvSpPr>
          <p:spPr>
            <a:xfrm>
              <a:off x="-20520" y="37195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0" name="矩形 34"/>
            <p:cNvSpPr/>
            <p:nvPr/>
          </p:nvSpPr>
          <p:spPr>
            <a:xfrm>
              <a:off x="-39600" y="417348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1" name="组合 35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1152" name="TextBox 3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3" name="TextBox 37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TextBox 3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5" name="TextBox 39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6" name="TextBox 40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TextBox 41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8" name="TextBox 42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9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TextBox 52">
            <a:hlinkClick r:id="rId6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TextBox 53">
            <a:hlinkClick r:id="rId7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TextBox 54">
            <a:hlinkClick r:id="rId8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TextBox 55">
            <a:hlinkClick r:id="rId9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TextBox 56">
            <a:hlinkClick r:id="rId10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TextBox 57">
            <a:hlinkClick r:id="rId11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TextBox 58">
            <a:hlinkClick r:id="rId12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125" dur="750" fill="hold"/>
                                        <p:tgtEl>
                                          <p:spTgt spid="1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127" dur="75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5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5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1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7" dur="25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5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143" dur="1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5" dur="25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5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151" dur="1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3" dur="25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5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159" dur="1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25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25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167" dur="1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9" dur="25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25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175" dur="1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77" dur="25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5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183" dur="1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5" dur="25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7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168" name="矩形 53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TextBox 5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0" name="组合 52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1171" name="矩形 12"/>
            <p:cNvSpPr/>
            <p:nvPr/>
          </p:nvSpPr>
          <p:spPr>
            <a:xfrm>
              <a:off x="-20520" y="145080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2" name="矩形 22"/>
            <p:cNvSpPr/>
            <p:nvPr/>
          </p:nvSpPr>
          <p:spPr>
            <a:xfrm>
              <a:off x="-20520" y="19047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3" name="矩形 27"/>
            <p:cNvSpPr/>
            <p:nvPr/>
          </p:nvSpPr>
          <p:spPr>
            <a:xfrm>
              <a:off x="-20520" y="23587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4" name="矩形 32"/>
            <p:cNvSpPr/>
            <p:nvPr/>
          </p:nvSpPr>
          <p:spPr>
            <a:xfrm>
              <a:off x="-20520" y="2811240"/>
              <a:ext cx="3621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5" name="矩形 37"/>
            <p:cNvSpPr/>
            <p:nvPr/>
          </p:nvSpPr>
          <p:spPr>
            <a:xfrm>
              <a:off x="-20520" y="32655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6" name="矩形 42"/>
            <p:cNvSpPr/>
            <p:nvPr/>
          </p:nvSpPr>
          <p:spPr>
            <a:xfrm>
              <a:off x="-20520" y="37195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7" name="矩形 47"/>
            <p:cNvSpPr/>
            <p:nvPr/>
          </p:nvSpPr>
          <p:spPr>
            <a:xfrm>
              <a:off x="-39600" y="417348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8" name="组合 51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1179" name="TextBox 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0" name="TextBox 23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1" name="TextBox 2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2" name="TextBox 33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3" name="TextBox 38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4" name="TextBox 43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5" name="TextBox 48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6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TextBox 34">
            <a:hlinkClick r:id="rId2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TextBox 36">
            <a:hlinkClick r:id="rId3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TextBox 39">
            <a:hlinkClick r:id="rId4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TextBox 41">
            <a:hlinkClick r:id="rId5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TextBox 44">
            <a:hlinkClick r:id="rId6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TextBox 46">
            <a:hlinkClick r:id="rId7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TextBox 49">
            <a:hlinkClick r:id="rId8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4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195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矩形 10"/>
          <p:cNvSpPr/>
          <p:nvPr/>
        </p:nvSpPr>
        <p:spPr>
          <a:xfrm rot="19548000">
            <a:off x="-6787800" y="1281240"/>
            <a:ext cx="1014732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7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1198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9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0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1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2" name="TextBox 14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9" name="组合 27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1210" name="矩形 28"/>
            <p:cNvSpPr/>
            <p:nvPr/>
          </p:nvSpPr>
          <p:spPr>
            <a:xfrm>
              <a:off x="-20520" y="145080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1" name="矩形 29"/>
            <p:cNvSpPr/>
            <p:nvPr/>
          </p:nvSpPr>
          <p:spPr>
            <a:xfrm>
              <a:off x="-20520" y="19047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2" name="矩形 30"/>
            <p:cNvSpPr/>
            <p:nvPr/>
          </p:nvSpPr>
          <p:spPr>
            <a:xfrm>
              <a:off x="-20520" y="23587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3" name="矩形 31"/>
            <p:cNvSpPr/>
            <p:nvPr/>
          </p:nvSpPr>
          <p:spPr>
            <a:xfrm>
              <a:off x="-20520" y="2811240"/>
              <a:ext cx="3621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4" name="矩形 32"/>
            <p:cNvSpPr/>
            <p:nvPr/>
          </p:nvSpPr>
          <p:spPr>
            <a:xfrm>
              <a:off x="-20520" y="32655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5" name="矩形 33"/>
            <p:cNvSpPr/>
            <p:nvPr/>
          </p:nvSpPr>
          <p:spPr>
            <a:xfrm>
              <a:off x="-20520" y="37195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6" name="矩形 34"/>
            <p:cNvSpPr/>
            <p:nvPr/>
          </p:nvSpPr>
          <p:spPr>
            <a:xfrm>
              <a:off x="-39600" y="417348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7" name="组合 35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1218" name="TextBox 3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9" name="TextBox 37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0" name="TextBox 3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1" name="TextBox 39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2" name="TextBox 40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3" name="TextBox 41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4" name="TextBox 42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5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TextBox 52">
            <a:hlinkClick r:id="rId6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TextBox 53">
            <a:hlinkClick r:id="rId7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TextBox 54">
            <a:hlinkClick r:id="rId8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TextBox 55">
            <a:hlinkClick r:id="rId9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TextBox 56">
            <a:hlinkClick r:id="rId10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TextBox 57">
            <a:hlinkClick r:id="rId11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TextBox 58">
            <a:hlinkClick r:id="rId12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192" dur="750" fill="hold"/>
                                        <p:tgtEl>
                                          <p:spTgt spid="1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194" dur="750" fill="hold"/>
                                        <p:tgtEl>
                                          <p:spTgt spid="1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5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25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1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25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25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210" dur="1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12" dur="25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25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218" dur="1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0" dur="25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25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226" dur="1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8" dur="25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25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234" dur="1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36" dur="25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25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242" dur="1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44" dur="25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25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250" dur="1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2" dur="25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234" name="矩形 29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TextBox 5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6" name="组合 52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1237" name="矩形 12"/>
            <p:cNvSpPr/>
            <p:nvPr/>
          </p:nvSpPr>
          <p:spPr>
            <a:xfrm>
              <a:off x="-20520" y="145080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8" name="矩形 22"/>
            <p:cNvSpPr/>
            <p:nvPr/>
          </p:nvSpPr>
          <p:spPr>
            <a:xfrm>
              <a:off x="-20520" y="19047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9" name="矩形 27"/>
            <p:cNvSpPr/>
            <p:nvPr/>
          </p:nvSpPr>
          <p:spPr>
            <a:xfrm>
              <a:off x="-20520" y="23587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0" name="矩形 32"/>
            <p:cNvSpPr/>
            <p:nvPr/>
          </p:nvSpPr>
          <p:spPr>
            <a:xfrm>
              <a:off x="-20520" y="2811240"/>
              <a:ext cx="3621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1" name="矩形 37"/>
            <p:cNvSpPr/>
            <p:nvPr/>
          </p:nvSpPr>
          <p:spPr>
            <a:xfrm>
              <a:off x="-20520" y="32655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2" name="矩形 42"/>
            <p:cNvSpPr/>
            <p:nvPr/>
          </p:nvSpPr>
          <p:spPr>
            <a:xfrm>
              <a:off x="-20520" y="37195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3" name="矩形 47"/>
            <p:cNvSpPr/>
            <p:nvPr/>
          </p:nvSpPr>
          <p:spPr>
            <a:xfrm>
              <a:off x="-39600" y="417348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4" name="组合 51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1245" name="TextBox 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6" name="TextBox 23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7" name="TextBox 2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8" name="TextBox 33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9" name="TextBox 38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0" name="TextBox 43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1" name="TextBox 48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2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TextBox 34">
            <a:hlinkClick r:id="rId2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TextBox 36">
            <a:hlinkClick r:id="rId3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TextBox 39">
            <a:hlinkClick r:id="rId4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TextBox 41">
            <a:hlinkClick r:id="rId5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TextBox 44">
            <a:hlinkClick r:id="rId6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TextBox 46">
            <a:hlinkClick r:id="rId7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TextBox 49">
            <a:hlinkClick r:id="rId8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0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261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矩形 10"/>
          <p:cNvSpPr/>
          <p:nvPr/>
        </p:nvSpPr>
        <p:spPr>
          <a:xfrm rot="19548000">
            <a:off x="-6787800" y="1281240"/>
            <a:ext cx="1014732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3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1264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5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6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7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8" name="TextBox 14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5" name="组合 27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1276" name="矩形 28"/>
            <p:cNvSpPr/>
            <p:nvPr/>
          </p:nvSpPr>
          <p:spPr>
            <a:xfrm>
              <a:off x="-20520" y="145080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7" name="矩形 29"/>
            <p:cNvSpPr/>
            <p:nvPr/>
          </p:nvSpPr>
          <p:spPr>
            <a:xfrm>
              <a:off x="-20520" y="19047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8" name="矩形 30"/>
            <p:cNvSpPr/>
            <p:nvPr/>
          </p:nvSpPr>
          <p:spPr>
            <a:xfrm>
              <a:off x="-20520" y="23587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9" name="矩形 31"/>
            <p:cNvSpPr/>
            <p:nvPr/>
          </p:nvSpPr>
          <p:spPr>
            <a:xfrm>
              <a:off x="-20520" y="2811240"/>
              <a:ext cx="3621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0" name="矩形 32"/>
            <p:cNvSpPr/>
            <p:nvPr/>
          </p:nvSpPr>
          <p:spPr>
            <a:xfrm>
              <a:off x="-20520" y="32655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1" name="矩形 33"/>
            <p:cNvSpPr/>
            <p:nvPr/>
          </p:nvSpPr>
          <p:spPr>
            <a:xfrm>
              <a:off x="-20520" y="37195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2" name="矩形 34"/>
            <p:cNvSpPr/>
            <p:nvPr/>
          </p:nvSpPr>
          <p:spPr>
            <a:xfrm>
              <a:off x="-39600" y="417348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3" name="组合 35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1284" name="TextBox 3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5" name="TextBox 37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6" name="TextBox 3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TextBox 39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8" name="TextBox 40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9" name="TextBox 41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0" name="TextBox 42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1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TextBox 52">
            <a:hlinkClick r:id="rId6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Box 53">
            <a:hlinkClick r:id="rId7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TextBox 54">
            <a:hlinkClick r:id="rId8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TextBox 55">
            <a:hlinkClick r:id="rId9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TextBox 56">
            <a:hlinkClick r:id="rId10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TextBox 57">
            <a:hlinkClick r:id="rId11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TextBox 58">
            <a:hlinkClick r:id="rId12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259" dur="750" fill="hold"/>
                                        <p:tgtEl>
                                          <p:spTgt spid="1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261" dur="750" fill="hold"/>
                                        <p:tgtEl>
                                          <p:spTgt spid="1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25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25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1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1" dur="25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25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277" dur="1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9" dur="25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25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285" dur="1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87" dur="25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25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293" dur="1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5" dur="25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25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301" dur="1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03" dur="25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25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309" dur="1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25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25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317" dur="1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9" dur="25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300" name="矩形 30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TextBox 5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2" name="组合 52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1303" name="矩形 12"/>
            <p:cNvSpPr/>
            <p:nvPr/>
          </p:nvSpPr>
          <p:spPr>
            <a:xfrm>
              <a:off x="-20520" y="145080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4" name="矩形 22"/>
            <p:cNvSpPr/>
            <p:nvPr/>
          </p:nvSpPr>
          <p:spPr>
            <a:xfrm>
              <a:off x="-20520" y="19047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5" name="矩形 27"/>
            <p:cNvSpPr/>
            <p:nvPr/>
          </p:nvSpPr>
          <p:spPr>
            <a:xfrm>
              <a:off x="-20520" y="23587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6" name="矩形 32"/>
            <p:cNvSpPr/>
            <p:nvPr/>
          </p:nvSpPr>
          <p:spPr>
            <a:xfrm>
              <a:off x="-20520" y="2811240"/>
              <a:ext cx="3621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7" name="矩形 37"/>
            <p:cNvSpPr/>
            <p:nvPr/>
          </p:nvSpPr>
          <p:spPr>
            <a:xfrm>
              <a:off x="-20520" y="32655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8" name="矩形 42"/>
            <p:cNvSpPr/>
            <p:nvPr/>
          </p:nvSpPr>
          <p:spPr>
            <a:xfrm>
              <a:off x="-20520" y="37195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9" name="矩形 47"/>
            <p:cNvSpPr/>
            <p:nvPr/>
          </p:nvSpPr>
          <p:spPr>
            <a:xfrm>
              <a:off x="-39600" y="417348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0" name="组合 51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1311" name="TextBox 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2" name="TextBox 23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3" name="TextBox 2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4" name="TextBox 33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5" name="TextBox 38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6" name="TextBox 43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7" name="TextBox 48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8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TextBox 34">
            <a:hlinkClick r:id="rId2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TextBox 36">
            <a:hlinkClick r:id="rId3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TextBox 39">
            <a:hlinkClick r:id="rId4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TextBox 41">
            <a:hlinkClick r:id="rId5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TextBox 44">
            <a:hlinkClick r:id="rId6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TextBox 46">
            <a:hlinkClick r:id="rId7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TextBox 49">
            <a:hlinkClick r:id="rId8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6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327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矩形 10"/>
          <p:cNvSpPr/>
          <p:nvPr/>
        </p:nvSpPr>
        <p:spPr>
          <a:xfrm rot="19548000">
            <a:off x="-6787800" y="1281240"/>
            <a:ext cx="1014732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9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1330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1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2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3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4" name="TextBox 14"/>
          <p:cNvSpPr/>
          <p:nvPr/>
        </p:nvSpPr>
        <p:spPr>
          <a:xfrm>
            <a:off x="-39600" y="5922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1" name="组合 27"/>
          <p:cNvGrpSpPr/>
          <p:nvPr/>
        </p:nvGrpSpPr>
        <p:grpSpPr>
          <a:xfrm>
            <a:off x="-39600" y="1450800"/>
            <a:ext cx="381240" cy="3098880"/>
            <a:chOff x="-39600" y="1450800"/>
            <a:chExt cx="381240" cy="3098880"/>
          </a:xfrm>
        </p:grpSpPr>
        <p:sp>
          <p:nvSpPr>
            <p:cNvPr id="1342" name="矩形 28"/>
            <p:cNvSpPr/>
            <p:nvPr/>
          </p:nvSpPr>
          <p:spPr>
            <a:xfrm>
              <a:off x="-20520" y="145080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3" name="矩形 29"/>
            <p:cNvSpPr/>
            <p:nvPr/>
          </p:nvSpPr>
          <p:spPr>
            <a:xfrm>
              <a:off x="-20520" y="19047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4" name="矩形 30"/>
            <p:cNvSpPr/>
            <p:nvPr/>
          </p:nvSpPr>
          <p:spPr>
            <a:xfrm>
              <a:off x="-20520" y="23587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5" name="矩形 31"/>
            <p:cNvSpPr/>
            <p:nvPr/>
          </p:nvSpPr>
          <p:spPr>
            <a:xfrm>
              <a:off x="-20520" y="2811240"/>
              <a:ext cx="3621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6" name="矩形 32"/>
            <p:cNvSpPr/>
            <p:nvPr/>
          </p:nvSpPr>
          <p:spPr>
            <a:xfrm>
              <a:off x="-20520" y="326556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7" name="矩形 33"/>
            <p:cNvSpPr/>
            <p:nvPr/>
          </p:nvSpPr>
          <p:spPr>
            <a:xfrm>
              <a:off x="-20520" y="371952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8" name="矩形 34"/>
            <p:cNvSpPr/>
            <p:nvPr/>
          </p:nvSpPr>
          <p:spPr>
            <a:xfrm>
              <a:off x="-39600" y="4173480"/>
              <a:ext cx="3621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9" name="组合 35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sp>
          <p:nvSpPr>
            <p:cNvPr id="1350" name="TextBox 36"/>
            <p:cNvSpPr/>
            <p:nvPr/>
          </p:nvSpPr>
          <p:spPr>
            <a:xfrm>
              <a:off x="-286920" y="13795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1" name="TextBox 37"/>
            <p:cNvSpPr/>
            <p:nvPr/>
          </p:nvSpPr>
          <p:spPr>
            <a:xfrm>
              <a:off x="-286920" y="18331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2" name="TextBox 38"/>
            <p:cNvSpPr/>
            <p:nvPr/>
          </p:nvSpPr>
          <p:spPr>
            <a:xfrm>
              <a:off x="-286920" y="22867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3" name="TextBox 39"/>
            <p:cNvSpPr/>
            <p:nvPr/>
          </p:nvSpPr>
          <p:spPr>
            <a:xfrm>
              <a:off x="-286920" y="274032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4" name="TextBox 40"/>
            <p:cNvSpPr/>
            <p:nvPr/>
          </p:nvSpPr>
          <p:spPr>
            <a:xfrm>
              <a:off x="-286920" y="31942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5" name="TextBox 41"/>
            <p:cNvSpPr/>
            <p:nvPr/>
          </p:nvSpPr>
          <p:spPr>
            <a:xfrm>
              <a:off x="-286920" y="36478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6" name="TextBox 42"/>
            <p:cNvSpPr/>
            <p:nvPr/>
          </p:nvSpPr>
          <p:spPr>
            <a:xfrm>
              <a:off x="-306360" y="4101480"/>
              <a:ext cx="8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7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TextBox 52">
            <a:hlinkClick r:id="rId6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TextBox 53">
            <a:hlinkClick r:id="rId7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TextBox 54">
            <a:hlinkClick r:id="rId8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TextBox 55">
            <a:hlinkClick r:id="rId9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TextBox 56">
            <a:hlinkClick r:id="rId10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TextBox 57">
            <a:hlinkClick r:id="rId11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TextBox 58">
            <a:hlinkClick r:id="rId12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326" dur="750" fill="hold"/>
                                        <p:tgtEl>
                                          <p:spTgt spid="1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328" dur="750" fill="hold"/>
                                        <p:tgtEl>
                                          <p:spTgt spid="1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25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25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1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38" dur="25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25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344" dur="1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46" dur="25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5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352" dur="1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54" dur="25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25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360" dur="1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62" dur="25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25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368" dur="1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0" dur="25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25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376" dur="1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25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25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384" dur="1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86" dur="25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05:50:44Z</dcterms:created>
  <dc:creator>微软中国</dc:creator>
  <dc:description/>
  <cp:keywords/>
  <dc:language>en-US</dc:language>
  <cp:lastModifiedBy>a</cp:lastModifiedBy>
  <dcterms:modified xsi:type="dcterms:W3CDTF">2014-07-21T06:43:45Z</dcterms:modified>
  <cp:revision>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