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B8737-BE86-44D4-8DB5-821600FBE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6F180-8151-4C94-9783-249C64B5B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D0201-06B1-43C9-B6DC-4EE82A630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2E42-1D75-4576-B077-263BF44EF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4BD40-8540-4418-9DFD-2004001D0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1FA5-84F9-46BA-A306-22578B0D9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D783-599B-4D87-9640-52BA4497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F70D-3C11-4840-A3A7-70EBA410A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E174-FABD-4636-97DF-8344199F2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FF86C-8863-4F4A-9FA2-38DCCE74C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91AAF-1C2C-405C-921F-B2C2DC4A5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553A7-D16C-4DA2-85D5-7E3C9880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jhg jgj hg jtytit "/>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89CFF692-7F23-410F-B13C-296C9E424BDE}"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BBBC-D87D-4E3A-9DBA-D7584D34F195}"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3F33-C80D-4B77-B96D-80C62D3FB1A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81" name="Picture 3" descr="ièji uyiuyiuyikjtu uk,yi"/>
          <p:cNvPicPr/>
          <p:nvPr/>
        </p:nvPicPr>
        <p:blipFill>
          <a:blip r:embed="rId2"/>
          <a:stretch/>
        </p:blipFill>
        <p:spPr>
          <a:xfrm>
            <a:off x="0" y="0"/>
            <a:ext cx="9144000" cy="6858000"/>
          </a:xfrm>
          <a:prstGeom prst="rect">
            <a:avLst/>
          </a:prstGeom>
          <a:ln w="0">
            <a:noFill/>
          </a:ln>
        </p:spPr>
      </p:pic>
      <p:sp>
        <p:nvSpPr>
          <p:cNvPr id="82" name="Text Box 4"/>
          <p:cNvSpPr/>
          <p:nvPr/>
        </p:nvSpPr>
        <p:spPr>
          <a:xfrm>
            <a:off x="2087640" y="189000"/>
            <a:ext cx="6877080" cy="1579320"/>
          </a:xfrm>
          <a:prstGeom prst="rect">
            <a:avLst/>
          </a:prstGeom>
          <a:noFill/>
          <a:ln w="0">
            <a:noFill/>
          </a:ln>
        </p:spPr>
        <p:style>
          <a:lnRef idx="0"/>
          <a:fillRef idx="0"/>
          <a:effectRef idx="0"/>
          <a:fontRef idx="minor"/>
        </p:style>
        <p:txBody>
          <a:bodyPr lIns="180000" rIns="180000" tIns="180000" bIns="180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852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1812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31T04:38:42Z</dcterms:modified>
  <cp:revision>2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