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001-9044-4BC4-97A5-2DDAB739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0DB-E874-4CD4-BAFB-641958A3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81E9A-E885-4A9A-B45A-681D3138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5F09F-2427-4547-8585-91F51BEF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208CD-F44C-42A7-9320-12C66D10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45ED7-67F6-4AAB-B8C9-29988D79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B293E-EAE9-46D0-83B4-380A6787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410CC-D718-44ED-B2E2-9870738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B3283-5CF7-4E53-B5F1-2B0825DA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DE7E8-00A3-480F-A19C-D49A1E6D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47300-B50C-4837-AC73-26C1D70E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6C008-017A-47BF-85B0-6784015B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C4A-5A4C-4DCF-86A1-AC4B37D5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1EBF5-E327-4DF4-A4BB-906EEC70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D2ABB-7093-46A6-9CC1-E71EDD62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8B846-B379-4686-B187-F25525C3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308D9-DFC0-4238-9BAD-6DEF58DE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C46DF-C1ED-4940-8E06-2680DAFC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2AB56-491D-4535-9422-6F69129B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A3EEC-F218-4A82-AC6F-8F81D47F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CE1EC-6572-41EE-A533-760752DC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4A7C6-FE7E-4663-9CEC-0A5C875D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CE71D-D0A6-4414-AD4B-42531E02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36B-4B11-49FD-8832-8ED3FA0E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0419F-EF56-4D4B-B54C-05C03AF9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4658A-13DA-47A8-968F-B18FE6CE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28FA2-C1DD-48A7-A118-DFE1DB8B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2BA90-742D-4F4C-A8EE-23F373F6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70AB5-9BD3-440B-9DF4-BFD463A2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BC1DE-8ED5-446D-ACA2-CE241C41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246F2-911C-48F0-AE83-9083E602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FA750-1567-48D5-AE00-5B4642F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86FF0-DAEF-4F08-8B1C-7350B94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33AD2-69A6-48D4-B160-2EC4EDAF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51AB-A92B-484A-9F18-CF15D1F4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61583-AEE5-4D22-94DC-ABF4B91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7881A-CDBC-4C27-A3B2-729EB24A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E0E0E-5D68-4A08-A558-0E1BC1A6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EE088-63F1-4C86-8FAF-C3693B28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97CB4-0CFB-4094-86BF-88DA58C0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14807-9BA0-4818-99C5-D0C6BF45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99FD0-D855-4C08-B098-B44D1650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6AD92-C69C-4E04-B514-E3A15BAB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6D5E9-3451-4306-B10E-EE20668E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CEDC5-D2DA-4881-B81C-804B0FE4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3BC1-B493-4CC9-895D-672145D6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69CB8-ACB5-4225-878D-B61FC573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A76EE-16C3-458F-A7DC-82D99B0F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F95E4-6015-4B5B-B889-8058DBBB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CB073-ACCB-4223-9029-496D509B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40F82-0296-48AB-9064-DAD25FBD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09AC2-E8AB-4FD0-806A-D5B998B1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5F870-035F-4C05-B2F1-6B8B1BF0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5BD6D-7FFC-44D3-9CEE-8AC93D16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2E887-9CE2-4ED2-8AD0-CDEC00BF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B1BA4-77AD-41AE-910C-A274AAAB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918A-941E-4F46-9684-71425DD7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6E241-6403-4B23-A882-837724E3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42726-8861-424B-8889-19490DA6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CCD03-552A-4CBB-9B7E-1EB29896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C70C0-3FBA-4499-B8F9-B6BB96F6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74F2C-B2BC-4824-867D-51ADD1F7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F1AFF-6204-4002-BC4D-55418FEA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FEA65-641E-4632-A394-190FB5CD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1111A-7470-49E2-82F0-DA0D5F77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220B0-FB98-4814-9C62-EB5F2AE2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82A3F-924E-4CC4-B858-09031714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0768-721F-4A67-917A-7CB88B84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07826-FB4F-4047-B011-DC57C155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3229C-D94B-4A40-94EE-8DA3246C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1EE16-CA6A-45C2-95E6-3D916BE0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812DF-F412-4F7E-8359-76F7ABC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49627-F7D1-4DEC-996A-4CC052FC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F91D3-F317-4779-9EFF-BEE6A630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02EEB-EC98-4F08-BFA0-A22116F8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EB7DC-B3E4-4FE3-A95D-D18AE9F5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750BB-0750-41F4-B6A9-4B982278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FF8DC-9B51-4B3C-8900-31C8EA8F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500F-4D33-48E4-9CB7-EBA4F53B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27B8B-B74B-4467-9A95-9652E0AB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5154B-369F-4856-B34E-4C5EF9AE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6FD5B-F1D5-4AFF-96E1-A73EBB56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5BCDC-5811-4900-B717-0A9347AF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E5E71-7ADA-4A76-BB2F-E86E6237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C461E-07F3-401B-B9FE-810C89E7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B8ECE-30F7-42CC-9F66-AD2000C9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E00D3-A503-48A6-AFAC-59B5C3C4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8F1EA-7EFF-49D5-8ABC-FDA53D1D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AB075-67C0-48B8-BF90-32C2314D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05F3-A051-4F01-B825-E00BC02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5254C-0D60-4547-AAD2-9079056E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8EB25-3DC0-4DA1-8573-2A76302F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3AB4F-8F38-48B1-A7BB-74515656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1DC73F-9EA1-4233-84BE-82247025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836E6-1D68-4691-871B-8ED03364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3846D-5830-45DA-AB42-53982FF6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F90B1-A942-4A65-86F3-65949282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2E6EB-D72C-44C1-8D78-73345438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5AE1F-9C5B-446D-9122-28E6AD6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22041-F287-4F12-875C-50AC9FA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C2CC-CBC4-4575-9B83-AE5BB06B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7ED59-5D94-4B3E-8457-9C718C74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88173-766B-47EA-8DCD-CB96BB10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465038-022E-43B8-8D31-5AFD24F7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FBE9BE-0D71-4A55-8D37-53B317A7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27504-F366-46AE-B23E-C69CBAF9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59B161-D787-4400-97E4-EB324B57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6E01E2-CC99-454F-AC71-D9C56C8F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C32587-22F0-46A9-848E-D6247CD0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6242F-A8DC-4EAC-91C2-837A94DD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3353C-DB8F-487B-8D9C-EBDB3E4F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88D-61E6-43C9-99DF-B436CA8B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7404-E84B-4897-B2D4-56F4360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6D7EE4-9AC6-41C2-8523-3917040D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A8787-0607-4565-934A-7108521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C1C62-CF0B-42FD-837F-B6B816C7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9CA96-2D92-4B52-B662-A6899030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AEAF1-28EF-4610-A263-443EE8ED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7CE3D-72A0-4FB9-81E2-FE91798A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9E42F-058F-4E86-9355-505096E6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3CC25-474A-43D5-9DD4-DFA8F35D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A48A1-02DE-482B-BDB1-0A046F78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DEF6B-7379-406D-9C49-369C0D7C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488D-0855-4237-8FC1-8F73F9B3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3A6E4-663E-4305-9444-E4BC4BF3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5408A4-9A68-461F-AE5A-6D3EEEAF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3740F-B883-467B-97C7-9AE1C80C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E8281-3CF3-424D-A7EA-8AB8A36D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78272-C4A0-4E8F-99EF-021CF072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F6696-8FBE-43A9-97A4-93340F70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EFFD8-2D3B-47B7-880D-5CA84190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556C96-3685-4E05-9F3B-3F59AA28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80D53E-9CB5-4DC3-8AA5-315AAED9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2C746-FCD3-4068-86D8-862D05C7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5F3D-0360-4C1B-B632-95FC47A4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52108-3FD6-4251-883B-4E10C5CF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9C2801-65E0-4955-9502-E6E2422E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A1F86-6ACF-4B14-A9A1-AEA1C9CF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0126F7-2C68-4C16-9DF9-FBAEFEF6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9F95D-5271-47DF-A8D4-A45424FA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E19FE-1A0E-4B97-B547-034977B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DC14E-3C53-4C0F-ADC0-CD49AA40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74318E-4BB0-4934-BA43-8FA56973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845C18-B496-4F00-A21D-E7B2876D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391B0-C4D8-4A02-8AF4-583F362B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9E7D-EA9F-4AE4-89AD-3D46CD13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EDBDA4-4795-4E99-8E20-E6F8E9F9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B6DB9-9E52-4B75-A467-B409F62A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422F0E-355E-4CB0-8F84-0771891D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F5ECE-EE00-4A70-AEFC-B63D2CFD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C1869-8684-4A09-8766-728381D2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82EE83-4FE1-4E11-9709-C229C1F2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06B68-5E23-46A9-92FC-E56FE0E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906FB-0879-4BBD-8843-EAF2A48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A1EC20-6831-4B73-9E8C-754BD7DC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C5D7D-79ED-4A8F-88EB-7D4D1187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2DDD-369B-4D49-8D27-BE0CCDEB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170BD5-D098-49FD-AB48-CF0FA9FB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92732-ECA1-46ED-BDEA-87318BD6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1A8C75-A478-4B02-A8C8-FBA2DEA1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A18B6-EFB6-4C56-969C-08EC0CD2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919283-C26A-4A1E-AD8B-FB823AD5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D0C5E-14F3-42A7-B11D-43259FCE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5288E4-8F62-46FB-A001-E47679BD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20BF22-32F1-44E6-ACFC-5DACDF5A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0F3E6-C5CA-48CA-9F67-2DE707D5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DB06B8-EB40-486A-B2B0-ED8F214D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D58D-E382-48D4-AD18-695CA9C6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C91C7-0D94-40BD-BDB3-BCE4E888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7E2A6-8B8E-44C2-B359-C4684ABB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2AECD8-3190-4BF7-A247-869A4D51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5469-C8C6-4A10-B4E1-07705247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E460E-B2B6-43CC-8858-08E61F7E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0127B-C87E-4B66-87EF-71D58FEE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0191A-E95B-49D0-9DDB-CFFF2CDF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D0A-76DC-4B0F-A53B-FB076FD3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A425-61BF-49B3-A9B3-92D6E8F3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FADD-1C7B-4346-BFA1-C1804954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6B3A-850D-4580-9FE5-13F5BA4A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1A244-752A-4B91-BCCE-6737400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FA00-E208-480B-A8D1-37870032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F1D8-182D-4C96-AD63-F457C588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1E985-1ADB-4412-A107-53542683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90AB-EAB4-4222-B2B1-B6EE3B47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CBFC0-895C-4597-9542-4457D4F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A164-7A10-406C-B0A9-64F419C9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DBE-EC85-4324-B9CF-0FCA4DEA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35D9-820B-4F55-B09A-6F6322E2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6F42-DF42-469C-96EC-12D9406A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6B09-E84C-4179-932C-44FBEDBF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ECF14-37F2-41CC-938F-75ACC11D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21FF-D702-4CF1-9730-11804BF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9648-D77D-4F75-AABF-4BA9E33A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70C4-C9B5-4D05-A2BD-B79AD7F6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8B58-46B9-4C42-9D22-C04D5AE2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89523-5B6B-4CB9-87AF-01240A76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85DF-4A4A-4B8A-BC5C-B2450C71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A56-F442-41B4-94F1-5DFC30A1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62345-9FB9-4354-9178-E7C85CEA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08702-2C12-44A1-A583-BC589FE3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7A257-8749-4675-ABF8-95D39DA9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AB88F-BA0D-49AC-B053-B5A7A41C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3CC6-C752-4391-89B8-7301F0E6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5A15B-B22C-4322-BCC5-1C1590E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206B1-F281-42DB-A5BE-4C2C1ACA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243E-A124-4A8B-BFDA-C9C33741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215F-036B-44C7-966B-38650DAB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6112F-AF44-48C9-A63B-B2DFBC36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912-2F5C-4F01-A5C2-177E019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BA2E9-40AB-4D43-B5B4-5A2D54E9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BC2CD-DDD6-417C-8425-E76C3E90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E2339-7827-46FA-9357-586FD1A9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4F631-1783-4232-8459-FAFE73D6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A3839-C756-4B47-B852-1738C83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C2C88-4DFA-49E3-869E-6F66A79D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F3D99-0E30-41F9-B3FC-DCAC0B2B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86329-BB72-4530-B78A-010F27C4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964C-294A-4064-A494-C3A204C5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006E8-D434-4004-A868-1B8449ED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EB1-BB95-4A61-8F9D-77308816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F17CC-A563-4B85-B38B-3FB839B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C2D92-754B-47D3-BF92-CF123585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BB954-F555-423E-9D25-1C86304A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EF576-4CFC-4BBE-9657-4AE38AA3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07D2-DF14-4459-A9D2-99FF45B0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339D5-B713-4B22-BA89-03B230BD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CF27A-E796-412E-B0C8-FA701FAF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F1865-AA43-4E6D-B266-22A8E077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7C753-8348-4242-A27A-45C5FAF2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D9149-5BFF-4986-841F-B4FFF202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03F-7D4F-4BFA-9D6F-B5F2A3C2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9CE14-6A63-48C2-BA6E-20AA484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1B4A2-40FF-4E84-999C-FE5161E3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6DD42-2669-443E-9630-D0EBB18F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718AF-6767-4E36-8596-762A16AB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48510-1EFD-4C8F-9C83-EB12AE80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1DCBE-422E-400F-B122-C7BA9CC6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32EC3-4773-45D2-BBB9-DF3B9FBD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1EA4E-FD94-4700-B8EB-011F18EE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EB60A-E722-47DC-996F-F185AC4E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D75E7-5F8D-4CCF-A0EF-8F2A7C4E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7C4-B36E-4C71-8494-0A3E3E5D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3F61F-4239-4843-8111-129D25C6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35983-CFC0-49FB-89DF-3BE5407A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3B661-4DA1-408F-A8F0-24963AA6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47BC8-A7ED-4EA8-916A-72B763C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98550-818A-4523-AEC4-8589B40A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53663-4E9E-4164-A1ED-CD1159EA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607B-AB49-476A-A343-9D7B401F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A2F00-80F4-4ED5-BA12-822013DA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6FA09-1585-4FD9-B278-2F50D159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405E4-546A-4490-BE3F-1E7EDC86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5140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B7B3-F1B2-4F04-BD8D-EBFB71B7F7D6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2"/>
            <p:cNvSpPr/>
            <p:nvPr/>
          </p:nvSpPr>
          <p:spPr>
            <a:xfrm>
              <a:off x="5140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5"/>
            <p:cNvSpPr/>
            <p:nvPr/>
          </p:nvSpPr>
          <p:spPr>
            <a:xfrm>
              <a:off x="51408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81E8-2D8F-47BF-A65A-2FB7BE0471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38E1-EEF5-4150-BE1C-D3D3E9418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EBE9-3696-4F45-97AA-1B202EE4A6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C427-945C-445B-A1F1-587A9C792F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1F0E-E91A-40E5-8C15-78F127C7FB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20C8-165F-434D-8DAE-39BBEBA072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D66E-8A65-4839-B1F4-FF23F1F944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766C-9A23-4978-BE0A-316C57AE74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7001-C156-45DD-9AE2-F14C1312D86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9276-8D43-46BD-B3FF-C5FDB6E7BC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C5AF-DB66-4559-8A51-6BDD2D144B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4D8-9634-47F2-8554-162D398B0D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0592-D3DF-4E13-8694-A58F448E96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E298-FE49-4C8E-B5B6-58554DF377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2D55-F124-479B-A239-EBDDDD5456F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DBCA-251B-4ADD-840E-031DC23FCF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2ED0-E774-4F0C-AF74-5D61FAC950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C1BC-7831-4BC5-9182-6D88E8726D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C6FD-F154-4EAF-A3BF-F58B2DDD88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3DB1-FBBA-427D-8043-0B1030CE54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4"/>
            <p:cNvSpPr/>
            <p:nvPr/>
          </p:nvSpPr>
          <p:spPr>
            <a:xfrm>
              <a:off x="51408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6939-B3D5-4339-9352-417911816F79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60C6-B3A9-4BAD-8512-5A0D549AF6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CA38-C562-428E-82BD-8352099B5D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5F7A-FB1E-4743-841A-2B02FE0818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3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B5DE-0C01-4D7C-9027-953B3E8522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5140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Group 5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7"/>
            <p:cNvSpPr/>
            <p:nvPr/>
          </p:nvSpPr>
          <p:spPr>
            <a:xfrm>
              <a:off x="5140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0"/>
            <p:cNvSpPr/>
            <p:nvPr/>
          </p:nvSpPr>
          <p:spPr>
            <a:xfrm>
              <a:off x="51408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DDC7-E5D6-4708-9D5B-E95E1BEFE62C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"/>
            <p:cNvSpPr/>
            <p:nvPr/>
          </p:nvSpPr>
          <p:spPr>
            <a:xfrm>
              <a:off x="51408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AFAE-2ADC-4F23-81C4-C3E11CD0C502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4"/>
            <p:cNvSpPr/>
            <p:nvPr/>
          </p:nvSpPr>
          <p:spPr>
            <a:xfrm>
              <a:off x="51408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7141-F903-4FED-AF13-35C7418F6B22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91F8-67D5-46CC-AB5D-3EB2F36E38EE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4"/>
            <p:cNvSpPr/>
            <p:nvPr/>
          </p:nvSpPr>
          <p:spPr>
            <a:xfrm>
              <a:off x="51408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92BC-B67D-4359-8651-29E67D7EA1D1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2F28-4816-48FA-942E-1C4CC582EAC8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F461-51C8-4796-81D7-6AC91BAA558D}" type="slidenum">
              <a:rPr b="0" lang="zh-CN" sz="1200" spc="-1" strike="noStrike">
                <a:solidFill>
                  <a:srgbClr val="d38e27"/>
                </a:solidFill>
                <a:latin typeface="Times New Roman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标题 6" descr=""/>
          <p:cNvPicPr/>
          <p:nvPr/>
        </p:nvPicPr>
        <p:blipFill>
          <a:blip r:embed="rId2"/>
          <a:stretch/>
        </p:blipFill>
        <p:spPr>
          <a:xfrm>
            <a:off x="463680" y="4591080"/>
            <a:ext cx="79912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14" descr="篮球2.JPG"/>
          <p:cNvPicPr/>
          <p:nvPr/>
        </p:nvPicPr>
        <p:blipFill>
          <a:blip r:embed="rId2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  <p:pic>
        <p:nvPicPr>
          <p:cNvPr id="974" name="标题 2" descr=""/>
          <p:cNvPicPr/>
          <p:nvPr/>
        </p:nvPicPr>
        <p:blipFill>
          <a:blip r:embed="rId3"/>
          <a:stretch/>
        </p:blipFill>
        <p:spPr>
          <a:xfrm>
            <a:off x="0" y="433440"/>
            <a:ext cx="899172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5" name=""/>
          <p:cNvGraphicFramePr/>
          <p:nvPr/>
        </p:nvGraphicFramePr>
        <p:xfrm>
          <a:off x="1619280" y="1773360"/>
          <a:ext cx="5977080" cy="3095640"/>
        </p:xfrm>
        <a:graphic>
          <a:graphicData uri="http://schemas.openxmlformats.org/drawingml/2006/table">
            <a:tbl>
              <a:tblPr/>
              <a:tblGrid>
                <a:gridCol w="1068480"/>
                <a:gridCol w="1066680"/>
                <a:gridCol w="720720"/>
                <a:gridCol w="1851120"/>
                <a:gridCol w="1270080"/>
              </a:tblGrid>
              <a:tr h="309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华文楷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单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row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本物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球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哨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记分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急救箱物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冠军奖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亚军奖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横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小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6" name="TextBox 5"/>
          <p:cNvSpPr/>
          <p:nvPr/>
        </p:nvSpPr>
        <p:spPr>
          <a:xfrm>
            <a:off x="1547640" y="1341360"/>
            <a:ext cx="11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位：元）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14" descr="篮球2.JPG"/>
          <p:cNvPicPr/>
          <p:nvPr/>
        </p:nvPicPr>
        <p:blipFill>
          <a:blip r:embed="rId2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  <p:pic>
        <p:nvPicPr>
          <p:cNvPr id="978" name="标题 2" descr=""/>
          <p:cNvPicPr/>
          <p:nvPr/>
        </p:nvPicPr>
        <p:blipFill>
          <a:blip r:embed="rId3"/>
          <a:stretch/>
        </p:blipFill>
        <p:spPr>
          <a:xfrm>
            <a:off x="0" y="457200"/>
            <a:ext cx="8991720" cy="102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9" name=""/>
          <p:cNvGraphicFramePr/>
          <p:nvPr/>
        </p:nvGraphicFramePr>
        <p:xfrm>
          <a:off x="1692360" y="1844640"/>
          <a:ext cx="5904000" cy="2879640"/>
        </p:xfrm>
        <a:graphic>
          <a:graphicData uri="http://schemas.openxmlformats.org/drawingml/2006/table">
            <a:tbl>
              <a:tblPr/>
              <a:tblGrid>
                <a:gridCol w="890640"/>
                <a:gridCol w="890280"/>
                <a:gridCol w="1057320"/>
                <a:gridCol w="947880"/>
                <a:gridCol w="1057320"/>
                <a:gridCol w="1060560"/>
              </a:tblGrid>
              <a:tr h="735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赛费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单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量（每场比赛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场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额（元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场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暂未列入计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裁判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保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小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0" name="TextBox 5"/>
          <p:cNvSpPr/>
          <p:nvPr/>
        </p:nvSpPr>
        <p:spPr>
          <a:xfrm>
            <a:off x="1547640" y="1341360"/>
            <a:ext cx="11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位：元）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14" descr="篮球2.JPG"/>
          <p:cNvPicPr/>
          <p:nvPr/>
        </p:nvPicPr>
        <p:blipFill>
          <a:blip r:embed="rId2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  <p:pic>
        <p:nvPicPr>
          <p:cNvPr id="982" name="标题 2" descr=""/>
          <p:cNvPicPr/>
          <p:nvPr/>
        </p:nvPicPr>
        <p:blipFill>
          <a:blip r:embed="rId3"/>
          <a:stretch/>
        </p:blipFill>
        <p:spPr>
          <a:xfrm>
            <a:off x="0" y="457200"/>
            <a:ext cx="8991720" cy="102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3" name=""/>
          <p:cNvGraphicFramePr/>
          <p:nvPr/>
        </p:nvGraphicFramePr>
        <p:xfrm>
          <a:off x="1547640" y="1700280"/>
          <a:ext cx="6048720" cy="3457440"/>
        </p:xfrm>
        <a:graphic>
          <a:graphicData uri="http://schemas.openxmlformats.org/drawingml/2006/table">
            <a:tbl>
              <a:tblPr/>
              <a:tblGrid>
                <a:gridCol w="930600"/>
                <a:gridCol w="930240"/>
                <a:gridCol w="987480"/>
                <a:gridCol w="988920"/>
                <a:gridCol w="1104840"/>
                <a:gridCol w="1106640"/>
              </a:tblGrid>
              <a:tr h="865080">
                <a:tc row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英格玛队费用及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单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量（每场比赛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场次（以进入决赛计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 额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运动员、拉拉队交通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工作人员交通费（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名计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拉拉队道具（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名拉拉队计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小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4" name="TextBox 6"/>
          <p:cNvSpPr/>
          <p:nvPr/>
        </p:nvSpPr>
        <p:spPr>
          <a:xfrm>
            <a:off x="1547640" y="1341360"/>
            <a:ext cx="11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位：元）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14" descr="篮球2.JPG"/>
          <p:cNvPicPr/>
          <p:nvPr/>
        </p:nvPicPr>
        <p:blipFill>
          <a:blip r:embed="rId2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  <p:pic>
        <p:nvPicPr>
          <p:cNvPr id="986" name="标题 2" descr=""/>
          <p:cNvPicPr/>
          <p:nvPr/>
        </p:nvPicPr>
        <p:blipFill>
          <a:blip r:embed="rId3"/>
          <a:stretch/>
        </p:blipFill>
        <p:spPr>
          <a:xfrm>
            <a:off x="0" y="433440"/>
            <a:ext cx="899172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7" name=""/>
          <p:cNvGraphicFramePr/>
          <p:nvPr/>
        </p:nvGraphicFramePr>
        <p:xfrm>
          <a:off x="1403280" y="1989000"/>
          <a:ext cx="6264360" cy="2160720"/>
        </p:xfrm>
        <a:graphic>
          <a:graphicData uri="http://schemas.openxmlformats.org/drawingml/2006/table">
            <a:tbl>
              <a:tblPr/>
              <a:tblGrid>
                <a:gridCol w="1567080"/>
                <a:gridCol w="1565280"/>
                <a:gridCol w="1566720"/>
                <a:gridCol w="1565280"/>
              </a:tblGrid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赛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赛场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场地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第一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小组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第二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小组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第三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小组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第四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半决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第五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决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图片 14" descr="篮球2.JPG"/>
          <p:cNvPicPr/>
          <p:nvPr/>
        </p:nvPicPr>
        <p:blipFill>
          <a:blip r:embed="rId2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  <p:pic>
        <p:nvPicPr>
          <p:cNvPr id="989" name="标题 2" descr="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101268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 txBox="1"/>
          <p:nvPr/>
        </p:nvSpPr>
        <p:spPr>
          <a:xfrm>
            <a:off x="539640" y="1197000"/>
            <a:ext cx="45468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华文楷体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每队参赛队员为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人；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每队参与的比赛最多为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场（进入决赛），最少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场（未出小组赛）；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各参赛队伍应选出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队长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名，负责全队比赛事项。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后勤队长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人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名，负责后勤事项；以及各自的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啦啦队伍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91" name="图片 7" descr="1.jpg"/>
          <p:cNvPicPr/>
          <p:nvPr/>
        </p:nvPicPr>
        <p:blipFill>
          <a:blip r:embed="rId4"/>
          <a:stretch/>
        </p:blipFill>
        <p:spPr>
          <a:xfrm>
            <a:off x="5148360" y="1989000"/>
            <a:ext cx="31096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Picture 2" descr="E:\系统桌面收藏夹我的文档\桌面\PPT模板\yanlogo214\yanlogo214\Bascetball  (2).jpg"/>
          <p:cNvPicPr/>
          <p:nvPr/>
        </p:nvPicPr>
        <p:blipFill>
          <a:blip r:embed="rId2"/>
          <a:stretch/>
        </p:blipFill>
        <p:spPr>
          <a:xfrm>
            <a:off x="539640" y="1413000"/>
            <a:ext cx="3168720" cy="4403520"/>
          </a:xfrm>
          <a:prstGeom prst="rect">
            <a:avLst/>
          </a:prstGeom>
          <a:ln w="0">
            <a:noFill/>
          </a:ln>
        </p:spPr>
      </p:pic>
      <p:pic>
        <p:nvPicPr>
          <p:cNvPr id="993" name="矩形 10" descr=""/>
          <p:cNvPicPr/>
          <p:nvPr/>
        </p:nvPicPr>
        <p:blipFill>
          <a:blip r:embed="rId3"/>
          <a:stretch/>
        </p:blipFill>
        <p:spPr>
          <a:xfrm>
            <a:off x="2414520" y="2530440"/>
            <a:ext cx="56390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99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标题 15" descr=""/>
          <p:cNvPicPr/>
          <p:nvPr/>
        </p:nvPicPr>
        <p:blipFill>
          <a:blip r:embed="rId2"/>
          <a:stretch/>
        </p:blipFill>
        <p:spPr>
          <a:xfrm>
            <a:off x="0" y="457200"/>
            <a:ext cx="8991720" cy="102384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 txBox="1"/>
          <p:nvPr/>
        </p:nvSpPr>
        <p:spPr>
          <a:xfrm>
            <a:off x="395280" y="2133360"/>
            <a:ext cx="3168720" cy="23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华文楷体"/>
              </a:rPr>
              <a:t>	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为丰富员工生活，锻造一流团队，加强企业沟通，倡导健康生活，特举办本活动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华文楷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dobe 明體 Std L"/>
                <a:ea typeface="Adobe 明體 Std L"/>
              </a:rPr>
              <a:t>激情夏日，火热对抗！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4" name="TextBox 17"/>
          <p:cNvSpPr/>
          <p:nvPr/>
        </p:nvSpPr>
        <p:spPr>
          <a:xfrm>
            <a:off x="2050920" y="836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95" name="Picture 6" descr="E:\系统桌面收藏夹我的文档\桌面\fegnmian.jpg"/>
          <p:cNvPicPr/>
          <p:nvPr/>
        </p:nvPicPr>
        <p:blipFill>
          <a:blip r:embed="rId3"/>
          <a:stretch/>
        </p:blipFill>
        <p:spPr>
          <a:xfrm>
            <a:off x="3693960" y="1125360"/>
            <a:ext cx="5450040" cy="604872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8" descr=""/>
          <p:cNvPicPr/>
          <p:nvPr/>
        </p:nvPicPr>
        <p:blipFill>
          <a:blip r:embed="rId4"/>
          <a:stretch/>
        </p:blipFill>
        <p:spPr>
          <a:xfrm rot="19450800">
            <a:off x="3882600" y="1998360"/>
            <a:ext cx="3098880" cy="1104840"/>
          </a:xfrm>
          <a:prstGeom prst="rect">
            <a:avLst/>
          </a:prstGeom>
          <a:ln w="0">
            <a:noFill/>
          </a:ln>
        </p:spPr>
      </p:pic>
      <p:pic>
        <p:nvPicPr>
          <p:cNvPr id="897" name="图片 16" descr="篮球2.JPG"/>
          <p:cNvPicPr/>
          <p:nvPr/>
        </p:nvPicPr>
        <p:blipFill>
          <a:blip r:embed="rId5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标题 15" descr=""/>
          <p:cNvPicPr/>
          <p:nvPr/>
        </p:nvPicPr>
        <p:blipFill>
          <a:blip r:embed="rId2"/>
          <a:stretch/>
        </p:blipFill>
        <p:spPr>
          <a:xfrm>
            <a:off x="0" y="433440"/>
            <a:ext cx="8991720" cy="101124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3b3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参 赛 队 伍：英格玛等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支队伍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时       间：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—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赛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制：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人全场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40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分钟制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上下半场各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20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分钟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中场休息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分钟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0" name="TextBox 17"/>
          <p:cNvSpPr/>
          <p:nvPr/>
        </p:nvSpPr>
        <p:spPr>
          <a:xfrm>
            <a:off x="2050920" y="836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01" name="图片 14" descr="篮球2.JPG"/>
          <p:cNvPicPr/>
          <p:nvPr/>
        </p:nvPicPr>
        <p:blipFill>
          <a:blip r:embed="rId3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Line 10"/>
          <p:cNvSpPr/>
          <p:nvPr/>
        </p:nvSpPr>
        <p:spPr>
          <a:xfrm flipV="1">
            <a:off x="6408720" y="3384360"/>
            <a:ext cx="1440" cy="7808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3" name="Line 7"/>
          <p:cNvSpPr/>
          <p:nvPr/>
        </p:nvSpPr>
        <p:spPr>
          <a:xfrm flipH="1">
            <a:off x="3600000" y="2567160"/>
            <a:ext cx="3240" cy="779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0" y="836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5" name="TextBox 17"/>
          <p:cNvSpPr/>
          <p:nvPr/>
        </p:nvSpPr>
        <p:spPr>
          <a:xfrm>
            <a:off x="2050920" y="836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06" name="图片 14" descr="篮球2.JPG"/>
          <p:cNvPicPr/>
          <p:nvPr/>
        </p:nvPicPr>
        <p:blipFill>
          <a:blip r:embed="rId2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  <p:sp>
        <p:nvSpPr>
          <p:cNvPr id="907" name="Line 10"/>
          <p:cNvSpPr/>
          <p:nvPr/>
        </p:nvSpPr>
        <p:spPr>
          <a:xfrm flipV="1">
            <a:off x="5040360" y="3384360"/>
            <a:ext cx="1440" cy="7808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8" name="Line 13"/>
          <p:cNvSpPr/>
          <p:nvPr/>
        </p:nvSpPr>
        <p:spPr>
          <a:xfrm>
            <a:off x="189000" y="3376440"/>
            <a:ext cx="8915400" cy="0"/>
          </a:xfrm>
          <a:prstGeom prst="line">
            <a:avLst/>
          </a:prstGeom>
          <a:ln w="101520">
            <a:solidFill>
              <a:srgbClr val="285e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9" name="Line 14"/>
          <p:cNvSpPr/>
          <p:nvPr/>
        </p:nvSpPr>
        <p:spPr>
          <a:xfrm flipH="1">
            <a:off x="7919640" y="2567160"/>
            <a:ext cx="3240" cy="7808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0" name="AutoShape 17"/>
          <p:cNvSpPr/>
          <p:nvPr/>
        </p:nvSpPr>
        <p:spPr>
          <a:xfrm>
            <a:off x="179280" y="1844640"/>
            <a:ext cx="1297080" cy="676440"/>
          </a:xfrm>
          <a:prstGeom prst="roundRect">
            <a:avLst>
              <a:gd name="adj" fmla="val 13005"/>
            </a:avLst>
          </a:prstGeom>
          <a:solidFill>
            <a:srgbClr val="b5b5b6">
              <a:alpha val="10000"/>
            </a:srgbClr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1" name="Line 18"/>
          <p:cNvSpPr/>
          <p:nvPr/>
        </p:nvSpPr>
        <p:spPr>
          <a:xfrm flipH="1">
            <a:off x="791640" y="2565360"/>
            <a:ext cx="3240" cy="779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2" name="TextBox 57"/>
          <p:cNvSpPr/>
          <p:nvPr/>
        </p:nvSpPr>
        <p:spPr>
          <a:xfrm>
            <a:off x="179280" y="1873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比赛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队伍入场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913" name="Group 13"/>
          <p:cNvGrpSpPr/>
          <p:nvPr/>
        </p:nvGrpSpPr>
        <p:grpSpPr>
          <a:xfrm>
            <a:off x="7812000" y="3240000"/>
            <a:ext cx="244440" cy="244440"/>
            <a:chOff x="7812000" y="3240000"/>
            <a:chExt cx="244440" cy="244440"/>
          </a:xfrm>
        </p:grpSpPr>
        <p:sp>
          <p:nvSpPr>
            <p:cNvPr id="914" name="Oval 139"/>
            <p:cNvSpPr/>
            <p:nvPr/>
          </p:nvSpPr>
          <p:spPr>
            <a:xfrm>
              <a:off x="7812000" y="3240000"/>
              <a:ext cx="244440" cy="244440"/>
            </a:xfrm>
            <a:prstGeom prst="ellipse">
              <a:avLst/>
            </a:prstGeom>
            <a:solidFill>
              <a:srgbClr val="f9b6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15" name="Oval 140"/>
            <p:cNvSpPr/>
            <p:nvPr/>
          </p:nvSpPr>
          <p:spPr>
            <a:xfrm>
              <a:off x="7878240" y="33062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16" name="Group 16"/>
          <p:cNvGrpSpPr/>
          <p:nvPr/>
        </p:nvGrpSpPr>
        <p:grpSpPr>
          <a:xfrm>
            <a:off x="6300720" y="3240000"/>
            <a:ext cx="244440" cy="244440"/>
            <a:chOff x="6300720" y="3240000"/>
            <a:chExt cx="244440" cy="244440"/>
          </a:xfrm>
        </p:grpSpPr>
        <p:sp>
          <p:nvSpPr>
            <p:cNvPr id="917" name="Oval 139"/>
            <p:cNvSpPr/>
            <p:nvPr/>
          </p:nvSpPr>
          <p:spPr>
            <a:xfrm>
              <a:off x="6300720" y="324000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18" name="Oval 140"/>
            <p:cNvSpPr/>
            <p:nvPr/>
          </p:nvSpPr>
          <p:spPr>
            <a:xfrm>
              <a:off x="6366960" y="33062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19" name="AutoShape 17"/>
          <p:cNvSpPr/>
          <p:nvPr/>
        </p:nvSpPr>
        <p:spPr>
          <a:xfrm>
            <a:off x="1332000" y="4221000"/>
            <a:ext cx="1439640" cy="503280"/>
          </a:xfrm>
          <a:prstGeom prst="roundRect">
            <a:avLst>
              <a:gd name="adj" fmla="val 13005"/>
            </a:avLst>
          </a:prstGeom>
          <a:solidFill>
            <a:srgbClr val="b5b5b6">
              <a:alpha val="10000"/>
            </a:srgbClr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0" name="TextBox 57"/>
          <p:cNvSpPr/>
          <p:nvPr/>
        </p:nvSpPr>
        <p:spPr>
          <a:xfrm>
            <a:off x="1332000" y="429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讲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1" name="AutoShape 17"/>
          <p:cNvSpPr/>
          <p:nvPr/>
        </p:nvSpPr>
        <p:spPr>
          <a:xfrm>
            <a:off x="7020000" y="1700280"/>
            <a:ext cx="1800000" cy="865080"/>
          </a:xfrm>
          <a:prstGeom prst="roundRect">
            <a:avLst>
              <a:gd name="adj" fmla="val 13005"/>
            </a:avLst>
          </a:prstGeom>
          <a:solidFill>
            <a:srgbClr val="b5b5b6">
              <a:alpha val="10000"/>
            </a:srgbClr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2" name="TextBox 57"/>
          <p:cNvSpPr/>
          <p:nvPr/>
        </p:nvSpPr>
        <p:spPr>
          <a:xfrm>
            <a:off x="7020000" y="1781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开球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赛正式开始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923" name="Group 23"/>
          <p:cNvGrpSpPr/>
          <p:nvPr/>
        </p:nvGrpSpPr>
        <p:grpSpPr>
          <a:xfrm>
            <a:off x="3492360" y="3240000"/>
            <a:ext cx="244440" cy="244440"/>
            <a:chOff x="3492360" y="3240000"/>
            <a:chExt cx="244440" cy="244440"/>
          </a:xfrm>
        </p:grpSpPr>
        <p:sp>
          <p:nvSpPr>
            <p:cNvPr id="924" name="Oval 139"/>
            <p:cNvSpPr/>
            <p:nvPr/>
          </p:nvSpPr>
          <p:spPr>
            <a:xfrm>
              <a:off x="3492360" y="324000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25" name="Oval 140"/>
            <p:cNvSpPr/>
            <p:nvPr/>
          </p:nvSpPr>
          <p:spPr>
            <a:xfrm>
              <a:off x="3558600" y="33062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26" name="Group 26"/>
          <p:cNvGrpSpPr/>
          <p:nvPr/>
        </p:nvGrpSpPr>
        <p:grpSpPr>
          <a:xfrm>
            <a:off x="4932360" y="3240000"/>
            <a:ext cx="244440" cy="244440"/>
            <a:chOff x="4932360" y="3240000"/>
            <a:chExt cx="244440" cy="244440"/>
          </a:xfrm>
        </p:grpSpPr>
        <p:sp>
          <p:nvSpPr>
            <p:cNvPr id="927" name="Oval 139"/>
            <p:cNvSpPr/>
            <p:nvPr/>
          </p:nvSpPr>
          <p:spPr>
            <a:xfrm>
              <a:off x="4932360" y="324000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28" name="Oval 140"/>
            <p:cNvSpPr/>
            <p:nvPr/>
          </p:nvSpPr>
          <p:spPr>
            <a:xfrm>
              <a:off x="4998600" y="33062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29" name="AutoShape 17"/>
          <p:cNvSpPr/>
          <p:nvPr/>
        </p:nvSpPr>
        <p:spPr>
          <a:xfrm>
            <a:off x="2556000" y="1844640"/>
            <a:ext cx="2087280" cy="720720"/>
          </a:xfrm>
          <a:prstGeom prst="roundRect">
            <a:avLst>
              <a:gd name="adj" fmla="val 13005"/>
            </a:avLst>
          </a:prstGeom>
          <a:solidFill>
            <a:srgbClr val="b5b5b6">
              <a:alpha val="10000"/>
            </a:srgbClr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0" name="TextBox 57"/>
          <p:cNvSpPr/>
          <p:nvPr/>
        </p:nvSpPr>
        <p:spPr>
          <a:xfrm>
            <a:off x="2627280" y="1844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队队长抽签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比赛日期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1" name="AutoShape 17"/>
          <p:cNvSpPr/>
          <p:nvPr/>
        </p:nvSpPr>
        <p:spPr>
          <a:xfrm>
            <a:off x="4500720" y="4221000"/>
            <a:ext cx="1366560" cy="487440"/>
          </a:xfrm>
          <a:prstGeom prst="roundRect">
            <a:avLst>
              <a:gd name="adj" fmla="val 13005"/>
            </a:avLst>
          </a:prstGeom>
          <a:solidFill>
            <a:srgbClr val="b5b5b6">
              <a:alpha val="10000"/>
            </a:srgbClr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2" name="TextBox 57"/>
          <p:cNvSpPr/>
          <p:nvPr/>
        </p:nvSpPr>
        <p:spPr>
          <a:xfrm>
            <a:off x="4427640" y="42768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裁判宣誓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3" name="AutoShape 17"/>
          <p:cNvSpPr/>
          <p:nvPr/>
        </p:nvSpPr>
        <p:spPr>
          <a:xfrm>
            <a:off x="5940360" y="4237200"/>
            <a:ext cx="1511280" cy="487080"/>
          </a:xfrm>
          <a:prstGeom prst="roundRect">
            <a:avLst>
              <a:gd name="adj" fmla="val 13005"/>
            </a:avLst>
          </a:prstGeom>
          <a:solidFill>
            <a:srgbClr val="b5b5b6">
              <a:alpha val="10000"/>
            </a:srgbClr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4" name="TextBox 57"/>
          <p:cNvSpPr/>
          <p:nvPr/>
        </p:nvSpPr>
        <p:spPr>
          <a:xfrm>
            <a:off x="5867280" y="4292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员宣誓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5" name="Line 7"/>
          <p:cNvSpPr/>
          <p:nvPr/>
        </p:nvSpPr>
        <p:spPr>
          <a:xfrm flipH="1">
            <a:off x="2087280" y="3384720"/>
            <a:ext cx="3240" cy="779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1979640" y="3240000"/>
            <a:ext cx="244440" cy="244440"/>
            <a:chOff x="1979640" y="3240000"/>
            <a:chExt cx="244440" cy="244440"/>
          </a:xfrm>
        </p:grpSpPr>
        <p:sp>
          <p:nvSpPr>
            <p:cNvPr id="937" name="Oval 139"/>
            <p:cNvSpPr/>
            <p:nvPr/>
          </p:nvSpPr>
          <p:spPr>
            <a:xfrm>
              <a:off x="1979640" y="3240000"/>
              <a:ext cx="244440" cy="244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38" name="Oval 140"/>
            <p:cNvSpPr/>
            <p:nvPr/>
          </p:nvSpPr>
          <p:spPr>
            <a:xfrm>
              <a:off x="2045880" y="33062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39" name="Group 39"/>
          <p:cNvGrpSpPr/>
          <p:nvPr/>
        </p:nvGrpSpPr>
        <p:grpSpPr>
          <a:xfrm>
            <a:off x="684360" y="3240000"/>
            <a:ext cx="244440" cy="244440"/>
            <a:chOff x="684360" y="3240000"/>
            <a:chExt cx="244440" cy="244440"/>
          </a:xfrm>
        </p:grpSpPr>
        <p:sp>
          <p:nvSpPr>
            <p:cNvPr id="940" name="Oval 139"/>
            <p:cNvSpPr/>
            <p:nvPr/>
          </p:nvSpPr>
          <p:spPr>
            <a:xfrm>
              <a:off x="684360" y="3240000"/>
              <a:ext cx="244440" cy="244440"/>
            </a:xfrm>
            <a:prstGeom prst="ellipse">
              <a:avLst/>
            </a:prstGeom>
            <a:solidFill>
              <a:srgbClr val="f9b6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41" name="Oval 140"/>
            <p:cNvSpPr/>
            <p:nvPr/>
          </p:nvSpPr>
          <p:spPr>
            <a:xfrm>
              <a:off x="750600" y="3306240"/>
              <a:ext cx="111600" cy="11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942" name="标题 15" descr=""/>
          <p:cNvPicPr/>
          <p:nvPr/>
        </p:nvPicPr>
        <p:blipFill>
          <a:blip r:embed="rId3"/>
          <a:stretch/>
        </p:blipFill>
        <p:spPr>
          <a:xfrm>
            <a:off x="0" y="347760"/>
            <a:ext cx="8991720" cy="1011240"/>
          </a:xfrm>
          <a:prstGeom prst="rect">
            <a:avLst/>
          </a:prstGeom>
          <a:ln w="0">
            <a:noFill/>
          </a:ln>
        </p:spPr>
      </p:pic>
      <p:grpSp>
        <p:nvGrpSpPr>
          <p:cNvPr id="943" name="Group 43"/>
          <p:cNvGrpSpPr/>
          <p:nvPr/>
        </p:nvGrpSpPr>
        <p:grpSpPr>
          <a:xfrm>
            <a:off x="512640" y="1047600"/>
            <a:ext cx="8631360" cy="12600"/>
            <a:chOff x="512640" y="1047600"/>
            <a:chExt cx="8631360" cy="12600"/>
          </a:xfrm>
        </p:grpSpPr>
        <p:pic>
          <p:nvPicPr>
            <p:cNvPr id="944" name="直接连接符 137" descr=""/>
            <p:cNvPicPr/>
            <p:nvPr/>
          </p:nvPicPr>
          <p:blipFill>
            <a:blip r:embed="rId4"/>
            <a:stretch/>
          </p:blipFill>
          <p:spPr>
            <a:xfrm>
              <a:off x="512640" y="104760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 Box 45"/>
            <p:cNvSpPr/>
            <p:nvPr/>
          </p:nvSpPr>
          <p:spPr>
            <a:xfrm>
              <a:off x="514080" y="1052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标题 15" descr=""/>
          <p:cNvPicPr/>
          <p:nvPr/>
        </p:nvPicPr>
        <p:blipFill>
          <a:blip r:embed="rId2"/>
          <a:stretch/>
        </p:blipFill>
        <p:spPr>
          <a:xfrm>
            <a:off x="0" y="457200"/>
            <a:ext cx="8991720" cy="1023840"/>
          </a:xfrm>
          <a:prstGeom prst="rect">
            <a:avLst/>
          </a:prstGeom>
          <a:ln w="0">
            <a:noFill/>
          </a:ln>
        </p:spPr>
      </p:pic>
      <p:sp>
        <p:nvSpPr>
          <p:cNvPr id="947" name="TextBox 17"/>
          <p:cNvSpPr/>
          <p:nvPr/>
        </p:nvSpPr>
        <p:spPr>
          <a:xfrm>
            <a:off x="2050920" y="836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48" name="图示 13" descr=""/>
          <p:cNvPicPr/>
          <p:nvPr/>
        </p:nvPicPr>
        <p:blipFill>
          <a:blip r:embed="rId3"/>
          <a:stretch/>
        </p:blipFill>
        <p:spPr>
          <a:xfrm>
            <a:off x="1249200" y="1268280"/>
            <a:ext cx="6931080" cy="396252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14" descr="篮球2.JPG"/>
          <p:cNvPicPr/>
          <p:nvPr/>
        </p:nvPicPr>
        <p:blipFill>
          <a:blip r:embed="rId4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14" descr="篮球2.JPG"/>
          <p:cNvPicPr/>
          <p:nvPr/>
        </p:nvPicPr>
        <p:blipFill>
          <a:blip r:embed="rId2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 txBox="1"/>
          <p:nvPr/>
        </p:nvSpPr>
        <p:spPr>
          <a:xfrm>
            <a:off x="-360" y="1483920"/>
            <a:ext cx="622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华文楷体"/>
              </a:rPr>
              <a:t>	</a:t>
            </a:r>
            <a:r>
              <a:rPr b="0" lang="en-US" sz="1800" spc="-1" strike="noStrike">
                <a:solidFill>
                  <a:srgbClr val="4e3b30"/>
                </a:solidFill>
                <a:latin typeface="华文楷体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三队一组，抽签决定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小组内两两对决，其中：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     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胜得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分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     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平得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分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     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负得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0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分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积分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前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名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进入半决赛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4e3b30"/>
                </a:solidFill>
                <a:latin typeface="华文楷体"/>
              </a:rPr>
              <a:t>（若积分相同，比赛总得分高者入围）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52" name="标题 7" descr=""/>
          <p:cNvPicPr/>
          <p:nvPr/>
        </p:nvPicPr>
        <p:blipFill>
          <a:blip r:embed="rId3"/>
          <a:stretch/>
        </p:blipFill>
        <p:spPr>
          <a:xfrm>
            <a:off x="0" y="27468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953" name="七角星 8"/>
          <p:cNvSpPr/>
          <p:nvPr/>
        </p:nvSpPr>
        <p:spPr>
          <a:xfrm>
            <a:off x="1908000" y="2708280"/>
            <a:ext cx="287640" cy="216000"/>
          </a:xfrm>
          <a:custGeom>
            <a:avLst/>
            <a:gdLst/>
            <a:ahLst/>
            <a:rect l="l" t="t" r="r" b="b"/>
            <a:pathLst>
              <a:path w="288032" h="216024">
                <a:moveTo>
                  <a:pt x="-1" y="138926"/>
                </a:moveTo>
                <a:lnTo>
                  <a:pt x="44354" y="96140"/>
                </a:lnTo>
                <a:lnTo>
                  <a:pt x="28524" y="42786"/>
                </a:lnTo>
                <a:lnTo>
                  <a:pt x="99663" y="42786"/>
                </a:lnTo>
                <a:lnTo>
                  <a:pt x="144016" y="0"/>
                </a:lnTo>
                <a:lnTo>
                  <a:pt x="188369" y="42786"/>
                </a:lnTo>
                <a:lnTo>
                  <a:pt x="259508" y="42786"/>
                </a:lnTo>
                <a:lnTo>
                  <a:pt x="243678" y="96140"/>
                </a:lnTo>
                <a:lnTo>
                  <a:pt x="288033" y="138926"/>
                </a:lnTo>
                <a:lnTo>
                  <a:pt x="223939" y="162671"/>
                </a:lnTo>
                <a:lnTo>
                  <a:pt x="208109" y="216025"/>
                </a:lnTo>
                <a:lnTo>
                  <a:pt x="144016" y="192280"/>
                </a:lnTo>
                <a:lnTo>
                  <a:pt x="79923" y="216025"/>
                </a:lnTo>
                <a:lnTo>
                  <a:pt x="64093" y="162671"/>
                </a:lnTo>
                <a:lnTo>
                  <a:pt x="-1" y="138926"/>
                </a:lnTo>
                <a:close/>
              </a:path>
            </a:pathLst>
          </a:custGeom>
          <a:noFill/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4" name="七角星 9"/>
          <p:cNvSpPr/>
          <p:nvPr/>
        </p:nvSpPr>
        <p:spPr>
          <a:xfrm>
            <a:off x="1908000" y="3213000"/>
            <a:ext cx="287640" cy="216000"/>
          </a:xfrm>
          <a:custGeom>
            <a:avLst/>
            <a:gdLst/>
            <a:ahLst/>
            <a:rect l="l" t="t" r="r" b="b"/>
            <a:pathLst>
              <a:path w="288032" h="216024">
                <a:moveTo>
                  <a:pt x="-1" y="138926"/>
                </a:moveTo>
                <a:lnTo>
                  <a:pt x="44354" y="96140"/>
                </a:lnTo>
                <a:lnTo>
                  <a:pt x="28524" y="42786"/>
                </a:lnTo>
                <a:lnTo>
                  <a:pt x="99663" y="42786"/>
                </a:lnTo>
                <a:lnTo>
                  <a:pt x="144016" y="0"/>
                </a:lnTo>
                <a:lnTo>
                  <a:pt x="188369" y="42786"/>
                </a:lnTo>
                <a:lnTo>
                  <a:pt x="259508" y="42786"/>
                </a:lnTo>
                <a:lnTo>
                  <a:pt x="243678" y="96140"/>
                </a:lnTo>
                <a:lnTo>
                  <a:pt x="288033" y="138926"/>
                </a:lnTo>
                <a:lnTo>
                  <a:pt x="223939" y="162671"/>
                </a:lnTo>
                <a:lnTo>
                  <a:pt x="208109" y="216025"/>
                </a:lnTo>
                <a:lnTo>
                  <a:pt x="144016" y="192280"/>
                </a:lnTo>
                <a:lnTo>
                  <a:pt x="79923" y="216025"/>
                </a:lnTo>
                <a:lnTo>
                  <a:pt x="64093" y="162671"/>
                </a:lnTo>
                <a:lnTo>
                  <a:pt x="-1" y="138926"/>
                </a:lnTo>
                <a:close/>
              </a:path>
            </a:pathLst>
          </a:custGeom>
          <a:noFill/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5" name="七角星 10"/>
          <p:cNvSpPr/>
          <p:nvPr/>
        </p:nvSpPr>
        <p:spPr>
          <a:xfrm>
            <a:off x="1908000" y="3716280"/>
            <a:ext cx="287640" cy="217440"/>
          </a:xfrm>
          <a:custGeom>
            <a:avLst/>
            <a:gdLst/>
            <a:ahLst/>
            <a:rect l="l" t="t" r="r" b="b"/>
            <a:pathLst>
              <a:path w="288032" h="216024">
                <a:moveTo>
                  <a:pt x="-1" y="138926"/>
                </a:moveTo>
                <a:lnTo>
                  <a:pt x="44354" y="96140"/>
                </a:lnTo>
                <a:lnTo>
                  <a:pt x="28524" y="42786"/>
                </a:lnTo>
                <a:lnTo>
                  <a:pt x="99663" y="42786"/>
                </a:lnTo>
                <a:lnTo>
                  <a:pt x="144016" y="0"/>
                </a:lnTo>
                <a:lnTo>
                  <a:pt x="188369" y="42786"/>
                </a:lnTo>
                <a:lnTo>
                  <a:pt x="259508" y="42786"/>
                </a:lnTo>
                <a:lnTo>
                  <a:pt x="243678" y="96140"/>
                </a:lnTo>
                <a:lnTo>
                  <a:pt x="288033" y="138926"/>
                </a:lnTo>
                <a:lnTo>
                  <a:pt x="223939" y="162671"/>
                </a:lnTo>
                <a:lnTo>
                  <a:pt x="208109" y="216025"/>
                </a:lnTo>
                <a:lnTo>
                  <a:pt x="144016" y="192280"/>
                </a:lnTo>
                <a:lnTo>
                  <a:pt x="79923" y="216025"/>
                </a:lnTo>
                <a:lnTo>
                  <a:pt x="64093" y="162671"/>
                </a:lnTo>
                <a:lnTo>
                  <a:pt x="-1" y="138926"/>
                </a:lnTo>
                <a:close/>
              </a:path>
            </a:pathLst>
          </a:custGeom>
          <a:noFill/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56" name="图片 11" descr="图片1.png"/>
          <p:cNvPicPr/>
          <p:nvPr/>
        </p:nvPicPr>
        <p:blipFill>
          <a:blip r:embed="rId4"/>
          <a:stretch/>
        </p:blipFill>
        <p:spPr>
          <a:xfrm>
            <a:off x="6119640" y="1547640"/>
            <a:ext cx="2200320" cy="4694400"/>
          </a:xfrm>
          <a:prstGeom prst="rect">
            <a:avLst/>
          </a:prstGeom>
          <a:ln w="0">
            <a:noFill/>
          </a:ln>
        </p:spPr>
      </p:pic>
      <p:grpSp>
        <p:nvGrpSpPr>
          <p:cNvPr id="957" name="Group 9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58" name="直接连接符 12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Text Box 11"/>
            <p:cNvSpPr/>
            <p:nvPr/>
          </p:nvSpPr>
          <p:spPr>
            <a:xfrm>
              <a:off x="51408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14" descr="篮球2.JPG"/>
          <p:cNvPicPr/>
          <p:nvPr/>
        </p:nvPicPr>
        <p:blipFill>
          <a:blip r:embed="rId2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  <p:pic>
        <p:nvPicPr>
          <p:cNvPr id="961" name="标题 3" descr=""/>
          <p:cNvPicPr/>
          <p:nvPr/>
        </p:nvPicPr>
        <p:blipFill>
          <a:blip r:embed="rId3"/>
          <a:stretch/>
        </p:blipFill>
        <p:spPr>
          <a:xfrm>
            <a:off x="0" y="274680"/>
            <a:ext cx="8686800" cy="121284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华文楷体"/>
              </a:rPr>
              <a:t>	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华文楷体"/>
              </a:rPr>
              <a:t>	</a:t>
            </a:r>
            <a:r>
              <a:rPr b="0" lang="en-US" sz="1800" spc="-1" strike="noStrike">
                <a:solidFill>
                  <a:srgbClr val="4e3b30"/>
                </a:solidFill>
                <a:latin typeface="华文楷体"/>
              </a:rPr>
              <a:t>	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入围的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只队伍，抽签对决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采取淘汰制，胜者进入决赛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63" name="Picture 6" descr=""/>
          <p:cNvPicPr/>
          <p:nvPr/>
        </p:nvPicPr>
        <p:blipFill>
          <a:blip r:embed="rId4"/>
          <a:stretch/>
        </p:blipFill>
        <p:spPr>
          <a:xfrm>
            <a:off x="6119640" y="1547640"/>
            <a:ext cx="2173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14" descr="篮球2.JPG"/>
          <p:cNvPicPr/>
          <p:nvPr/>
        </p:nvPicPr>
        <p:blipFill>
          <a:blip r:embed="rId2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  <p:pic>
        <p:nvPicPr>
          <p:cNvPr id="965" name="标题 2" descr=""/>
          <p:cNvPicPr/>
          <p:nvPr/>
        </p:nvPicPr>
        <p:blipFill>
          <a:blip r:embed="rId3"/>
          <a:stretch/>
        </p:blipFill>
        <p:spPr>
          <a:xfrm>
            <a:off x="0" y="274680"/>
            <a:ext cx="8686800" cy="115236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 txBox="1"/>
          <p:nvPr/>
        </p:nvSpPr>
        <p:spPr>
          <a:xfrm>
            <a:off x="456840" y="1600200"/>
            <a:ext cx="5483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华文楷体"/>
              </a:rPr>
              <a:t>	</a:t>
            </a:r>
            <a:r>
              <a:rPr b="0" lang="en-US" sz="1800" spc="-1" strike="noStrike">
                <a:solidFill>
                  <a:srgbClr val="4e3b30"/>
                </a:solidFill>
                <a:latin typeface="华文楷体"/>
              </a:rPr>
              <a:t>	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最终进入决赛的两只队伍进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终极对决，胜者获得本次比赛的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冠军</a:t>
            </a:r>
            <a:r>
              <a:rPr b="0" lang="zh-CN" sz="2000" spc="-1" strike="noStrike">
                <a:solidFill>
                  <a:srgbClr val="4e3b3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67" name="Picture 8" descr=""/>
          <p:cNvPicPr/>
          <p:nvPr/>
        </p:nvPicPr>
        <p:blipFill>
          <a:blip r:embed="rId4"/>
          <a:stretch/>
        </p:blipFill>
        <p:spPr>
          <a:xfrm>
            <a:off x="6119640" y="1547640"/>
            <a:ext cx="2151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14" descr="篮球2.JPG"/>
          <p:cNvPicPr/>
          <p:nvPr/>
        </p:nvPicPr>
        <p:blipFill>
          <a:blip r:embed="rId2"/>
          <a:stretch/>
        </p:blipFill>
        <p:spPr>
          <a:xfrm>
            <a:off x="179280" y="4653000"/>
            <a:ext cx="3780000" cy="2320920"/>
          </a:xfrm>
          <a:prstGeom prst="rect">
            <a:avLst/>
          </a:prstGeom>
          <a:ln w="0">
            <a:noFill/>
          </a:ln>
        </p:spPr>
      </p:pic>
      <p:pic>
        <p:nvPicPr>
          <p:cNvPr id="969" name="标题 2" descr=""/>
          <p:cNvPicPr/>
          <p:nvPr/>
        </p:nvPicPr>
        <p:blipFill>
          <a:blip r:embed="rId3"/>
          <a:stretch/>
        </p:blipFill>
        <p:spPr>
          <a:xfrm>
            <a:off x="0" y="433440"/>
            <a:ext cx="899172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0" name=""/>
          <p:cNvGraphicFramePr/>
          <p:nvPr/>
        </p:nvGraphicFramePr>
        <p:xfrm>
          <a:off x="1547640" y="1773360"/>
          <a:ext cx="6264360" cy="2447640"/>
        </p:xfrm>
        <a:graphic>
          <a:graphicData uri="http://schemas.openxmlformats.org/drawingml/2006/table">
            <a:tbl>
              <a:tblPr/>
              <a:tblGrid>
                <a:gridCol w="1584360"/>
                <a:gridCol w="1727280"/>
                <a:gridCol w="1733760"/>
                <a:gridCol w="1218960"/>
              </a:tblGrid>
              <a:tr h="1679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本物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赛费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英格玛队费用及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4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1" name="TextBox 8"/>
          <p:cNvSpPr/>
          <p:nvPr/>
        </p:nvSpPr>
        <p:spPr>
          <a:xfrm>
            <a:off x="1547640" y="1341360"/>
            <a:ext cx="11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位：元）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2" name="TextBox 5"/>
          <p:cNvSpPr/>
          <p:nvPr/>
        </p:nvSpPr>
        <p:spPr>
          <a:xfrm>
            <a:off x="1547640" y="44172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：场地费未计入算内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7T02:33:54Z</dcterms:modified>
  <cp:revision>1</cp:revision>
  <dc:subject/>
  <dc:title>PowerPoint 演示文稿</dc:title>
</cp:coreProperties>
</file>