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C9D-D925-43F3-BB11-C9484FC8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B162-F005-4A4A-9CD7-AD5587E0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F0F-DC81-4E7C-A963-1B5DE25F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1E3D-EA48-4C42-A825-81791FAE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C9F4-46B9-4F46-BDAD-18BEFD6D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319E-0CE6-4838-A594-08A97273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03B9-5CC6-4C14-AF86-23C827C3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253F-2BA0-4340-A960-86C76F42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7FBE-8FED-41AA-A6B7-07FFC8EF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A6E6-A3DC-438D-A3E4-8DD7F6CD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2932-09C7-4D28-A2F7-3A5D9B01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BEA-0FBC-411E-829F-AED0520E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7977-42BD-4D69-AEF7-7CE62E1A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BA10-87E4-4652-8CD1-94656080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A36D-8458-4E02-AF67-DB1E1E3F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FDD8-2BD9-46CC-995E-C5A8137E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F5FC-4C48-4E9A-8A0C-B17C03DF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AE952-51AD-4614-8B57-8E72DB11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CE7EF-B563-431A-A35D-2B09E734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E13D6-5716-49B4-A26E-3B47DB83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62B8B-0392-470E-A10F-F6242B96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E19A8-B90A-494D-B143-8DA71592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997-5C42-4A85-9D1F-14FE0675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E09BF-5771-4DCD-AE9B-F6DB389E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F8131-824F-4990-9A75-139B8FE5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A77FF-7BEE-4BF2-BB9B-2FA96D75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917B3-D0B1-46C9-91BC-41077BD5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918D9-F847-427E-8B1B-3CCA933D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8B2F9-2158-4786-83E0-5A032855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287DA-C89F-41D3-B25D-D153DA73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BE55-8A5F-4D9A-99E7-639F4312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3DB-C4C1-442E-B3AC-B20FC447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9B9-718D-4834-AC0A-74FCCD5D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A8D-5540-4545-9B3B-A9CD9BF9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91E-638B-4CD2-8F92-6C6EB7B1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133-48A5-4B52-840C-3FB3A19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D0FC-E4AC-4F85-AA51-CCE33D1D51B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84C9-6CDA-4537-A385-469E274B5A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DEEC-0113-45E2-B294-928898D3B74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6781-8EEB-4ABA-A28E-31843AC1E9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C:\Users\Public\Pictures\标题.png"/>
          <p:cNvPicPr/>
          <p:nvPr/>
        </p:nvPicPr>
        <p:blipFill>
          <a:blip r:embed="rId2"/>
          <a:stretch/>
        </p:blipFill>
        <p:spPr>
          <a:xfrm>
            <a:off x="2700360" y="3836880"/>
            <a:ext cx="628488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792440" y="1844640"/>
            <a:ext cx="583236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华文细黑"/>
                <a:ea typeface="华文细黑"/>
              </a:rPr>
              <a:t>“</a:t>
            </a:r>
            <a:r>
              <a:rPr b="0" lang="zh-CN" sz="3200" spc="-1" strike="noStrike">
                <a:solidFill>
                  <a:srgbClr val="404040"/>
                </a:solidFill>
                <a:latin typeface="华文细黑"/>
                <a:ea typeface="华文细黑"/>
              </a:rPr>
              <a:t>螺丝钉”精神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华文细黑"/>
                <a:ea typeface="华文细黑"/>
              </a:rPr>
              <a:t>“</a:t>
            </a:r>
            <a:r>
              <a:rPr b="0" lang="zh-CN" sz="3200" spc="-1" strike="noStrike">
                <a:solidFill>
                  <a:srgbClr val="404040"/>
                </a:solidFill>
                <a:latin typeface="华文细黑"/>
                <a:ea typeface="华文细黑"/>
              </a:rPr>
              <a:t>螺丝钉”精神内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华文细黑"/>
                <a:ea typeface="华文细黑"/>
              </a:rPr>
              <a:t>“</a:t>
            </a:r>
            <a:r>
              <a:rPr b="0" lang="zh-CN" sz="3200" spc="-1" strike="noStrike">
                <a:solidFill>
                  <a:srgbClr val="404040"/>
                </a:solidFill>
                <a:latin typeface="华文细黑"/>
                <a:ea typeface="华文细黑"/>
              </a:rPr>
              <a:t>螺丝钉”精神过时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华文细黑"/>
                <a:ea typeface="华文细黑"/>
              </a:rPr>
              <a:t>“</a:t>
            </a:r>
            <a:r>
              <a:rPr b="0" lang="zh-CN" sz="3200" spc="-1" strike="noStrike">
                <a:solidFill>
                  <a:srgbClr val="404040"/>
                </a:solidFill>
                <a:latin typeface="华文细黑"/>
                <a:ea typeface="华文细黑"/>
              </a:rPr>
              <a:t>螺丝钉”精神永不过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:\Users\Public\Pictures\目录.png"/>
          <p:cNvPicPr/>
          <p:nvPr/>
        </p:nvPicPr>
        <p:blipFill>
          <a:blip r:embed="rId2"/>
          <a:stretch/>
        </p:blipFill>
        <p:spPr>
          <a:xfrm>
            <a:off x="1547640" y="692280"/>
            <a:ext cx="607716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203640" y="396252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“</a:t>
            </a:r>
            <a:r>
              <a:rPr b="0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螺丝钉”精神由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螺丝钉"/>
          <p:cNvPicPr/>
          <p:nvPr/>
        </p:nvPicPr>
        <p:blipFill>
          <a:blip r:embed="rId2"/>
          <a:stretch/>
        </p:blipFill>
        <p:spPr>
          <a:xfrm rot="2520000">
            <a:off x="1993680" y="3763800"/>
            <a:ext cx="125712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539640" y="1851120"/>
            <a:ext cx="79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个人的作用，对于革命事业来说，就如一架机器上的一颗螺丝钉。机器由于有许许多多的螺丝钉的联接和固定，才成了一个坚实的整体，才能够运转自如，发挥它巨大的工作能量。螺丝钉虽小，其作用是不可估计的。我愿永远做一个螺丝钉。”雷锋在日记中这样写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197000" y="33984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“</a:t>
            </a: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螺丝钉”精神由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螺丝钉"/>
          <p:cNvPicPr/>
          <p:nvPr/>
        </p:nvPicPr>
        <p:blipFill>
          <a:blip r:embed="rId2"/>
          <a:stretch/>
        </p:blipFill>
        <p:spPr>
          <a:xfrm rot="2520000">
            <a:off x="285480" y="284040"/>
            <a:ext cx="83016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Public\Pictures\标题2.png"/>
          <p:cNvPicPr/>
          <p:nvPr/>
        </p:nvPicPr>
        <p:blipFill>
          <a:blip r:embed="rId2"/>
          <a:stretch/>
        </p:blipFill>
        <p:spPr>
          <a:xfrm>
            <a:off x="466560" y="3860640"/>
            <a:ext cx="607716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</cp:lastModifiedBy>
  <dcterms:modified xsi:type="dcterms:W3CDTF">2014-08-13T04:17:08Z</dcterms:modified>
  <cp:revision>2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