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6B7-F057-498B-8859-5B38D6D8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BD1-9936-40E6-BE0B-B896DAE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7BACC-40A5-4C0C-A4C4-64DA3AFF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20A19-7DEB-4401-8609-2FBB1C47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D8A1D-C946-4F36-AC43-6C5E5446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194F7-6C8A-4991-82D7-723665F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89D3F-84D4-4E93-9F56-C3620A83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AFC01-8578-4917-BEF9-B26CF22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DF69F-7C79-43F5-909B-B84248E8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7DDED-C2E2-4E86-844E-2329CFBB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90D42-1CFD-47FC-AE67-D0952212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6CC73-5F5E-457C-8B1B-9B1FD889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B7E-4E87-40D9-920E-485DF457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3FF12-70DF-498F-9810-03EFBD5C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537C2-EA0C-4C10-93A5-37FABF8D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CC9F6-C5AD-4BDB-ADF8-28C51C0B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85C99-762B-4381-AA21-801956FB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E4AC4-CFB4-4724-9D29-4EBE7A47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D518A-F460-41C3-A33B-50F2636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DB9FE-B5B8-4F4B-8B48-414F7635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9ED0E-35BF-4D10-B7E6-AF7CD338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47768-F095-4798-9625-E3230911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F3EA2-995D-494B-B51B-B5DB5BB6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432-8B0A-4AF2-BBF0-24472FEE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43228-7B92-4B8A-AEF8-EE124770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7232C-89B9-4B7B-996B-AD717727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57700-88AE-4CBA-BF68-9A4A496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A1A93-EF21-4453-954A-F586E345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C1BFC-7619-4EA5-9985-9A0B4BA2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2B01C-AC00-4F09-B9C9-688F4353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A90F0-3DA2-4918-BFD6-1CF8A89D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33FF5-DCFD-4A34-A06F-315B7EA0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B216D-029C-453F-A510-703563B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A91DC-D238-413B-99FC-BF37A922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99C2-9105-4BD0-8AC6-A57A00B1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8EFC7-C631-4071-B34A-C2414BB3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7D9A1-DD90-4311-9974-5514E2E8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AAE44-5857-4CB4-A744-8ED8D464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BEAEA-501B-4665-96B1-3933023A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8738B-0AAD-46AF-B896-EF21A564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53739-D7BD-4197-BC60-B9729B5E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036FCC-968E-484C-AE33-F6B8F564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EF9D6-3D5E-46D5-9C6B-BFE70A94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98256-C57B-48E5-8D28-ABDA2B3D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893FC-444C-4024-9D92-AC0A682E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D145-97AE-4B9E-AAC9-3360CEDC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A5C7B-E7EF-47FD-9A51-9CF4ADEB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02A97-2BCC-4232-B785-97211C4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D6973-3AD6-40D9-A793-7345A4B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E38D6-0E87-4643-914F-6FD5CCC9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873834-A98E-4499-86CC-FB6B3ECD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BD85A-01E6-4696-9413-47CE0024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2781F-0515-4D92-9F2E-68D0FC6F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5B9FA-3748-4EA6-A84B-DD06C39D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808E31-A212-4DDD-AFCD-B922318F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B3E1D-AB15-465D-8A4E-E8F010F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A490-1512-45BC-8A37-C0DBC06C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B1E69-755B-4CF9-B175-F3D9EBDB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ADC29-8EE9-4186-B0F3-330FCF4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C774D-DFD7-4972-984D-A843FE8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0086F-31E2-4765-8628-DD7CEF76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49B40-1B7B-4256-B192-11D0CF4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2093E-8BDA-4953-A453-7AA41DAE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D2D97-41FC-4302-BB1A-E2EFF840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BD74-2BF1-4181-A16D-A1B4CB32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477C-FE9F-4E8E-BE37-E1D36B3D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A216-1D07-4CF7-8C1B-E58A5E2A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9A70-C5CF-4DE9-BF0E-88F291EA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EC3-5B21-4014-9D18-953BB19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F6D9-2CDC-4C17-B8DB-32D53BF1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C93F-A92F-42FA-8F42-E24B5B69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A73E-9245-4F0F-A28E-3EA93533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E1D0-99E0-4B7C-9D3F-21B00B9B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4294-00A5-4DE1-9DC6-F9FD63DF5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7767-F378-4316-9D7F-3CB2D900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355F-6EFE-4AE6-8FBC-16C7F38D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6E03A-301F-4856-A7A7-CFBAC83A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B14A2-62A1-4F23-B272-1917F0F0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494E-4968-4608-9F0E-5B9D1E8C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2D4-27F6-4D27-9B83-27752959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537B-A92F-4EFE-B549-34F3810F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3CC4E-0276-48B3-B05A-3933C6A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6BCB-251C-4A1D-B4EC-CBA69A43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8F73-83BD-4FAD-B9D1-8E83F461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8FB4E-48D5-4FF8-894A-A751B54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475D-BBF2-4AA0-96EF-12D6825F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7368-77D0-4B5C-88FB-C3EC3FE2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5EA61-751E-4E58-876A-B498F606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DA8E-C7E3-4177-93E4-47E9233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E9D4-0B07-4DF6-A542-E49B247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686-46A8-4B27-816A-E9FE187B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F08C-C1F0-4BA7-9675-70068367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AC63-F1B9-4626-9407-6C03BFB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5054-F451-4287-BD3D-04953E79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BF82-6042-4ACB-93F1-8A8D169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98D5-492D-412A-AE2B-64E31EB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16BAB-DB69-4AB3-919B-3DDE1F8D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91D9E-A574-44BD-923B-2A19DFC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92E38-9BE2-431F-893D-D2954E13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1FBB0-A425-4260-B914-D5FF8EBF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5FA1C-D901-47D6-AD50-4F7E87A2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CF9-6B77-43F3-820C-83854CF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B41B8-E81A-46A8-81BD-DFE70CCD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5830F-BD63-432A-9A6B-633331FA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5AA65-039D-49F2-B4DA-ED61CA7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BF570-B611-4491-9E7A-4C8FBBB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D8A93-CCDD-4DC1-B37D-D9ECBD1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3528-249F-41D7-99AF-38E563F4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9D78F-F42D-47E1-B3BB-D656A213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F9CC6-F2D5-4ED6-A839-6BA2C7C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14FE-6B9A-4A6B-A65B-C34CD245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0AD29-0A93-402A-B76E-280ABF71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952-B40B-4731-8BF3-5144C19B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82CBB-E604-4515-B775-55099FDD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1AEE4-2557-4745-BDE3-BB16B85F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C149-3C89-4EFE-AC1A-57A9E6AF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0DBBE-33DE-4AB3-8933-F0140947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6115-05C2-4C72-8072-7FDF7EF9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7229C-EE30-4AA1-9629-90323BBE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068C3-DF0D-455C-AAF7-85F8541E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EE830-37D9-4B3B-BFFF-3E4E5336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5F3EC-2561-4E2B-9D3F-E280D0DB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007C4-F329-4105-A499-2002498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9F0-D17C-40CD-BDE2-DC29126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74E62-1776-4ADF-8666-99AFBC31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660E5-88AB-4502-912F-48B0F271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6232F-538A-4483-8113-2399EFFD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8E7AF-57CA-4A68-BBAC-E709E317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FA87-9384-4CA0-BDBD-272F7047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15B69-992E-40C5-A45E-BCC51A1D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6E689-F1E4-41AE-941C-4959FC1F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A294D-640D-43E8-80D1-05E341A8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4376F-9713-41C4-A147-40B9B34F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18DF-AD32-471D-A3F5-4194D9E8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908-92D4-4B05-8A4D-09E2B588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225F-43CF-4B07-A510-82D70C18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645E0-8FC5-4FB8-9B9E-4AFE2861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C1EB-4594-48FD-9D01-3ABDB11A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03E1A-860A-472A-971A-2B0FD2C8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00FB2-3A14-4A1D-8F0B-2EE2543F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1969A-6407-4DCF-A2F4-58B20F24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E84B-85B0-4483-9942-2F3B9484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12171-CAA9-428B-8BF7-DAC53697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910A5-D6C5-4624-AD7D-4081D696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29C3A-27F1-4426-B991-ACE0B71D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B7D-FDDC-4F27-A439-6AE52361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96245-8BD3-4AFA-8106-A6F3D2CC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2DFC5-DE94-489A-8A37-B81F07E2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644D3-8D6E-4C0B-A1CF-3E55E1E1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9D490-E86D-40A5-8D46-A13F607C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7B935-0B3F-4868-ACF4-628798A1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40C69-C7B4-4E5D-A737-01BF7A12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D08C7-3A08-4246-BE95-A9859BAD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6F97-1578-4854-BBAC-B8C7DCB40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41F91-46FE-447E-B08F-1379CD82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30567-B20E-4122-B6CA-8668EB8C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2CF6-CA32-4DBD-8271-77E0A5DEBB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2EFF-8762-4DE7-9320-067BF8E714E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6F58-AEFE-4B74-9E7D-D02BA52B730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EC2B-30FE-45D4-A68F-C2852EF7397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3B1E-7985-44DA-BC20-10822ACDEF8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078-43CF-4F50-BF8C-E5B1B53D482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F22-1AB7-485C-804E-6062F35D60D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0973-9BB9-4791-90AA-8B5FBEC82C7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725B-7115-4C35-BAE3-693348D27AF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5F0C-91D6-4540-8F23-30763D7CA2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6756-F357-4CBE-A963-125542E6D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E996-D7B3-45B1-88FD-69CC26FA7F4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0DB-C605-46EE-A356-51CE513F49F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A1B3-1944-4E5D-B6DB-EDB874797F1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C3ED-E117-4201-9835-6E89F94FA7A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1F40-B936-4737-B094-341C9BA4ACB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1B0B-F3C5-45FC-AA66-C6C5DFD177F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4B3A-E58D-4754-AD80-6E7246B6E34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98BC-3873-45F7-8AA7-9227C2E447F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18B-2F7D-4F5C-B631-FF1C1587370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9C0-FE16-4239-9368-9FD6A9C520B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5C0-9D81-4F7E-AD07-EF82C27F4EC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9F93-2EAD-4C3F-B9DC-0CF3F4974E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1485-703A-4C75-B2C6-F7B81CB5D58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8124-8215-4712-8F89-AF9D1F10FF7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LOGO"/>
          <p:cNvPicPr/>
          <p:nvPr/>
        </p:nvPicPr>
        <p:blipFill>
          <a:blip r:embed="rId2"/>
          <a:stretch/>
        </p:blipFill>
        <p:spPr>
          <a:xfrm>
            <a:off x="10118880" y="217440"/>
            <a:ext cx="1679400" cy="7761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530600" y="3135240"/>
            <a:ext cx="896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9bd5"/>
                </a:solidFill>
                <a:latin typeface="Adobe Arabic"/>
                <a:ea typeface="Adobe Gothic Std B"/>
              </a:rPr>
              <a:t>PowerPoint Temp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/>
          <p:nvPr/>
        </p:nvSpPr>
        <p:spPr>
          <a:xfrm>
            <a:off x="10321920" y="6465960"/>
            <a:ext cx="18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6396120" y="1322280"/>
            <a:ext cx="90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4764240" y="2333520"/>
            <a:ext cx="90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6483240" y="3483000"/>
            <a:ext cx="90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803840" y="4641840"/>
            <a:ext cx="908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9bd5"/>
                </a:solidFill>
                <a:latin typeface="Adobe Arabic"/>
              </a:rPr>
              <a:t>Click to add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Picture 6" descr="LOGO"/>
          <p:cNvPicPr/>
          <p:nvPr/>
        </p:nvPicPr>
        <p:blipFill>
          <a:blip r:embed="rId2"/>
          <a:stretch/>
        </p:blipFill>
        <p:spPr>
          <a:xfrm>
            <a:off x="10883880" y="192240"/>
            <a:ext cx="11304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5046840" y="2712960"/>
            <a:ext cx="80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dobe Arabic"/>
              </a:rPr>
              <a:t>Add a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Picture 3" descr="LOGO"/>
          <p:cNvPicPr/>
          <p:nvPr/>
        </p:nvPicPr>
        <p:blipFill>
          <a:blip r:embed="rId2"/>
          <a:stretch/>
        </p:blipFill>
        <p:spPr>
          <a:xfrm>
            <a:off x="10896480" y="204840"/>
            <a:ext cx="113184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368280" y="612720"/>
            <a:ext cx="87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dobe Arabic"/>
              </a:rPr>
              <a:t>Ad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3" descr="LOGO"/>
          <p:cNvPicPr/>
          <p:nvPr/>
        </p:nvPicPr>
        <p:blipFill>
          <a:blip r:embed="rId2"/>
          <a:stretch/>
        </p:blipFill>
        <p:spPr>
          <a:xfrm>
            <a:off x="10883880" y="192240"/>
            <a:ext cx="1130400" cy="523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"/>
          <p:cNvSpPr/>
          <p:nvPr/>
        </p:nvSpPr>
        <p:spPr>
          <a:xfrm>
            <a:off x="1363680" y="155412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9bd5"/>
                </a:solidFill>
                <a:latin typeface="Adobe Arabic"/>
              </a:rPr>
              <a:t>Add text 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5346720" y="2619360"/>
            <a:ext cx="94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dobe Arabic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4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</cp:lastModifiedBy>
  <dcterms:modified xsi:type="dcterms:W3CDTF">2015-01-12T08:55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