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F3A-E9E2-4E2D-88A9-138AD92F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841-F357-40C3-8C89-700DBEDA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54A-1425-4F4A-B056-0EFD66C2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C37-36AB-41BD-BB47-E483FD36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73D-D095-472C-B498-5574E9F9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A66-B516-4E63-AA3E-49CDC4A8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4E8-4E42-4DB8-959E-D941D458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226-A75C-48C7-836A-F62C0F53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721-E5F1-4C33-9477-4C2E3088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FC0-EC74-468D-A337-964ECB98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7C3-D20D-430B-9798-A7D7E738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B98-6677-4599-9D94-82E1E9F6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795b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795b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795b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F6D8-5186-42AE-9782-7A5A7AF9AFA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30A3-5E37-4A38-86F4-86AB6B7E8B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795b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795b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795b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4720" y="213336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413080" y="3429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02:15Z</dcterms:created>
  <dc:creator>Presentation Helper</dc:creator>
  <dc:description/>
  <cp:keywords/>
  <dc:language>en-US</dc:language>
  <cp:lastModifiedBy>a</cp:lastModifiedBy>
  <dcterms:modified xsi:type="dcterms:W3CDTF">2014-07-24T07:52:55Z</dcterms:modified>
  <cp:revision>5</cp:revision>
  <dc:subject/>
  <dc:title>Corporate 1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