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92D-D09F-473E-B270-F92A1164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BBCC-09BA-433B-A13D-E3554EE4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3E5-A4FA-4DED-B7F9-1608D06F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95E-2258-47E8-B156-846FDC97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79ED-968E-4E85-83B8-E6FC99FD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2823-0FC1-46DB-9AF1-B753549A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8114-D871-4DC8-9827-E4B54A73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E68D-FCB0-468C-9F78-405355A7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A8C5-C42A-4CCD-9C7B-7A4B0161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4DB5-4213-4FE6-990D-2E04AB88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0311-403D-421C-B9D0-E821F44C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889-DB24-49D7-AAE8-46AA94A2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EE91-327E-4C0E-8A57-5A6DA9AA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C36A-15DC-43D2-A250-4B2D30A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AE5D-04EE-43FE-8660-F37E5069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DB12-419B-464B-AD69-81D1BF5D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C680-4DD1-49EB-BB7C-1D5A6A60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A0212-93B4-4B86-9E42-B427A3E6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0A30-C16D-4AFF-B70E-69F41AA2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E0A5-2D11-4589-B138-DD1EC2F5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927B-4D16-4FF0-8ABE-67E25143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DCFF-1F72-4A68-883A-3576C624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4C0-7624-4F86-B432-5EAB6D9C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778E-9EC1-4D4D-B34F-CE9195EE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D60A-C9C6-4DE9-8771-19F2B746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C999-D1EA-45CF-BC15-10935EE3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2513-6676-44C8-A399-BB531382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E9D4-2E8A-4A8C-9D98-C773B01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AB07-EC6E-4740-BE09-E807192C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FA485-DE63-484E-A536-109AEB1C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1E8-E745-466B-94C5-73265144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8D0-DC44-4EA9-AFD5-0E95370E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1BF-386F-40DE-A880-ADFC07B7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98C5-E15E-40DA-B5DA-2F482D5B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DB2-7715-4B25-832A-162D0DA0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06A3-008E-4987-8C17-BDD8B79C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9E20-E56C-4899-BCBE-BB2D865A83F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CC79-3054-4D8C-83EA-D1EEEDA4313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AE22-E742-4375-A5FA-F7A2E0694E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323E-5981-4598-8E4D-CD758ABBD5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2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LOGO"/>
          <p:cNvPicPr/>
          <p:nvPr/>
        </p:nvPicPr>
        <p:blipFill>
          <a:blip r:embed="rId2"/>
          <a:stretch/>
        </p:blipFill>
        <p:spPr>
          <a:xfrm>
            <a:off x="2413080" y="2781360"/>
            <a:ext cx="446400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文字"/>
          <p:cNvPicPr/>
          <p:nvPr/>
        </p:nvPicPr>
        <p:blipFill>
          <a:blip r:embed="rId3"/>
          <a:stretch/>
        </p:blipFill>
        <p:spPr>
          <a:xfrm>
            <a:off x="3232080" y="4005360"/>
            <a:ext cx="29242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蓝色底线"/>
          <p:cNvPicPr/>
          <p:nvPr/>
        </p:nvPicPr>
        <p:blipFill>
          <a:blip r:embed="rId2"/>
          <a:stretch/>
        </p:blipFill>
        <p:spPr>
          <a:xfrm>
            <a:off x="2522520" y="1076400"/>
            <a:ext cx="4237200" cy="580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目录"/>
          <p:cNvPicPr/>
          <p:nvPr/>
        </p:nvPicPr>
        <p:blipFill>
          <a:blip r:embed="rId3"/>
          <a:stretch/>
        </p:blipFill>
        <p:spPr>
          <a:xfrm>
            <a:off x="3255840" y="0"/>
            <a:ext cx="2827440" cy="1162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粉丝红色块"/>
          <p:cNvPicPr/>
          <p:nvPr/>
        </p:nvPicPr>
        <p:blipFill>
          <a:blip r:embed="rId4"/>
          <a:stretch/>
        </p:blipFill>
        <p:spPr>
          <a:xfrm>
            <a:off x="3995640" y="1773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蓝色块"/>
          <p:cNvPicPr/>
          <p:nvPr/>
        </p:nvPicPr>
        <p:blipFill>
          <a:blip r:embed="rId5"/>
          <a:stretch/>
        </p:blipFill>
        <p:spPr>
          <a:xfrm>
            <a:off x="1846440" y="278136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黄色块"/>
          <p:cNvPicPr/>
          <p:nvPr/>
        </p:nvPicPr>
        <p:blipFill>
          <a:blip r:embed="rId6"/>
          <a:stretch/>
        </p:blipFill>
        <p:spPr>
          <a:xfrm>
            <a:off x="6083280" y="3645000"/>
            <a:ext cx="1352520" cy="135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绿色块"/>
          <p:cNvPicPr/>
          <p:nvPr/>
        </p:nvPicPr>
        <p:blipFill>
          <a:blip r:embed="rId7"/>
          <a:stretch/>
        </p:blipFill>
        <p:spPr>
          <a:xfrm>
            <a:off x="3198960" y="499752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男主角"/>
          <p:cNvPicPr/>
          <p:nvPr/>
        </p:nvPicPr>
        <p:blipFill>
          <a:blip r:embed="rId2"/>
          <a:stretch/>
        </p:blipFill>
        <p:spPr>
          <a:xfrm rot="20940000">
            <a:off x="6229440" y="2997360"/>
            <a:ext cx="3951360" cy="444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关于WILL文字"/>
          <p:cNvPicPr/>
          <p:nvPr/>
        </p:nvPicPr>
        <p:blipFill>
          <a:blip r:embed="rId3"/>
          <a:stretch/>
        </p:blipFill>
        <p:spPr>
          <a:xfrm>
            <a:off x="971640" y="693720"/>
            <a:ext cx="504036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2 -0.045833 C 0.044348 -0.045833 0.100348 0.028837 0.100348 0.120837 C 0.100348 0.212837 0.044348 0.287497 -0.024652 0.287497 C -0.093652 0.287497 -0.149652 0.212837 -0.149652 0.120837 C -0.149652 0.028837 -0.093652 -0.045833 -0.024652 -0.045833 Z">
                                      <p:cBhvr>
                                        <p:cTn id="12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长条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97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圆圈"/>
          <p:cNvPicPr/>
          <p:nvPr/>
        </p:nvPicPr>
        <p:blipFill>
          <a:blip r:embed="rId3"/>
          <a:stretch/>
        </p:blipFill>
        <p:spPr>
          <a:xfrm>
            <a:off x="324000" y="404640"/>
            <a:ext cx="1704960" cy="1486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关于"/>
          <p:cNvPicPr/>
          <p:nvPr/>
        </p:nvPicPr>
        <p:blipFill>
          <a:blip r:embed="rId4"/>
          <a:stretch/>
        </p:blipFill>
        <p:spPr>
          <a:xfrm>
            <a:off x="395280" y="476280"/>
            <a:ext cx="3325680" cy="1265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威尔薇儿人物"/>
          <p:cNvPicPr/>
          <p:nvPr/>
        </p:nvPicPr>
        <p:blipFill>
          <a:blip r:embed="rId5"/>
          <a:stretch/>
        </p:blipFill>
        <p:spPr>
          <a:xfrm>
            <a:off x="3067200" y="1557360"/>
            <a:ext cx="3282840" cy="1909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LOGO"/>
          <p:cNvPicPr/>
          <p:nvPr/>
        </p:nvPicPr>
        <p:blipFill>
          <a:blip r:embed="rId6"/>
          <a:stretch/>
        </p:blipFill>
        <p:spPr>
          <a:xfrm>
            <a:off x="2411280" y="3246480"/>
            <a:ext cx="446436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文字解释"/>
          <p:cNvPicPr/>
          <p:nvPr/>
        </p:nvPicPr>
        <p:blipFill>
          <a:blip r:embed="rId7"/>
          <a:stretch/>
        </p:blipFill>
        <p:spPr>
          <a:xfrm>
            <a:off x="1260360" y="4941720"/>
            <a:ext cx="6336000" cy="9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THANKS"/>
          <p:cNvPicPr/>
          <p:nvPr/>
        </p:nvPicPr>
        <p:blipFill>
          <a:blip r:embed="rId2"/>
          <a:stretch/>
        </p:blipFill>
        <p:spPr>
          <a:xfrm>
            <a:off x="2266920" y="2637000"/>
            <a:ext cx="4897440" cy="1093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白线"/>
          <p:cNvPicPr/>
          <p:nvPr/>
        </p:nvPicPr>
        <p:blipFill>
          <a:blip r:embed="rId3"/>
          <a:stretch/>
        </p:blipFill>
        <p:spPr>
          <a:xfrm>
            <a:off x="828720" y="4043520"/>
            <a:ext cx="7343640" cy="287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谢谢观赏"/>
          <p:cNvPicPr/>
          <p:nvPr/>
        </p:nvPicPr>
        <p:blipFill>
          <a:blip r:embed="rId4"/>
          <a:stretch/>
        </p:blipFill>
        <p:spPr>
          <a:xfrm>
            <a:off x="3813120" y="4075200"/>
            <a:ext cx="13352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1T06:54:41Z</dcterms:modified>
  <cp:revision>1</cp:revision>
  <dc:subject/>
  <dc:title>PowerPoint 演示文稿</dc:title>
</cp:coreProperties>
</file>