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CA5-E953-4837-8270-9CF27CAA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BEA-0821-4F66-98F6-E02CD714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DA156-45DA-430A-B7C3-9DE18956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BD83C-604E-480F-8D70-3487BC5E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07384-D435-4E62-8D09-88B9B7A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9C4F3-DDEE-405A-B2C7-2AEDB55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FAA0-98D0-4214-AD12-41669C2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D85B-AD05-491E-B7E3-442FD4A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939A9-72F6-4B86-B2F0-BF382FA7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60B0B-4FD7-4FFE-8298-14C2907D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AE1A6-0494-44AC-8C1F-2529DD1D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30B04-0D94-41FF-B0DF-2AA8A693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41D-A5C0-443B-8722-8E0C8DB8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A5B7B-0720-4779-9264-BDDA9631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B4BC7-6403-49E5-81F8-6CA8BB4E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53076-87D0-42A6-88E0-4E64FD4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193EC-5395-4E4F-BD5C-D640A19F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A7B32-9955-40DD-B928-FAC3B7BA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48EBD-3B2C-4103-9715-73FF099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0B1D6-BE99-49FA-BE65-2A8445CA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C69DC-6BD4-40A7-9030-E023E1D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47734-F0DE-4349-B4FA-02EED717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12015-5C25-432C-AF2D-1037767B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222-FA37-46F4-9AA2-62152528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3C241-B77D-461A-9974-E3C4C3D5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92E42-5AF2-45FC-88A9-81577B1D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059A5-5481-40C0-9608-E0D7627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F66BA-6C25-4B9B-AB5B-CD4614F2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75FD8-35E0-44D8-B53E-FA95BF3E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7F4D1-C51A-454D-B843-04F1ACA5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8BABE-9796-4B3C-98E8-54EDA44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795AD-B4AE-4337-84D3-AE79ED9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8EB0-8780-455E-B82E-894411F5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C3599-7728-41B6-BDFA-D6B187E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E1C5-6A6D-4B20-8E2E-D57812E7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50191-3F32-4B85-8892-8649E5FD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FE18E-D376-4EF3-A2E1-8EEAC94D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8B117-9630-45DC-AB18-201233DE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E46A0-18D1-4C63-BED6-F85E3DD5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E1EB1-1F60-4E7D-8C27-8B89F32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A5FA9-D12C-4D84-B5D4-388FC895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90AA4-AE49-40B0-A598-F7EAAD30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12417-2378-42A9-A6B2-29AC72B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4DA95-1EC7-4937-BBEF-38C789D0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19F75-6860-44C2-A651-CF209AB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CCC8-64B4-40FC-925C-1411D169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A786F-14DB-4C42-AA23-3B75CBE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F511D-A815-46E5-A291-6E6B40D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91F16-B47D-47B3-97EB-C1D6EB45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6CA5D-7473-4FE8-83B2-65254382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7B362-1564-4061-87FD-631A2A4A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43EB1-4B69-4504-80C0-6DFD0F81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9EDF8-3A99-4721-9EAF-5909219B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FF7C6-0517-4C9C-8302-B82758BF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20FEB-C30E-44BD-9A7A-11313D75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B3274-E29E-4CB3-9BD4-C7FF39C5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BA8D-8F2A-426C-82C1-41C4EA7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5D7E9-06D1-4D3F-87BB-06C4D0D0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AE1A95-5821-40E1-95C3-8BB3F38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11799-3145-4A5F-A02D-0C69564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9DCDC-2D26-433C-8FE1-618CADB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CFB68-5DAE-4D3D-9984-B54068E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C14BF-5425-426C-A8E7-FCFE0E2C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F297B-7114-48D4-969B-68C4746D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FA933-E06A-4F60-AC42-0E857970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7AD7B-2607-4D7E-B76E-39CDCC1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6EB86-DDB7-462B-8DD8-B46A0720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2FF-5A2F-4629-8916-B1A1DE26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6E722-B5C9-4394-A1BF-ADF20FA9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5934E-F4C8-402B-A4FE-EB9F4A8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2FE8A-F163-4B49-9A65-74972FA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E59DA-9573-4D03-90DC-B5D8C24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BC132-6166-4432-9947-F3C0FE26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BFAEC-2082-407B-8A11-1C4F9DC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53596-BB3A-4FF4-8B3E-0A12AEDC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DE3DD-9202-4CCF-A93C-CA73943B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2DDA9-03C2-4AE8-9AD8-A5FAA992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4118-52D9-4FF4-BB9E-F3707E6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58C7-9912-4C30-BCB7-DF47DAAE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DFFB-7543-4B17-A59E-7A0DC43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191-ED9E-4592-BF56-4CEAB43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FB8C-8D15-4040-BDC0-A4D50796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FFCA-92F4-48F4-91F8-C24E968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D695-0C4E-4B02-82A1-643AFFA0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7EED-616E-4AAC-A312-33544BDB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1683-0D89-442E-8890-FD854CD2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15BA-FF0F-4D16-AFC0-AC4D5E9D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5F35-3A3C-4961-9743-646066C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C9AD-62A0-4442-8F92-996124CA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2DE1-976A-4235-A6C0-1A930EE9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EBFE-11DB-4B2B-BF35-3358E2B2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650-67B2-4590-B2CF-4140AAD0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08D8-BD73-4A85-9B61-DCB85617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E4BA-CF96-4888-82D6-DE52E94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C6148-1242-47FE-9B64-09054CD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A17A-C7FB-4C25-B15B-CD87660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3A0C-00BC-4AE7-9767-51A7B8BA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A0C5-54BE-405F-A14E-AE64458E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B016-A429-4F57-AD0F-6C4FF2C4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B365-094C-4996-AFBB-818FFAF8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8274-F3A4-471A-A6DA-57B4C808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1D04-D157-469E-8C81-06CEECFA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FE5-6CB6-4B9A-AE6C-1775D2A4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7C73-1319-44E1-8E33-B8EBE2E2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FE8C-54E7-400B-8016-3C3ED0B4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83BD-1AC1-4F0C-B19C-35C4DAD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2AEC-4926-4B15-8756-20FE30F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BCF6-94A2-4A7D-AA05-EE4C4C99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6D92-7B0C-434C-A165-D129601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CA73-67A5-403A-863C-C1A4E793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E8DA5-124A-4B37-903C-2A0DB89C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BA25-5D6D-425C-B625-0A834116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6462-FE90-4E0E-BA84-FA4DFE1E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480-5C0B-4DEA-9201-72BDC74D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736CD-4F2F-47E5-8A7C-B8195B5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7FEB-72BC-4263-BB82-7D205BD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1EBF-677F-4BB5-95F7-B44882E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327B-6CA7-40F2-ADF0-EFF48466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71D2-6CD6-4EEF-A009-929F2EAC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75A3-060E-4ABC-BD55-B38064D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500DD-EA45-4F80-928E-23050C7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07B4-C64C-4C80-AB51-5D224A5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E645-9BD0-43DA-85A5-67CE95F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C49F-D4A1-4050-801A-880D3330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DD1-0A3B-4617-AE40-DE19D264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F8BB8-01E6-4A41-BDDD-A627424C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65AE4-233B-458D-8ED1-50ADC91C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5A9DC-C0A8-4049-9A2A-99BA41FE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B588E-9420-4756-814F-81AC19CB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00212-AF20-4835-900A-BCD74A0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21F1-70DB-4565-BA23-96D58B96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721B7-FDF8-4956-A2BC-DAC6FCE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973A3-A6EC-49F2-8383-CCD99EE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D545-B7F9-476E-A070-05DBF352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1B8DE-70D9-499D-B64F-4FCCA20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FCE-9BE2-4CE7-9B2E-0681B25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A8E6-5007-4D5F-9F5E-FBDAA3F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031B-1BEE-4440-B805-67187323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E101-EC6B-4180-B6DC-8A0E8B7C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E75A-46A8-4A7E-B745-98ED6848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DF8C-FB2E-4B25-A39C-1F00C9BB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E29A-1FD8-43E3-8EF7-A47BB40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035B-6757-4FB8-9DF6-DCED592C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542E-0040-4E0E-BCC6-8EC4573F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1B58-EDFE-4DCC-874E-EDF15B6D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5EB1-85D0-433A-AAAC-44ED4B0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41B-F366-40A1-ACED-C3EFFD65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D03CF-A14F-49A0-B76F-9327A39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9FABE-DEC9-4197-A019-A029483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24E38-3BB3-4EE8-B2BE-DADFFF5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5E693-91CF-4007-902B-E09EC7A6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BADD-B7D4-467B-AC1A-3293BD8C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5485F-DD17-49B4-87A4-4791DE5E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AC24-8858-4F93-AC40-290B897F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8A13-5E3B-4D51-99F0-8A47A7B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41147-665A-4D74-83CF-31839E0F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01907-157D-42E3-9E32-8ADC00BC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638-10E1-415E-B798-C380BC64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F21FF-D533-42E2-A40A-26D6D5C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B827-F003-4218-8BA2-8028351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F0B83-F4CC-4526-A5F0-50FCDFD6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AC78D-A86A-4555-9F6E-6879E409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1D578-9672-42FB-8146-17F867A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1D07-B50F-4AF6-93A7-3A8777C7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FC740-72F4-45B2-8769-4F796209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9AE3D-49A8-4789-AB70-A5FADF3C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1650-B5D7-4994-9BA6-B0346966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1179D-1A91-40E3-840A-11662A37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ED1D-BE7E-4068-84D5-4EE1FA05C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CDBD-CD17-4A0C-B14B-5FD6673D636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FAD5-9FFB-4292-AC5D-AAAA68EC26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88B4-0EE1-4E20-BAD1-298F2ABBADA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33E9-98BB-4EB6-B876-C277B059A0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EBA7-EC35-4CD4-BACD-1AEBEEDF341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8E42-9A6B-4657-9014-5576802438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AB3B-706C-47E6-A330-8E6BACAF0AF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876E-ECE4-4D51-8EB9-043F96A10B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4094-B840-44B2-8E41-D92C353EFC7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1D81-8BE9-40B8-B4A4-CCA920FEF7D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4C8-5E7A-45B3-B297-0D6D3F84941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513-27C0-4536-95A2-1801EC485D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AC12-F0A0-4194-A7CC-D9C1F1D2C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F607-802C-47FD-9D7F-0E32304F8DD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194-E8D5-4DB9-AEF0-834A39D2CD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F2B-5587-4636-820D-AE059DDBCC3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5DD-A487-4395-B1E5-285B99014B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081-67EF-463A-9A87-5E56C80E761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1DF-71FC-4456-BE1B-C34C45A679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BE6-8980-4FBE-B9FC-9DACEFFEC30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20D-19DC-4214-B05A-FD8AED299F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37A7-3FCB-4700-B297-643E8530DBB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5317-FEEC-4D8E-A05E-DF655DF85F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97B-5EEB-44CB-AFD9-D0798CB0603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0564-7094-43D0-B527-9946D9FCD1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  <a:ea typeface="宋体"/>
              </a:rPr>
              <a:t>KICK 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  <a:ea typeface="宋体"/>
              </a:rPr>
              <a:t>Title Goes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  <a:ea typeface="宋体"/>
              </a:rPr>
              <a:t>PRINT P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5" descr="Z:\newtek\_backgrounds_1.02\Ryan\021-040\Kick_me\kick_me_qx.jpg"/>
          <p:cNvPicPr/>
          <p:nvPr/>
        </p:nvPicPr>
        <p:blipFill>
          <a:blip r:embed="rId1"/>
          <a:stretch/>
        </p:blipFill>
        <p:spPr>
          <a:xfrm>
            <a:off x="2819520" y="1828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Z:\newtek\_backgrounds_1.02\Ryan\021-040\Kick_me\kick_me_sld.jpg"/>
          <p:cNvPicPr/>
          <p:nvPr/>
        </p:nvPicPr>
        <p:blipFill>
          <a:blip r:embed="rId2"/>
          <a:stretch/>
        </p:blipFill>
        <p:spPr>
          <a:xfrm>
            <a:off x="5943600" y="18288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Z:\newtek\_backgrounds_1.02\Ryan\021-040\Kick_me\kick_me_prt.jpg"/>
          <p:cNvPicPr/>
          <p:nvPr/>
        </p:nvPicPr>
        <p:blipFill>
          <a:blip r:embed="rId3"/>
          <a:stretch/>
        </p:blipFill>
        <p:spPr>
          <a:xfrm>
            <a:off x="2819520" y="4114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Z:\newtek\_backgrounds_1.02\Ryan\021-040\Kick_me\kick_me_trs.jpg"/>
          <p:cNvPicPr/>
          <p:nvPr/>
        </p:nvPicPr>
        <p:blipFill>
          <a:blip r:embed="rId4"/>
          <a:stretch/>
        </p:blipFill>
        <p:spPr>
          <a:xfrm>
            <a:off x="5943600" y="41148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2:44:50Z</dcterms:created>
  <dc:creator>eclipse</dc:creator>
  <dc:description/>
  <cp:keywords/>
  <dc:language>en-US</dc:language>
  <cp:lastModifiedBy>a</cp:lastModifiedBy>
  <dcterms:modified xsi:type="dcterms:W3CDTF">2014-07-24T07:54:08Z</dcterms:modified>
  <cp:revision>2</cp:revision>
  <dc:subject/>
  <dc:title>KICK 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