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E87-5E16-473B-9093-AB180322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58B-CE88-4CB4-ADA1-F960D441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24E-86ED-45A6-91AF-377B24E6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C54-817F-4B26-9C01-2B6EC5B8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FA0D-6204-47E6-B5A5-C13E7E2D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2B84-C23A-4AEF-B22C-EB9DEDA4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2A09-F63B-4BFC-BE59-0C9A6EC5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D57C-26E1-4C5A-AA35-51A4F2F6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EA31-6BF0-4CF2-8FB6-E9A1460F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1BF1-AE7E-42A9-9F8C-1AD61915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741A-C231-429B-95C6-C992CF9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42F-169F-4E24-B076-C3805CBF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E615-F2EA-4C11-9A9B-3F853B12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A3D4-4AC8-498E-A418-C830DA23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5038-852A-4219-B5D9-14EB4D50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BECE-530E-41AC-962D-215139C0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2448-BB91-491E-B248-66AC38FF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21F-7A85-4E4F-81ED-E2374782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2DF-CA1E-4AE8-A79C-C6A1A55D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8A1-B357-4266-BDBB-2F68FCF2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447-64D0-4C95-AD70-D8D7B0E3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D7C-546E-4B8E-B8E5-03EEAB44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613-659D-4B8A-9926-FF3087D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963-4201-473D-AFD0-91BC449B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642A-CCBA-4103-BCB7-F32EB842E42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09FF-E9EC-4F4C-B9DD-A0B47E3563D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97E9-DC0F-47A1-B927-A4AC9ACE59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1158840"/>
            <a:ext cx="88581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30360" y="1742760"/>
            <a:ext cx="7656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f497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f497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f497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f497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22:41:04Z</dcterms:created>
  <dc:creator/>
  <dc:description/>
  <cp:keywords/>
  <dc:language>en-US</dc:language>
  <cp:lastModifiedBy>a</cp:lastModifiedBy>
  <dcterms:modified xsi:type="dcterms:W3CDTF">2014-05-31T02:15:02Z</dcterms:modified>
  <cp:revision>8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