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8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3.jpeg" ContentType="image/jpeg"/>
  <Override PartName="/ppt/media/image22.wmf" ContentType="image/x-wmf"/>
  <Override PartName="/ppt/media/image18.gif" ContentType="image/gi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157C-8E66-4DCB-B998-7CDA1F26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B140-9826-4224-B9B8-A48BF66C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1EA63-A841-4A14-B202-98F80D2A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E1F80-419D-46FA-8A69-03403A1C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24C1D-C03D-4234-AD01-A2858537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76529-A6E0-4C02-A82D-4ED58329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B27C7-2104-4B49-88DD-D8CF9DE8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C8B1F-DB71-459A-9E3C-28A0374E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B5D35-E3BA-41EF-BF51-4894A623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0DB65-F861-42FD-832E-FCA1CF7D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88225-EFF3-4E96-8EEA-6C09E5A4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D2D90-E25E-49D5-81E1-6E61B26C6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AE9B-FCDF-40B4-9BAD-DC3822C1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759FC-D397-4C1C-9AAB-24AB1DE4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75A86-2D35-460F-93A0-87E62872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85E10-D728-4BCF-BA18-A5A587BC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76566-6133-40D3-8C4E-D00E9121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99E4D-8863-452D-A369-14188C2C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AA4E1-CF74-4763-A3D0-05B9D154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C545A-A4AA-479E-9E70-3406AEE0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77751-31B5-40A9-B3B8-202484A2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3ED31-4FC1-445F-BC92-236ABC8B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F6704-57BF-40D0-B053-55DD4FBC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5BB2-61D9-45EF-B7CD-27BBD59B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D07CE-45FB-4E27-AF5F-2EF1E51F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EF441-FC84-42D4-AD74-40EAE9CD5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CAC42-7995-41B1-B39F-3E2E1DF3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2A30C-1A59-4703-B7E2-48595B42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F3A10-F8E4-4107-BB8F-01C19593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A6FC2-DE6F-4183-B677-5DDD5E25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D8518-6778-46A6-B1D0-809B248C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58764-57A5-45ED-BE3E-C4FE627C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A7D39-0618-4A1C-8FC8-77F66970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2FD6D-E902-4F1E-A093-B7B60D13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BBD7-C643-4DF9-91BC-E58FEAD0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B789A-5379-40B3-B196-0ADAE659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804BF-DFE1-4FF4-BB82-E28327D4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595F0-2DD5-4916-8CB6-F7D24958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25C84-409F-4888-90E3-B1C73D9B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E1AD6-FAB8-4CDD-A733-30046FBF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FB972-E69E-4FB6-8D18-69BFC830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FCDDB-0D20-4BC7-9654-712929B3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F5BC9-8DE3-403B-873B-9AE5EAA4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9B315-749E-4191-A9FB-67E12BFD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311CC-70F0-4711-B0EB-4A220C64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71DD-B82D-4548-80EE-C32C2332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58B38-C8A7-4A0D-9FC8-E517027B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C0247-02E1-4F95-BF48-0780B9FC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7DF34-0F20-484C-9DEA-74B6AA74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2CB84-12B9-4651-BEF1-BBA47CA6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F68C5-BDB8-4909-A510-004CDDAA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6F0EB-0A7E-45BB-9293-37DE4386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413B6-83D0-488B-8238-27025CF2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4B42A-2A94-40D1-BB71-4B114E7C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9651A-D0CB-4A7B-A333-92C08B8B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71673-9358-457F-9809-FBB05056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6AB6-7F9D-42B9-ABD2-83AC8B06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3C73F-B3FD-44C9-91E4-C5C1949B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1C275-E39D-4A61-BDDB-263E90F0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A58A7-3183-4424-A3A7-66366DAF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9591C-4D84-454B-980F-9D8709D9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4205E-30BE-47FA-B36B-9F100507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05447-B131-4FBC-BA08-9F3FC2FB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7A792-44E7-4D86-B5E6-50BBDE3D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C055E-06EA-4D8F-B9E7-552FF5A0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AC973-7D96-4729-B54D-A135BB1E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581C3-0743-49E9-A022-AD056B08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878F-3134-4A1F-B42C-5B77D728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243AC-FD7B-44E0-AB03-24226183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3AD52-987B-4ED8-8963-AEE53756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55679-84F3-4E3A-B61D-E11D461D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982D0-5E6B-4748-B6E4-1DCE0C90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BC8B8-9414-4470-B802-35B15424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D0AE0-E95A-40FA-857C-CB7C0167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09A74-E614-4194-AD88-5005F277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B4040-ACDE-4CB4-B975-64912D5F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194E3-C70D-4E78-B663-7F1BE0C9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7F3758-0BC9-4963-A802-D9B9982E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FE3F-A46A-4A19-8BD0-A1135A0B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2FF1D1-56A5-4938-8783-ED4AE691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629CF1-580B-4FB8-87DD-AE09F2C3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9FB5F9-7386-4AA3-A33C-FCA8CA85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B7E4B8-007A-43FE-8891-C7F03A8B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C471DC-F31E-4879-B74A-09B64223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2939BA-7421-4252-A900-AF1983C3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5D1600-F6EA-42D2-8D60-44F4D8C3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16C85D-7471-4490-BB09-67360B89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05AD53-68A3-41EB-AAF6-6622F8D5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0E4C5A-EF49-4903-ABAF-B19DF58D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51D8-2871-4C2C-85F8-B73D4DB6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18CFCD-F620-465C-AA69-971F8E8D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CD118A-F160-41C3-9710-50795569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0F0A8C-E6D8-43ED-ABE5-A5657969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6401AE-8269-4406-BF9A-69D2A665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5A4C64-6C61-4271-9D62-FD15CA8B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20FD91-5207-42EF-8BCE-237DB1E7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2EA25C-00D1-4B98-848D-B1E3160A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2BE4CF-4998-4205-82E4-6043E973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543650-B598-490C-9F6A-CA086132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53BE2D-53A2-42EF-9261-E1D5CCC1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ABEB-02A8-4F4F-9C16-BDCC757F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97DB7F-56D0-4F04-A51C-42D24642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E21F35-CABA-4022-85F2-C192BFA3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3F3608-8E49-4DB8-A4CD-5CE64D9F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E14D-7914-4847-A16F-AF1D87A3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D0CF-5FD2-44A7-A00D-D0B9F8CA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E17E-F796-429F-A7B4-389E3D42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99D3-4505-4A5D-8B72-3E4C34BA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97F4-6861-4C0C-9C81-707E833B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BA47-1178-4D9D-9D08-53D21FA0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E47CC-6081-45F9-96B9-E16C898A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56B38-FFB9-485B-8725-66817CE7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F3498-6D9B-4192-8763-857C9A42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E2F21-487A-4592-A2F7-9E493403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A97C5-7F58-47C9-AA53-558109FD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15EC-336D-421B-8B3F-35903254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65DF9-C534-476A-94D7-EEFAFA10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08BE3-A4DF-4E35-B82C-591D04B1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50F4E-F948-4DC2-A1FC-0E8F6FF6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C9522-054F-4EA2-AC68-00A22F9E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5E9CB-240A-4E2C-98BB-C0119765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C731C-621B-4DC9-9616-8785F95C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FFF75-6157-43AC-980E-0C614752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4836-81D3-498F-8DEB-F465A667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2301-643F-47A4-A0E0-1503BC59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258D-A328-412F-949B-1F3EC882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3CD73-402A-469F-9B62-544FA578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7D434-2448-4AB3-A7D7-DC514918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9FF02-6329-4181-AE62-E7A6EEF4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6C48F-03D2-4D63-8505-6E3083F7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44DFF-B4F5-4F5A-AD1F-1D967CBB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4A386-A349-4EAF-8940-52028545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EE1EE-64FB-4AED-B64E-C9FD677D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81DE1-10FB-4558-A525-AE7D578F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A294B-B443-4E34-8BFA-7D2B57EF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7B10-5862-4535-9753-7DCDB864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2180C-378C-4FA8-8FED-5121EA8E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D2252-DE76-400A-B0A1-282125D9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2B054-1139-4A1D-8C87-43BC6DA9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26907-3BDF-49B7-B15E-E8E45503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F0964-9D8A-4C9F-8F48-5C7AF32E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491A3-3A8E-4B2B-A671-1CDFD8B9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A9ACE-D54C-41C7-B51B-EE06A2E3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E6882-86D1-44B5-81F4-EA8E85A4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EF27D-1166-42A8-AB17-ACF10CE1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AFA1F-2AA5-4706-9AE9-3B1A8A95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5B24-E12A-4749-8EE7-9BE3C825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CF300-CDED-4214-9F54-E56D4E3D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CFB11-370C-4B15-BCFE-650FDDA7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0640B-4A27-4CD7-8E9A-72E88289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CEA04-B719-42A1-AAC4-C3AC82CA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CED83-6051-4386-8C72-21D78DAE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BA46C-A636-4DFA-BA6D-2BA17ACA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1FA88-B17A-45AF-A066-662E775C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3C79C-794F-44AC-B092-B6DE6E2D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270D6-7A64-46AE-AF76-A8D107CE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F3046-BDD0-4272-823B-718DA961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F121-52A9-4C72-BDFE-D57D1F08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ADC66-227D-4316-9388-42F70AEF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EE1B4-F75C-4CD9-B427-59A0EE36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453F8-882F-4E77-AA2F-70B80FB4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83859-7D87-4509-91A1-07D7DD6F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603A4-8757-4C4F-ADCB-139F2568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B6A64-472E-48E2-A77D-386D19F2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823D4-F988-4800-A0F2-3448BA7A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9E5D2-3B6D-47DA-BC99-15B14CAF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81609-A8CD-4361-AAC4-739D79E6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87B9B-4D63-4B44-843C-052973C2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gif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3.png"/><Relationship Id="rId8" Type="http://schemas.openxmlformats.org/officeDocument/2006/relationships/image" Target="../media/image11.jpeg"/><Relationship Id="rId9" Type="http://schemas.openxmlformats.org/officeDocument/2006/relationships/image" Target="../media/image2.png"/><Relationship Id="rId10" Type="http://schemas.openxmlformats.org/officeDocument/2006/relationships/image" Target="../media/image14.pn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49.xml"/><Relationship Id="rId13" Type="http://schemas.openxmlformats.org/officeDocument/2006/relationships/slideLayout" Target="../slideLayouts/slideLayout50.xml"/><Relationship Id="rId14" Type="http://schemas.openxmlformats.org/officeDocument/2006/relationships/slideLayout" Target="../slideLayouts/slideLayout51.xml"/><Relationship Id="rId15" Type="http://schemas.openxmlformats.org/officeDocument/2006/relationships/slideLayout" Target="../slideLayouts/slideLayout52.xml"/><Relationship Id="rId16" Type="http://schemas.openxmlformats.org/officeDocument/2006/relationships/slideLayout" Target="../slideLayouts/slideLayout53.xml"/><Relationship Id="rId17" Type="http://schemas.openxmlformats.org/officeDocument/2006/relationships/slideLayout" Target="../slideLayouts/slideLayout54.xml"/><Relationship Id="rId18" Type="http://schemas.openxmlformats.org/officeDocument/2006/relationships/slideLayout" Target="../slideLayouts/slideLayout55.xml"/><Relationship Id="rId19" Type="http://schemas.openxmlformats.org/officeDocument/2006/relationships/slideLayout" Target="../slideLayouts/slideLayout56.xml"/><Relationship Id="rId20" Type="http://schemas.openxmlformats.org/officeDocument/2006/relationships/slideLayout" Target="../slideLayouts/slideLayout57.xml"/><Relationship Id="rId21" Type="http://schemas.openxmlformats.org/officeDocument/2006/relationships/slideLayout" Target="../slideLayouts/slideLayout58.xml"/><Relationship Id="rId22" Type="http://schemas.openxmlformats.org/officeDocument/2006/relationships/slideLayout" Target="../slideLayouts/slideLayout59.xml"/><Relationship Id="rId2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553080" y="6019920"/>
            <a:ext cx="2392200" cy="563400"/>
            <a:chOff x="6553080" y="6019920"/>
            <a:chExt cx="2392200" cy="563400"/>
          </a:xfrm>
        </p:grpSpPr>
        <p:sp>
          <p:nvSpPr>
            <p:cNvPr id="1" name="未知"/>
            <p:cNvSpPr/>
            <p:nvPr/>
          </p:nvSpPr>
          <p:spPr>
            <a:xfrm>
              <a:off x="7089120" y="642312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7712280" y="6399000"/>
              <a:ext cx="7380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880320" y="6303600"/>
              <a:ext cx="23976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8568720" y="630360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8304120" y="6408360"/>
              <a:ext cx="14652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7973640" y="633672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7125480" y="611100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8111520" y="630468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553080" y="6195960"/>
              <a:ext cx="210240" cy="38700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8246520" y="624240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726960" y="601992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7373160" y="628092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8781120" y="628092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7715520" y="6050160"/>
              <a:ext cx="287280" cy="53280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7531560" y="6088680"/>
              <a:ext cx="15948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8430840" y="6088680"/>
              <a:ext cx="15948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7" name="未知"/>
          <p:cNvSpPr/>
          <p:nvPr/>
        </p:nvSpPr>
        <p:spPr>
          <a:xfrm>
            <a:off x="0" y="6477120"/>
            <a:ext cx="914400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" name="未知"/>
          <p:cNvSpPr/>
          <p:nvPr/>
        </p:nvSpPr>
        <p:spPr>
          <a:xfrm>
            <a:off x="0" y="6553080"/>
            <a:ext cx="9144000" cy="30492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gradFill rotWithShape="0">
            <a:gsLst>
              <a:gs pos="0">
                <a:srgbClr val="185e25"/>
              </a:gs>
              <a:gs pos="100000">
                <a:srgbClr val="329a2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" name="未知"/>
          <p:cNvSpPr/>
          <p:nvPr/>
        </p:nvSpPr>
        <p:spPr>
          <a:xfrm>
            <a:off x="0" y="533520"/>
            <a:ext cx="9144000" cy="38088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" name="未知"/>
          <p:cNvSpPr/>
          <p:nvPr/>
        </p:nvSpPr>
        <p:spPr>
          <a:xfrm>
            <a:off x="0" y="0"/>
            <a:ext cx="9144000" cy="83808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003300"/>
              </a:gs>
              <a:gs pos="100000">
                <a:srgbClr val="185e2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434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e89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7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3048120" y="63241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4800240" y="6324120"/>
            <a:ext cx="231156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7086240" y="632412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7D5E-81ED-4E73-8E73-D0F956E73B8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Text Box 28"/>
          <p:cNvSpPr/>
          <p:nvPr/>
        </p:nvSpPr>
        <p:spPr>
          <a:xfrm>
            <a:off x="144360" y="6443640"/>
            <a:ext cx="3096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7" name="Picture 29" descr="5482911_143735027169_2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8381880" y="0"/>
            <a:ext cx="673200" cy="762120"/>
          </a:xfrm>
          <a:prstGeom prst="rect">
            <a:avLst/>
          </a:prstGeom>
          <a:ln w="9360">
            <a:solidFill>
              <a:srgbClr val="329a2a"/>
            </a:solidFill>
            <a:miter/>
          </a:ln>
        </p:spPr>
      </p:pic>
      <p:sp>
        <p:nvSpPr>
          <p:cNvPr id="28" name="Text Box 30"/>
          <p:cNvSpPr/>
          <p:nvPr/>
        </p:nvSpPr>
        <p:spPr>
          <a:xfrm>
            <a:off x="4419720" y="380880"/>
            <a:ext cx="434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高中生物必修一第五章第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节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7253-E311-4DEF-BEC6-6C91658D322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7EDE-A3F5-4F05-A000-21CFAA8C45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B28E-F60E-4C9C-9854-79CC04E885E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A11D-A69A-4849-93CD-8B10F48F42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D429-5F37-48F4-8C85-DFEBC6A7673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8492-C212-44BD-A03D-0E22503A24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62E0-5DF1-4BF2-BB25-EE214501629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2CC5-9C1F-4AB5-8BF1-8FF486B64C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753B-4A94-4765-8C88-4E9F43751E6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710A-5F6C-498D-BA06-3158169BED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CA61-CB25-42E4-9137-B1E3B7BD510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4137-AA64-497C-B1FC-E9755C058A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A3A1-0595-4345-9C02-6228109AC65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D219-2577-49AB-972F-98769D3189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"/>
          <p:cNvGrpSpPr/>
          <p:nvPr/>
        </p:nvGrpSpPr>
        <p:grpSpPr>
          <a:xfrm>
            <a:off x="6553080" y="6019920"/>
            <a:ext cx="2392200" cy="563400"/>
            <a:chOff x="6553080" y="6019920"/>
            <a:chExt cx="2392200" cy="563400"/>
          </a:xfrm>
        </p:grpSpPr>
        <p:sp>
          <p:nvSpPr>
            <p:cNvPr id="66" name="未知"/>
            <p:cNvSpPr/>
            <p:nvPr/>
          </p:nvSpPr>
          <p:spPr>
            <a:xfrm>
              <a:off x="7089120" y="642312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7712280" y="6399000"/>
              <a:ext cx="7380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6880320" y="6303600"/>
              <a:ext cx="23976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8568720" y="630360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8304120" y="6408360"/>
              <a:ext cx="14652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7973640" y="633672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7125480" y="611100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8111520" y="630468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6553080" y="6195960"/>
              <a:ext cx="210240" cy="38700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8246520" y="624240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6726960" y="601992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7373160" y="628092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8781120" y="628092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7715520" y="6050160"/>
              <a:ext cx="287280" cy="53280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7531560" y="6088680"/>
              <a:ext cx="15948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8430840" y="6088680"/>
              <a:ext cx="15948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82" name="未知"/>
          <p:cNvSpPr/>
          <p:nvPr/>
        </p:nvSpPr>
        <p:spPr>
          <a:xfrm>
            <a:off x="0" y="6477120"/>
            <a:ext cx="914400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" name="未知"/>
          <p:cNvSpPr/>
          <p:nvPr/>
        </p:nvSpPr>
        <p:spPr>
          <a:xfrm>
            <a:off x="0" y="6553080"/>
            <a:ext cx="9144000" cy="30492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gradFill rotWithShape="0">
            <a:gsLst>
              <a:gs pos="0">
                <a:srgbClr val="185e25"/>
              </a:gs>
              <a:gs pos="100000">
                <a:srgbClr val="329a2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" name="未知"/>
          <p:cNvSpPr/>
          <p:nvPr/>
        </p:nvSpPr>
        <p:spPr>
          <a:xfrm>
            <a:off x="0" y="533520"/>
            <a:ext cx="9144000" cy="38088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" name="未知"/>
          <p:cNvSpPr/>
          <p:nvPr/>
        </p:nvSpPr>
        <p:spPr>
          <a:xfrm>
            <a:off x="0" y="0"/>
            <a:ext cx="9144000" cy="83808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003300"/>
              </a:gs>
              <a:gs pos="100000">
                <a:srgbClr val="185e2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-98280"/>
            <a:ext cx="7086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7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3048120" y="63241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4800240" y="6324120"/>
            <a:ext cx="231156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7086240" y="632412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CBA6-D21B-4B13-8E4B-C68446B7BC6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8"/>
          <p:cNvSpPr/>
          <p:nvPr/>
        </p:nvSpPr>
        <p:spPr>
          <a:xfrm>
            <a:off x="144360" y="6443640"/>
            <a:ext cx="3096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92" name="Picture 29" descr="透明校徽2"/>
          <p:cNvPicPr/>
          <p:nvPr/>
        </p:nvPicPr>
        <p:blipFill>
          <a:blip r:embed="rId2"/>
          <a:stretch/>
        </p:blipFill>
        <p:spPr>
          <a:xfrm>
            <a:off x="769608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0" descr="华师一附中白副本"/>
          <p:cNvPicPr/>
          <p:nvPr/>
        </p:nvPicPr>
        <p:blipFill>
          <a:blip r:embed="rId3"/>
          <a:stretch/>
        </p:blipFill>
        <p:spPr>
          <a:xfrm>
            <a:off x="8153280" y="114480"/>
            <a:ext cx="914400" cy="26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Control 31"/>
          <p:cNvGraphicFramePr/>
          <p:nvPr/>
        </p:nvGraphicFramePr>
        <p:xfrm>
          <a:off x="76320" y="6553080"/>
          <a:ext cx="914400" cy="228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Control 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6553080"/>
                    <a:ext cx="9144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6D33-6334-46AF-AB85-FCBDAB50E91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68F8-BC2C-4199-B33C-B8E3D23E91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5962680" y="2743200"/>
            <a:ext cx="74304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867800" y="3505320"/>
            <a:ext cx="742680" cy="744480"/>
          </a:xfrm>
          <a:prstGeom prst="rect">
            <a:avLst/>
          </a:prstGeom>
          <a:blipFill rotWithShape="0">
            <a:blip r:embed="rId2">
              <a:alphaModFix amt="7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105680" y="3505320"/>
            <a:ext cx="743040" cy="744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105680" y="4267080"/>
            <a:ext cx="743040" cy="743040"/>
          </a:xfrm>
          <a:prstGeom prst="rect">
            <a:avLst/>
          </a:prstGeom>
          <a:solidFill>
            <a:srgbClr val="80cb3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6781680" y="2743200"/>
            <a:ext cx="743040" cy="743040"/>
          </a:xfrm>
          <a:prstGeom prst="rect">
            <a:avLst/>
          </a:prstGeom>
          <a:solidFill>
            <a:srgbClr val="80cb3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78" name="Group 7"/>
          <p:cNvGrpSpPr/>
          <p:nvPr/>
        </p:nvGrpSpPr>
        <p:grpSpPr>
          <a:xfrm>
            <a:off x="0" y="6324480"/>
            <a:ext cx="9143640" cy="533160"/>
            <a:chOff x="0" y="6324480"/>
            <a:chExt cx="9143640" cy="533160"/>
          </a:xfrm>
        </p:grpSpPr>
        <p:sp>
          <p:nvSpPr>
            <p:cNvPr id="179" name="未知"/>
            <p:cNvSpPr/>
            <p:nvPr/>
          </p:nvSpPr>
          <p:spPr>
            <a:xfrm>
              <a:off x="0" y="6324480"/>
              <a:ext cx="9138960" cy="4676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gradFill rotWithShape="0">
              <a:gsLst>
                <a:gs pos="0">
                  <a:srgbClr val="329a2a"/>
                </a:gs>
                <a:gs pos="100000">
                  <a:srgbClr val="185e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0" y="6390000"/>
              <a:ext cx="9138960" cy="4676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gradFill rotWithShape="0">
              <a:gsLst>
                <a:gs pos="0">
                  <a:srgbClr val="329a2a"/>
                </a:gs>
                <a:gs pos="100000">
                  <a:srgbClr val="185e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6721560" y="6434280"/>
              <a:ext cx="2422080" cy="117720"/>
            </a:xfrm>
            <a:custGeom>
              <a:avLst/>
              <a:gdLst/>
              <a:ahLst/>
              <a:rect l="l" t="t" r="r" b="b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gradFill rotWithShape="0">
              <a:gsLst>
                <a:gs pos="0">
                  <a:srgbClr val="329a2a"/>
                </a:gs>
                <a:gs pos="100000">
                  <a:srgbClr val="185e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82" name="Group 11"/>
          <p:cNvGrpSpPr/>
          <p:nvPr/>
        </p:nvGrpSpPr>
        <p:grpSpPr>
          <a:xfrm>
            <a:off x="0" y="685800"/>
            <a:ext cx="3911040" cy="685440"/>
            <a:chOff x="0" y="685800"/>
            <a:chExt cx="3911040" cy="685440"/>
          </a:xfrm>
        </p:grpSpPr>
        <p:sp>
          <p:nvSpPr>
            <p:cNvPr id="183" name="未知"/>
            <p:cNvSpPr/>
            <p:nvPr/>
          </p:nvSpPr>
          <p:spPr>
            <a:xfrm flipV="1">
              <a:off x="876600" y="685440"/>
              <a:ext cx="104760" cy="19476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 flipV="1">
              <a:off x="1895040" y="685440"/>
              <a:ext cx="120600" cy="22428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 flipV="1">
              <a:off x="534960" y="685440"/>
              <a:ext cx="391680" cy="34020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 flipV="1">
              <a:off x="3295440" y="685440"/>
              <a:ext cx="387000" cy="34020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 flipV="1">
              <a:off x="2862720" y="685440"/>
              <a:ext cx="239400" cy="2127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88" name="未知"/>
            <p:cNvSpPr/>
            <p:nvPr/>
          </p:nvSpPr>
          <p:spPr>
            <a:xfrm flipV="1">
              <a:off x="2322720" y="685440"/>
              <a:ext cx="236520" cy="29988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 flipV="1">
              <a:off x="935640" y="685440"/>
              <a:ext cx="446040" cy="57420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 flipV="1">
              <a:off x="2548080" y="685440"/>
              <a:ext cx="247320" cy="33876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 flipV="1">
              <a:off x="0" y="685440"/>
              <a:ext cx="343800" cy="4712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 flipV="1">
              <a:off x="2768760" y="685440"/>
              <a:ext cx="182880" cy="4143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 flipV="1">
              <a:off x="284400" y="685800"/>
              <a:ext cx="298440" cy="68544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 flipV="1">
              <a:off x="1341000" y="685440"/>
              <a:ext cx="268560" cy="3675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 flipV="1">
              <a:off x="3642480" y="685440"/>
              <a:ext cx="268560" cy="3675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 flipV="1">
              <a:off x="1900800" y="685800"/>
              <a:ext cx="469800" cy="64872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 flipV="1">
              <a:off x="1599480" y="685800"/>
              <a:ext cx="260640" cy="6019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 flipV="1">
              <a:off x="3070080" y="685800"/>
              <a:ext cx="260640" cy="6019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99" name="Rectangle 28"/>
          <p:cNvSpPr/>
          <p:nvPr/>
        </p:nvSpPr>
        <p:spPr>
          <a:xfrm>
            <a:off x="0" y="6629400"/>
            <a:ext cx="9144000" cy="15228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00" name="Group 29"/>
          <p:cNvGrpSpPr/>
          <p:nvPr/>
        </p:nvGrpSpPr>
        <p:grpSpPr>
          <a:xfrm>
            <a:off x="0" y="0"/>
            <a:ext cx="9143640" cy="685800"/>
            <a:chOff x="0" y="0"/>
            <a:chExt cx="9143640" cy="685800"/>
          </a:xfrm>
        </p:grpSpPr>
        <p:sp>
          <p:nvSpPr>
            <p:cNvPr id="201" name="未知"/>
            <p:cNvSpPr/>
            <p:nvPr/>
          </p:nvSpPr>
          <p:spPr>
            <a:xfrm>
              <a:off x="0" y="190440"/>
              <a:ext cx="9143640" cy="495360"/>
            </a:xfrm>
            <a:custGeom>
              <a:avLst/>
              <a:gdLst/>
              <a:ahLst/>
              <a:rect l="l" t="t" r="r" b="b"/>
              <a:pathLst>
                <a:path w="5446" h="590">
                  <a:moveTo>
                    <a:pt x="0" y="0"/>
                  </a:moveTo>
                  <a:lnTo>
                    <a:pt x="5446" y="0"/>
                  </a:lnTo>
                  <a:lnTo>
                    <a:pt x="5446" y="312"/>
                  </a:lnTo>
                  <a:lnTo>
                    <a:pt x="5446" y="451"/>
                  </a:lnTo>
                  <a:cubicBezTo>
                    <a:pt x="4790" y="473"/>
                    <a:pt x="2205" y="421"/>
                    <a:pt x="1512" y="443"/>
                  </a:cubicBezTo>
                  <a:lnTo>
                    <a:pt x="1288" y="584"/>
                  </a:lnTo>
                  <a:lnTo>
                    <a:pt x="0" y="5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0" y="0"/>
              <a:ext cx="9143640" cy="630000"/>
            </a:xfrm>
            <a:custGeom>
              <a:avLst/>
              <a:gdLst/>
              <a:ahLst/>
              <a:rect l="l" t="t" r="r" b="b"/>
              <a:pathLst>
                <a:path w="5658" h="655">
                  <a:moveTo>
                    <a:pt x="1" y="0"/>
                  </a:moveTo>
                  <a:lnTo>
                    <a:pt x="5657" y="0"/>
                  </a:lnTo>
                  <a:lnTo>
                    <a:pt x="5658" y="534"/>
                  </a:lnTo>
                  <a:lnTo>
                    <a:pt x="1553" y="528"/>
                  </a:lnTo>
                  <a:lnTo>
                    <a:pt x="1317" y="651"/>
                  </a:lnTo>
                  <a:lnTo>
                    <a:pt x="0" y="655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174713"/>
                </a:gs>
                <a:gs pos="100000">
                  <a:srgbClr val="329a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0" y="504000"/>
              <a:ext cx="2417400" cy="93960"/>
            </a:xfrm>
            <a:custGeom>
              <a:avLst/>
              <a:gdLst/>
              <a:ahLst/>
              <a:rect l="l" t="t" r="r" b="b"/>
              <a:pathLst>
                <a:path w="1440" h="112">
                  <a:moveTo>
                    <a:pt x="1440" y="1"/>
                  </a:moveTo>
                  <a:lnTo>
                    <a:pt x="1261" y="112"/>
                  </a:lnTo>
                  <a:lnTo>
                    <a:pt x="0" y="110"/>
                  </a:lnTo>
                  <a:lnTo>
                    <a:pt x="0" y="49"/>
                  </a:lnTo>
                  <a:lnTo>
                    <a:pt x="1069" y="50"/>
                  </a:lnTo>
                  <a:lnTo>
                    <a:pt x="1142" y="0"/>
                  </a:lnTo>
                  <a:lnTo>
                    <a:pt x="1440" y="1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204" name="Rectangle 33"/>
          <p:cNvSpPr/>
          <p:nvPr/>
        </p:nvSpPr>
        <p:spPr>
          <a:xfrm>
            <a:off x="7105680" y="1981080"/>
            <a:ext cx="741240" cy="7430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5" name="Rectangle 34"/>
          <p:cNvSpPr/>
          <p:nvPr/>
        </p:nvSpPr>
        <p:spPr>
          <a:xfrm>
            <a:off x="6343560" y="1981080"/>
            <a:ext cx="743040" cy="7430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6" name="Rectangle 35"/>
          <p:cNvSpPr/>
          <p:nvPr/>
        </p:nvSpPr>
        <p:spPr>
          <a:xfrm>
            <a:off x="5581800" y="3522600"/>
            <a:ext cx="742680" cy="7430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7" name="Rectangle 36"/>
          <p:cNvSpPr/>
          <p:nvPr/>
        </p:nvSpPr>
        <p:spPr>
          <a:xfrm>
            <a:off x="6724800" y="1219320"/>
            <a:ext cx="742680" cy="74268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8" name="Rectangle 37"/>
          <p:cNvSpPr/>
          <p:nvPr/>
        </p:nvSpPr>
        <p:spPr>
          <a:xfrm>
            <a:off x="6345360" y="4267080"/>
            <a:ext cx="741240" cy="743040"/>
          </a:xfrm>
          <a:prstGeom prst="rect">
            <a:avLst/>
          </a:prstGeom>
          <a:solidFill>
            <a:srgbClr val="329a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9" name="Rectangle 38"/>
          <p:cNvSpPr/>
          <p:nvPr/>
        </p:nvSpPr>
        <p:spPr>
          <a:xfrm>
            <a:off x="7486560" y="2743200"/>
            <a:ext cx="743040" cy="743040"/>
          </a:xfrm>
          <a:prstGeom prst="rect">
            <a:avLst/>
          </a:pr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10" name="Picture 39" descr="1"/>
          <p:cNvPicPr/>
          <p:nvPr/>
        </p:nvPicPr>
        <p:blipFill>
          <a:blip r:embed="rId7"/>
          <a:stretch/>
        </p:blipFill>
        <p:spPr>
          <a:xfrm>
            <a:off x="2362320" y="5181480"/>
            <a:ext cx="820440" cy="8384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40"/>
          <p:cNvSpPr/>
          <p:nvPr/>
        </p:nvSpPr>
        <p:spPr>
          <a:xfrm>
            <a:off x="6342120" y="3505320"/>
            <a:ext cx="744480" cy="742680"/>
          </a:xfrm>
          <a:prstGeom prst="rect">
            <a:avLst/>
          </a:prstGeom>
          <a:blipFill rotWithShape="0">
            <a:blip r:embed="rId8">
              <a:alphaModFix amt="6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12" name="Picture 41" descr="1260262258111"/>
          <p:cNvPicPr/>
          <p:nvPr/>
        </p:nvPicPr>
        <p:blipFill>
          <a:blip r:embed="rId9"/>
          <a:stretch/>
        </p:blipFill>
        <p:spPr>
          <a:xfrm>
            <a:off x="2895480" y="565776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2"/>
          <p:cNvSpPr/>
          <p:nvPr/>
        </p:nvSpPr>
        <p:spPr>
          <a:xfrm>
            <a:off x="228600" y="19051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微软雅黑"/>
              </a:rPr>
              <a:t>酶的作用和本质</a:t>
            </a:r>
            <a:endParaRPr b="0" lang="en-US" sz="5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434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e89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7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5962680" y="2743200"/>
            <a:ext cx="74304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867800" y="3505320"/>
            <a:ext cx="742680" cy="744480"/>
          </a:xfrm>
          <a:prstGeom prst="rect">
            <a:avLst/>
          </a:prstGeom>
          <a:blipFill rotWithShape="0">
            <a:blip r:embed="rId2">
              <a:alphaModFix amt="7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7105680" y="3505320"/>
            <a:ext cx="743040" cy="744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7105680" y="4267080"/>
            <a:ext cx="743040" cy="743040"/>
          </a:xfrm>
          <a:prstGeom prst="rect">
            <a:avLst/>
          </a:prstGeom>
          <a:solidFill>
            <a:srgbClr val="80cb3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6724800" y="2743200"/>
            <a:ext cx="742680" cy="743040"/>
          </a:xfrm>
          <a:prstGeom prst="rect">
            <a:avLst/>
          </a:prstGeom>
          <a:solidFill>
            <a:srgbClr val="80cb3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57" name="Group 7"/>
          <p:cNvGrpSpPr/>
          <p:nvPr/>
        </p:nvGrpSpPr>
        <p:grpSpPr>
          <a:xfrm>
            <a:off x="0" y="6324480"/>
            <a:ext cx="9143640" cy="533160"/>
            <a:chOff x="0" y="6324480"/>
            <a:chExt cx="9143640" cy="533160"/>
          </a:xfrm>
        </p:grpSpPr>
        <p:sp>
          <p:nvSpPr>
            <p:cNvPr id="258" name="未知"/>
            <p:cNvSpPr/>
            <p:nvPr/>
          </p:nvSpPr>
          <p:spPr>
            <a:xfrm>
              <a:off x="0" y="6324480"/>
              <a:ext cx="9138960" cy="4676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gradFill rotWithShape="0">
              <a:gsLst>
                <a:gs pos="0">
                  <a:srgbClr val="329a2a"/>
                </a:gs>
                <a:gs pos="100000">
                  <a:srgbClr val="185e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0" y="6390000"/>
              <a:ext cx="9138960" cy="4676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gradFill rotWithShape="0">
              <a:gsLst>
                <a:gs pos="0">
                  <a:srgbClr val="329a2a"/>
                </a:gs>
                <a:gs pos="100000">
                  <a:srgbClr val="185e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6721560" y="6434280"/>
              <a:ext cx="2422080" cy="117720"/>
            </a:xfrm>
            <a:custGeom>
              <a:avLst/>
              <a:gdLst/>
              <a:ahLst/>
              <a:rect l="l" t="t" r="r" b="b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gradFill rotWithShape="0">
              <a:gsLst>
                <a:gs pos="0">
                  <a:srgbClr val="329a2a"/>
                </a:gs>
                <a:gs pos="100000">
                  <a:srgbClr val="185e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261" name="Group 11"/>
          <p:cNvGrpSpPr/>
          <p:nvPr/>
        </p:nvGrpSpPr>
        <p:grpSpPr>
          <a:xfrm>
            <a:off x="0" y="685800"/>
            <a:ext cx="3911040" cy="685440"/>
            <a:chOff x="0" y="685800"/>
            <a:chExt cx="3911040" cy="685440"/>
          </a:xfrm>
        </p:grpSpPr>
        <p:sp>
          <p:nvSpPr>
            <p:cNvPr id="262" name="未知"/>
            <p:cNvSpPr/>
            <p:nvPr/>
          </p:nvSpPr>
          <p:spPr>
            <a:xfrm flipV="1">
              <a:off x="876600" y="685440"/>
              <a:ext cx="104760" cy="19476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 flipV="1">
              <a:off x="1895040" y="685440"/>
              <a:ext cx="120600" cy="22428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 flipV="1">
              <a:off x="534960" y="685440"/>
              <a:ext cx="391680" cy="34020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 flipV="1">
              <a:off x="3295440" y="685440"/>
              <a:ext cx="387000" cy="34020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 flipV="1">
              <a:off x="2862720" y="685440"/>
              <a:ext cx="239400" cy="2127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 flipV="1">
              <a:off x="2322720" y="685440"/>
              <a:ext cx="236520" cy="29988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 flipV="1">
              <a:off x="935640" y="685440"/>
              <a:ext cx="446040" cy="57420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 flipV="1">
              <a:off x="2548080" y="685440"/>
              <a:ext cx="247320" cy="33876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 flipV="1">
              <a:off x="0" y="685440"/>
              <a:ext cx="343800" cy="4712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 flipV="1">
              <a:off x="2768760" y="685440"/>
              <a:ext cx="182880" cy="4143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72" name="未知"/>
            <p:cNvSpPr/>
            <p:nvPr/>
          </p:nvSpPr>
          <p:spPr>
            <a:xfrm flipV="1">
              <a:off x="284400" y="685800"/>
              <a:ext cx="298440" cy="68544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73" name="未知"/>
            <p:cNvSpPr/>
            <p:nvPr/>
          </p:nvSpPr>
          <p:spPr>
            <a:xfrm flipV="1">
              <a:off x="1341000" y="685440"/>
              <a:ext cx="268560" cy="3675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74" name="未知"/>
            <p:cNvSpPr/>
            <p:nvPr/>
          </p:nvSpPr>
          <p:spPr>
            <a:xfrm flipV="1">
              <a:off x="3642480" y="685440"/>
              <a:ext cx="268560" cy="3675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 flipV="1">
              <a:off x="1900800" y="685800"/>
              <a:ext cx="469800" cy="64872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76" name="未知"/>
            <p:cNvSpPr/>
            <p:nvPr/>
          </p:nvSpPr>
          <p:spPr>
            <a:xfrm flipV="1">
              <a:off x="1599480" y="685800"/>
              <a:ext cx="260640" cy="6019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77" name="未知"/>
            <p:cNvSpPr/>
            <p:nvPr/>
          </p:nvSpPr>
          <p:spPr>
            <a:xfrm flipV="1">
              <a:off x="3070080" y="685800"/>
              <a:ext cx="260640" cy="6019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278" name="Rectangle 28"/>
          <p:cNvSpPr/>
          <p:nvPr/>
        </p:nvSpPr>
        <p:spPr>
          <a:xfrm>
            <a:off x="0" y="6629400"/>
            <a:ext cx="9144000" cy="15228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79" name="Group 29"/>
          <p:cNvGrpSpPr/>
          <p:nvPr/>
        </p:nvGrpSpPr>
        <p:grpSpPr>
          <a:xfrm>
            <a:off x="0" y="0"/>
            <a:ext cx="9143640" cy="685800"/>
            <a:chOff x="0" y="0"/>
            <a:chExt cx="9143640" cy="685800"/>
          </a:xfrm>
        </p:grpSpPr>
        <p:sp>
          <p:nvSpPr>
            <p:cNvPr id="280" name="未知"/>
            <p:cNvSpPr/>
            <p:nvPr/>
          </p:nvSpPr>
          <p:spPr>
            <a:xfrm>
              <a:off x="0" y="190440"/>
              <a:ext cx="9143640" cy="495360"/>
            </a:xfrm>
            <a:custGeom>
              <a:avLst/>
              <a:gdLst/>
              <a:ahLst/>
              <a:rect l="l" t="t" r="r" b="b"/>
              <a:pathLst>
                <a:path w="5446" h="590">
                  <a:moveTo>
                    <a:pt x="0" y="0"/>
                  </a:moveTo>
                  <a:lnTo>
                    <a:pt x="5446" y="0"/>
                  </a:lnTo>
                  <a:lnTo>
                    <a:pt x="5446" y="312"/>
                  </a:lnTo>
                  <a:lnTo>
                    <a:pt x="5446" y="451"/>
                  </a:lnTo>
                  <a:cubicBezTo>
                    <a:pt x="4790" y="473"/>
                    <a:pt x="2205" y="421"/>
                    <a:pt x="1512" y="443"/>
                  </a:cubicBezTo>
                  <a:lnTo>
                    <a:pt x="1288" y="584"/>
                  </a:lnTo>
                  <a:lnTo>
                    <a:pt x="0" y="5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>
              <a:off x="0" y="0"/>
              <a:ext cx="9143640" cy="630000"/>
            </a:xfrm>
            <a:custGeom>
              <a:avLst/>
              <a:gdLst/>
              <a:ahLst/>
              <a:rect l="l" t="t" r="r" b="b"/>
              <a:pathLst>
                <a:path w="5658" h="655">
                  <a:moveTo>
                    <a:pt x="1" y="0"/>
                  </a:moveTo>
                  <a:lnTo>
                    <a:pt x="5657" y="0"/>
                  </a:lnTo>
                  <a:lnTo>
                    <a:pt x="5658" y="534"/>
                  </a:lnTo>
                  <a:lnTo>
                    <a:pt x="1553" y="528"/>
                  </a:lnTo>
                  <a:lnTo>
                    <a:pt x="1317" y="651"/>
                  </a:lnTo>
                  <a:lnTo>
                    <a:pt x="0" y="655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174713"/>
                </a:gs>
                <a:gs pos="100000">
                  <a:srgbClr val="329a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82" name="未知"/>
            <p:cNvSpPr/>
            <p:nvPr/>
          </p:nvSpPr>
          <p:spPr>
            <a:xfrm>
              <a:off x="0" y="504000"/>
              <a:ext cx="2417400" cy="93960"/>
            </a:xfrm>
            <a:custGeom>
              <a:avLst/>
              <a:gdLst/>
              <a:ahLst/>
              <a:rect l="l" t="t" r="r" b="b"/>
              <a:pathLst>
                <a:path w="1440" h="112">
                  <a:moveTo>
                    <a:pt x="1440" y="1"/>
                  </a:moveTo>
                  <a:lnTo>
                    <a:pt x="1261" y="112"/>
                  </a:lnTo>
                  <a:lnTo>
                    <a:pt x="0" y="110"/>
                  </a:lnTo>
                  <a:lnTo>
                    <a:pt x="0" y="49"/>
                  </a:lnTo>
                  <a:lnTo>
                    <a:pt x="1069" y="50"/>
                  </a:lnTo>
                  <a:lnTo>
                    <a:pt x="1142" y="0"/>
                  </a:lnTo>
                  <a:lnTo>
                    <a:pt x="1440" y="1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283" name="Rectangle 33"/>
          <p:cNvSpPr/>
          <p:nvPr/>
        </p:nvSpPr>
        <p:spPr>
          <a:xfrm>
            <a:off x="7105680" y="1981080"/>
            <a:ext cx="741240" cy="7430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4" name="Rectangle 34"/>
          <p:cNvSpPr/>
          <p:nvPr/>
        </p:nvSpPr>
        <p:spPr>
          <a:xfrm>
            <a:off x="6343560" y="1981080"/>
            <a:ext cx="743040" cy="7430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5" name="Rectangle 35"/>
          <p:cNvSpPr/>
          <p:nvPr/>
        </p:nvSpPr>
        <p:spPr>
          <a:xfrm>
            <a:off x="5581800" y="3522600"/>
            <a:ext cx="742680" cy="7430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6" name="Rectangle 36"/>
          <p:cNvSpPr/>
          <p:nvPr/>
        </p:nvSpPr>
        <p:spPr>
          <a:xfrm>
            <a:off x="6724800" y="1219320"/>
            <a:ext cx="742680" cy="74268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7" name="Rectangle 37"/>
          <p:cNvSpPr/>
          <p:nvPr/>
        </p:nvSpPr>
        <p:spPr>
          <a:xfrm>
            <a:off x="6345360" y="4267080"/>
            <a:ext cx="741240" cy="743040"/>
          </a:xfrm>
          <a:prstGeom prst="rect">
            <a:avLst/>
          </a:prstGeom>
          <a:solidFill>
            <a:srgbClr val="329a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8" name="Rectangle 38"/>
          <p:cNvSpPr/>
          <p:nvPr/>
        </p:nvSpPr>
        <p:spPr>
          <a:xfrm>
            <a:off x="7486560" y="2743200"/>
            <a:ext cx="743040" cy="743040"/>
          </a:xfrm>
          <a:prstGeom prst="rect">
            <a:avLst/>
          </a:pr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89" name="Picture 39" descr="1"/>
          <p:cNvPicPr/>
          <p:nvPr/>
        </p:nvPicPr>
        <p:blipFill>
          <a:blip r:embed="rId7"/>
          <a:stretch/>
        </p:blipFill>
        <p:spPr>
          <a:xfrm>
            <a:off x="2362320" y="5181480"/>
            <a:ext cx="820440" cy="8384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40"/>
          <p:cNvSpPr/>
          <p:nvPr/>
        </p:nvSpPr>
        <p:spPr>
          <a:xfrm>
            <a:off x="6342120" y="3505320"/>
            <a:ext cx="744480" cy="742680"/>
          </a:xfrm>
          <a:prstGeom prst="rect">
            <a:avLst/>
          </a:prstGeom>
          <a:blipFill rotWithShape="0">
            <a:blip r:embed="rId8">
              <a:alphaModFix amt="6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91" name="Picture 41" descr="透明校徽2"/>
          <p:cNvPicPr/>
          <p:nvPr/>
        </p:nvPicPr>
        <p:blipFill>
          <a:blip r:embed="rId9"/>
          <a:stretch/>
        </p:blipFill>
        <p:spPr>
          <a:xfrm>
            <a:off x="746748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2" descr="华师一附中白副本"/>
          <p:cNvPicPr/>
          <p:nvPr/>
        </p:nvPicPr>
        <p:blipFill>
          <a:blip r:embed="rId10"/>
          <a:stretch/>
        </p:blipFill>
        <p:spPr>
          <a:xfrm>
            <a:off x="8153280" y="114480"/>
            <a:ext cx="914400" cy="2664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3"/>
          <p:cNvSpPr/>
          <p:nvPr/>
        </p:nvSpPr>
        <p:spPr>
          <a:xfrm>
            <a:off x="228600" y="19051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微软雅黑"/>
              </a:rPr>
              <a:t>酶的作用和本质</a:t>
            </a:r>
            <a:endParaRPr b="0" lang="en-US" sz="54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94" name="Picture 44" descr="5482911_143735027169_2"/>
          <p:cNvPicPr/>
          <p:nvPr/>
        </p:nvPicPr>
        <p:blipFill>
          <a:blip r:embed="rId11">
            <a:biLevel thresh="50000"/>
          </a:blip>
          <a:stretch/>
        </p:blipFill>
        <p:spPr>
          <a:xfrm>
            <a:off x="7467480" y="0"/>
            <a:ext cx="1675080" cy="533520"/>
          </a:xfrm>
          <a:prstGeom prst="rect">
            <a:avLst/>
          </a:prstGeom>
          <a:ln w="9360">
            <a:solidFill>
              <a:srgbClr val="329a2a"/>
            </a:solidFill>
            <a:miter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-98280"/>
            <a:ext cx="7086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7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2"/>
    <p:sldLayoutId id="2147483702" r:id="rId13"/>
    <p:sldLayoutId id="2147483703" r:id="rId14"/>
    <p:sldLayoutId id="2147483704" r:id="rId15"/>
    <p:sldLayoutId id="2147483705" r:id="rId16"/>
    <p:sldLayoutId id="2147483706" r:id="rId17"/>
    <p:sldLayoutId id="2147483707" r:id="rId18"/>
    <p:sldLayoutId id="2147483708" r:id="rId19"/>
    <p:sldLayoutId id="2147483709" r:id="rId20"/>
    <p:sldLayoutId id="2147483710" r:id="rId21"/>
    <p:sldLayoutId id="2147483711" r:id="rId22"/>
    <p:sldLayoutId id="2147483712" r:id="rId2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1F95-6EA6-4761-884D-A57AC12D97D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69CD-96D0-41EE-9D1B-F8A2E431BC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3C10-61FD-4E9E-AB73-9E594F82B76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AF1B-D800-42DD-94C6-2858A7E324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F4F1-1A17-41C2-8A04-B39F1B6A43E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94F7-CA06-4E76-AA6F-7D51FAD1A1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DCE8-0558-4F6F-91A9-6F47B139E0A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98C9-C8A1-4895-86C6-B1B4EBF250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18.gif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18.gif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18.gif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17.png"/><Relationship Id="rId10" Type="http://schemas.openxmlformats.org/officeDocument/2006/relationships/image" Target="../media/image18.gif"/><Relationship Id="rId11" Type="http://schemas.openxmlformats.org/officeDocument/2006/relationships/image" Target="../media/image19.png"/><Relationship Id="rId12" Type="http://schemas.openxmlformats.org/officeDocument/2006/relationships/image" Target="../media/image18.gi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18.gif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2"/>
          <p:cNvSpPr/>
          <p:nvPr/>
        </p:nvSpPr>
        <p:spPr>
          <a:xfrm>
            <a:off x="114300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51920" y="1080"/>
            <a:ext cx="632628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de89a"/>
                </a:solidFill>
                <a:latin typeface="Arial"/>
                <a:ea typeface="宋体"/>
              </a:rPr>
              <a:t>酶在细胞代谢中的作用</a:t>
            </a:r>
            <a:endParaRPr b="1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822240" y="200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590760" y="1371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新魏"/>
              </a:rPr>
              <a:t>实验验证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788" name="Group 5"/>
          <p:cNvGrpSpPr/>
          <p:nvPr/>
        </p:nvGrpSpPr>
        <p:grpSpPr>
          <a:xfrm>
            <a:off x="2743200" y="2743200"/>
            <a:ext cx="6553080" cy="648720"/>
            <a:chOff x="2743200" y="2743200"/>
            <a:chExt cx="6553080" cy="648720"/>
          </a:xfrm>
        </p:grpSpPr>
        <p:sp>
          <p:nvSpPr>
            <p:cNvPr id="789" name="Text Box 6"/>
            <p:cNvSpPr/>
            <p:nvPr/>
          </p:nvSpPr>
          <p:spPr>
            <a:xfrm>
              <a:off x="2743200" y="2743200"/>
              <a:ext cx="6553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2 H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华文中宋"/>
                  <a:ea typeface="华文中宋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华文中宋"/>
                  <a:ea typeface="华文中宋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2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华文中宋"/>
                  <a:ea typeface="华文中宋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O  +   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华文中宋"/>
                  <a:ea typeface="华文中宋"/>
                </a:rPr>
                <a:t>2</a:t>
              </a:r>
              <a:endParaRPr b="0" lang="en-US" sz="32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90" name="Line 7"/>
            <p:cNvSpPr/>
            <p:nvPr/>
          </p:nvSpPr>
          <p:spPr>
            <a:xfrm>
              <a:off x="4648320" y="312408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791" name="Rectangle 8"/>
          <p:cNvSpPr/>
          <p:nvPr/>
        </p:nvSpPr>
        <p:spPr>
          <a:xfrm>
            <a:off x="685800" y="2819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氧化氢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92" name="Text Box 9"/>
          <p:cNvSpPr/>
          <p:nvPr/>
        </p:nvSpPr>
        <p:spPr>
          <a:xfrm>
            <a:off x="914400" y="5105520"/>
            <a:ext cx="21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氧化氢酶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793" name="Picture 10" descr="300px-Catalase"/>
          <p:cNvPicPr/>
          <p:nvPr/>
        </p:nvPicPr>
        <p:blipFill>
          <a:blip r:embed="rId1"/>
          <a:stretch/>
        </p:blipFill>
        <p:spPr>
          <a:xfrm>
            <a:off x="3809880" y="3962520"/>
            <a:ext cx="1981440" cy="2133360"/>
          </a:xfrm>
          <a:prstGeom prst="rect">
            <a:avLst/>
          </a:prstGeom>
          <a:ln w="0">
            <a:noFill/>
          </a:ln>
        </p:spPr>
      </p:pic>
      <p:sp>
        <p:nvSpPr>
          <p:cNvPr id="794" name="Rectangle 11"/>
          <p:cNvSpPr/>
          <p:nvPr/>
        </p:nvSpPr>
        <p:spPr>
          <a:xfrm>
            <a:off x="6172200" y="5104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过氧化氢酶分子三维结构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2286000" y="1371600"/>
            <a:ext cx="5487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较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不同条件下的分解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96" name="Text Box 13"/>
          <p:cNvSpPr/>
          <p:nvPr/>
        </p:nvSpPr>
        <p:spPr>
          <a:xfrm>
            <a:off x="4632480" y="2557440"/>
            <a:ext cx="10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加热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97" name="Text Box 14"/>
          <p:cNvSpPr/>
          <p:nvPr/>
        </p:nvSpPr>
        <p:spPr>
          <a:xfrm>
            <a:off x="4191120" y="3200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0" lang="zh-CN" sz="2400" spc="-1" strike="noStrike" baseline="30000">
                <a:solidFill>
                  <a:srgbClr val="ff0000"/>
                </a:solidFill>
                <a:latin typeface="Arial"/>
              </a:rPr>
              <a:t>3+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或过氧化氢酶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562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de89a"/>
                </a:solidFill>
                <a:latin typeface="Arial"/>
              </a:rPr>
              <a:t>比较过氧化氢在不同条件下的分解</a:t>
            </a:r>
            <a:endParaRPr b="1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4920" y="2590920"/>
            <a:ext cx="8229600" cy="22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主要材料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0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新鲜的肝脏研磨液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.5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FeCl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溶液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过氧化氢溶液（反应底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主要用具：酒精灯、试管、量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105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de89a"/>
                </a:solidFill>
                <a:latin typeface="Arial"/>
              </a:rPr>
              <a:t>比较过氧化氢在不同条件下的分解</a:t>
            </a:r>
            <a:endParaRPr b="1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01" name="Text Box 3"/>
          <p:cNvSpPr/>
          <p:nvPr/>
        </p:nvSpPr>
        <p:spPr>
          <a:xfrm>
            <a:off x="220320" y="990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新魏"/>
              </a:rPr>
              <a:t>实验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新魏"/>
              </a:rPr>
              <a:t>步骤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1539720" y="1135080"/>
          <a:ext cx="6858000" cy="3367080"/>
        </p:xfrm>
        <a:graphic>
          <a:graphicData uri="http://schemas.openxmlformats.org/drawingml/2006/table">
            <a:tbl>
              <a:tblPr/>
              <a:tblGrid>
                <a:gridCol w="700200"/>
                <a:gridCol w="900000"/>
                <a:gridCol w="1295640"/>
                <a:gridCol w="1371600"/>
                <a:gridCol w="1143000"/>
                <a:gridCol w="1447560"/>
              </a:tblGrid>
              <a:tr h="398880">
                <a:tc gridSpan="2"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步骤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试管编号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华文新魏"/>
                        </a:rPr>
                        <a:t>1</a:t>
                      </a:r>
                      <a:endParaRPr b="0" lang="en-US" sz="2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华文新魏"/>
                        </a:rPr>
                        <a:t>2</a:t>
                      </a:r>
                      <a:endParaRPr b="0" lang="en-US" sz="2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华文新魏"/>
                        </a:rPr>
                        <a:t>3</a:t>
                      </a:r>
                      <a:endParaRPr b="0" lang="en-US" sz="2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华文新魏"/>
                        </a:rPr>
                        <a:t>4</a:t>
                      </a:r>
                      <a:endParaRPr b="0" lang="en-US" sz="2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5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一</a:t>
                      </a:r>
                      <a:endParaRPr b="0" lang="en-US" sz="2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H</a:t>
                      </a:r>
                      <a:r>
                        <a:rPr b="1" lang="zh-CN" sz="2000" spc="-1" strike="noStrike" baseline="-25000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O</a:t>
                      </a:r>
                      <a:r>
                        <a:rPr b="1" lang="zh-CN" sz="2000" spc="-1" strike="noStrike" baseline="-25000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浓度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5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        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5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09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二</a:t>
                      </a:r>
                      <a:endParaRPr b="0" lang="en-US" sz="2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反应条件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        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3" name="Text Box 47"/>
          <p:cNvSpPr/>
          <p:nvPr/>
        </p:nvSpPr>
        <p:spPr>
          <a:xfrm>
            <a:off x="7170840" y="2711520"/>
            <a:ext cx="9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ml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04" name="Text Box 48"/>
          <p:cNvSpPr/>
          <p:nvPr/>
        </p:nvSpPr>
        <p:spPr>
          <a:xfrm>
            <a:off x="4664160" y="2711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ml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05" name="Text Box 49"/>
          <p:cNvSpPr/>
          <p:nvPr/>
        </p:nvSpPr>
        <p:spPr>
          <a:xfrm>
            <a:off x="3292560" y="2711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ml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06" name="Text Box 50"/>
          <p:cNvSpPr/>
          <p:nvPr/>
        </p:nvSpPr>
        <p:spPr>
          <a:xfrm>
            <a:off x="5959440" y="2711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ml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07" name="Text Box 51"/>
          <p:cNvSpPr/>
          <p:nvPr/>
        </p:nvSpPr>
        <p:spPr>
          <a:xfrm>
            <a:off x="3292560" y="2101680"/>
            <a:ext cx="9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琥珀"/>
              </a:rPr>
              <a:t>3%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08" name="Text Box 52"/>
          <p:cNvSpPr/>
          <p:nvPr/>
        </p:nvSpPr>
        <p:spPr>
          <a:xfrm>
            <a:off x="5959440" y="2101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3%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09" name="Text Box 53"/>
          <p:cNvSpPr/>
          <p:nvPr/>
        </p:nvSpPr>
        <p:spPr>
          <a:xfrm>
            <a:off x="4664160" y="21016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3%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10" name="Text Box 54"/>
          <p:cNvSpPr/>
          <p:nvPr/>
        </p:nvSpPr>
        <p:spPr>
          <a:xfrm>
            <a:off x="7178760" y="21016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3%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11" name="Text Box 55"/>
          <p:cNvSpPr/>
          <p:nvPr/>
        </p:nvSpPr>
        <p:spPr>
          <a:xfrm>
            <a:off x="3292560" y="33814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常温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12" name="Text Box 56"/>
          <p:cNvSpPr/>
          <p:nvPr/>
        </p:nvSpPr>
        <p:spPr>
          <a:xfrm>
            <a:off x="4664160" y="3381480"/>
            <a:ext cx="9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90℃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13" name="Text Box 57"/>
          <p:cNvSpPr/>
          <p:nvPr/>
        </p:nvSpPr>
        <p:spPr>
          <a:xfrm>
            <a:off x="5883120" y="3381480"/>
            <a:ext cx="11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FeCl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14" name="Text Box 58"/>
          <p:cNvSpPr/>
          <p:nvPr/>
        </p:nvSpPr>
        <p:spPr>
          <a:xfrm>
            <a:off x="7026120" y="33051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研磨液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15" name="Text Box 59"/>
          <p:cNvSpPr/>
          <p:nvPr/>
        </p:nvSpPr>
        <p:spPr>
          <a:xfrm>
            <a:off x="7102440" y="39909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滴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16" name="Text Box 60"/>
          <p:cNvSpPr/>
          <p:nvPr/>
        </p:nvSpPr>
        <p:spPr>
          <a:xfrm>
            <a:off x="5730840" y="39909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滴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17" name="Line 61"/>
          <p:cNvSpPr/>
          <p:nvPr/>
        </p:nvSpPr>
        <p:spPr>
          <a:xfrm>
            <a:off x="3124080" y="39625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18" name="Line 62"/>
          <p:cNvSpPr/>
          <p:nvPr/>
        </p:nvSpPr>
        <p:spPr>
          <a:xfrm>
            <a:off x="4419720" y="39625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19" name="Rectangle 63"/>
          <p:cNvSpPr/>
          <p:nvPr/>
        </p:nvSpPr>
        <p:spPr>
          <a:xfrm>
            <a:off x="0" y="4572000"/>
            <a:ext cx="9144000" cy="7632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20" name="AutoShape 64"/>
          <p:cNvSpPr/>
          <p:nvPr/>
        </p:nvSpPr>
        <p:spPr>
          <a:xfrm>
            <a:off x="3809880" y="5943600"/>
            <a:ext cx="533520" cy="838080"/>
          </a:xfrm>
          <a:prstGeom prst="bracePair">
            <a:avLst>
              <a:gd name="adj" fmla="val 83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1523880" y="4648320"/>
          <a:ext cx="6826320" cy="1647720"/>
        </p:xfrm>
        <a:graphic>
          <a:graphicData uri="http://schemas.openxmlformats.org/drawingml/2006/table">
            <a:tbl>
              <a:tblPr/>
              <a:tblGrid>
                <a:gridCol w="695520"/>
                <a:gridCol w="979560"/>
                <a:gridCol w="5151240"/>
              </a:tblGrid>
              <a:tr h="65880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结果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气泡产生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卫生香燃烧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22" name="Group 79"/>
          <p:cNvGrpSpPr/>
          <p:nvPr/>
        </p:nvGrpSpPr>
        <p:grpSpPr>
          <a:xfrm>
            <a:off x="3429000" y="5029200"/>
            <a:ext cx="5105160" cy="990720"/>
            <a:chOff x="3429000" y="5029200"/>
            <a:chExt cx="5105160" cy="990720"/>
          </a:xfrm>
        </p:grpSpPr>
        <p:grpSp>
          <p:nvGrpSpPr>
            <p:cNvPr id="823" name="Group 80"/>
            <p:cNvGrpSpPr/>
            <p:nvPr/>
          </p:nvGrpSpPr>
          <p:grpSpPr>
            <a:xfrm>
              <a:off x="6922080" y="5029200"/>
              <a:ext cx="1612080" cy="990720"/>
              <a:chOff x="6922080" y="5029200"/>
              <a:chExt cx="1612080" cy="990720"/>
            </a:xfrm>
          </p:grpSpPr>
          <p:pic>
            <p:nvPicPr>
              <p:cNvPr id="824" name="Picture 81" descr=""/>
              <p:cNvPicPr/>
              <p:nvPr/>
            </p:nvPicPr>
            <p:blipFill>
              <a:blip r:embed="rId1"/>
              <a:stretch/>
            </p:blipFill>
            <p:spPr>
              <a:xfrm>
                <a:off x="6922080" y="5029200"/>
                <a:ext cx="161208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5" name="Picture 82" descr="火苗"/>
              <p:cNvPicPr/>
              <p:nvPr/>
            </p:nvPicPr>
            <p:blipFill>
              <a:blip r:embed="rId2"/>
              <a:stretch/>
            </p:blipFill>
            <p:spPr>
              <a:xfrm>
                <a:off x="7540560" y="5563440"/>
                <a:ext cx="352440" cy="146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6" name="Group 83"/>
            <p:cNvGrpSpPr/>
            <p:nvPr/>
          </p:nvGrpSpPr>
          <p:grpSpPr>
            <a:xfrm>
              <a:off x="5757480" y="5029200"/>
              <a:ext cx="1701360" cy="990720"/>
              <a:chOff x="5757480" y="5029200"/>
              <a:chExt cx="1701360" cy="990720"/>
            </a:xfrm>
          </p:grpSpPr>
          <p:pic>
            <p:nvPicPr>
              <p:cNvPr id="827" name="Picture 84" descr=""/>
              <p:cNvPicPr/>
              <p:nvPr/>
            </p:nvPicPr>
            <p:blipFill>
              <a:blip r:embed="rId3"/>
              <a:stretch/>
            </p:blipFill>
            <p:spPr>
              <a:xfrm>
                <a:off x="5757480" y="5029200"/>
                <a:ext cx="170136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8" name="Picture 85" descr="火苗"/>
              <p:cNvPicPr/>
              <p:nvPr/>
            </p:nvPicPr>
            <p:blipFill>
              <a:blip r:embed="rId4"/>
              <a:stretch/>
            </p:blipFill>
            <p:spPr>
              <a:xfrm>
                <a:off x="6541560" y="5597280"/>
                <a:ext cx="173520" cy="94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29" name="Picture 86" descr=""/>
            <p:cNvPicPr/>
            <p:nvPr/>
          </p:nvPicPr>
          <p:blipFill>
            <a:blip r:embed="rId5"/>
            <a:stretch/>
          </p:blipFill>
          <p:spPr>
            <a:xfrm>
              <a:off x="3429000" y="5029200"/>
              <a:ext cx="125352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87" descr=""/>
            <p:cNvPicPr/>
            <p:nvPr/>
          </p:nvPicPr>
          <p:blipFill>
            <a:blip r:embed="rId6"/>
            <a:stretch/>
          </p:blipFill>
          <p:spPr>
            <a:xfrm>
              <a:off x="4413960" y="5029200"/>
              <a:ext cx="1791360" cy="99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Text Box 88"/>
          <p:cNvSpPr/>
          <p:nvPr/>
        </p:nvSpPr>
        <p:spPr>
          <a:xfrm>
            <a:off x="2910240" y="3200400"/>
            <a:ext cx="4268160" cy="459720"/>
          </a:xfrm>
          <a:prstGeom prst="rect">
            <a:avLst/>
          </a:prstGeom>
          <a:solidFill>
            <a:srgbClr val="442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号试管没有加入任何试剂，它起的作用是什么？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2"/>
          <p:cNvSpPr/>
          <p:nvPr/>
        </p:nvSpPr>
        <p:spPr>
          <a:xfrm>
            <a:off x="669960" y="1241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3" name="Text Box 3"/>
          <p:cNvSpPr/>
          <p:nvPr/>
        </p:nvSpPr>
        <p:spPr>
          <a:xfrm>
            <a:off x="362160" y="914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新魏"/>
              </a:rPr>
              <a:t>实验现象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834" name=""/>
          <p:cNvGraphicFramePr/>
          <p:nvPr/>
        </p:nvGraphicFramePr>
        <p:xfrm>
          <a:off x="1219320" y="1523880"/>
          <a:ext cx="7162560" cy="3559320"/>
        </p:xfrm>
        <a:graphic>
          <a:graphicData uri="http://schemas.openxmlformats.org/drawingml/2006/table">
            <a:tbl>
              <a:tblPr/>
              <a:tblGrid>
                <a:gridCol w="699840"/>
                <a:gridCol w="1586160"/>
                <a:gridCol w="1295280"/>
                <a:gridCol w="1143000"/>
                <a:gridCol w="990720"/>
                <a:gridCol w="1447560"/>
              </a:tblGrid>
              <a:tr h="368280">
                <a:tc gridSpan="2"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步骤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试管编号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0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4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一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H</a:t>
                      </a:r>
                      <a:r>
                        <a:rPr b="1" lang="zh-CN" sz="1800" spc="-1" strike="noStrike" baseline="-25000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O</a:t>
                      </a:r>
                      <a:r>
                        <a:rPr b="1" lang="zh-CN" sz="1800" spc="-1" strike="noStrike" baseline="-25000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浓度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580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二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54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结果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气泡产生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卫生香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燃烧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5" name="Text Box 53"/>
          <p:cNvSpPr/>
          <p:nvPr/>
        </p:nvSpPr>
        <p:spPr>
          <a:xfrm>
            <a:off x="2057400" y="3124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反应条件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6" name="Text Box 54"/>
          <p:cNvSpPr/>
          <p:nvPr/>
        </p:nvSpPr>
        <p:spPr>
          <a:xfrm>
            <a:off x="7086600" y="2743200"/>
            <a:ext cx="9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ml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7" name="Text Box 55"/>
          <p:cNvSpPr/>
          <p:nvPr/>
        </p:nvSpPr>
        <p:spPr>
          <a:xfrm>
            <a:off x="4876920" y="27432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ml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8" name="Text Box 56"/>
          <p:cNvSpPr/>
          <p:nvPr/>
        </p:nvSpPr>
        <p:spPr>
          <a:xfrm>
            <a:off x="3581280" y="27432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ml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9" name="Text Box 57"/>
          <p:cNvSpPr/>
          <p:nvPr/>
        </p:nvSpPr>
        <p:spPr>
          <a:xfrm>
            <a:off x="5943600" y="27432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ml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0" name="Text Box 58"/>
          <p:cNvSpPr/>
          <p:nvPr/>
        </p:nvSpPr>
        <p:spPr>
          <a:xfrm>
            <a:off x="3581280" y="2270160"/>
            <a:ext cx="9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琥珀"/>
              </a:rPr>
              <a:t>3%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1" name="Text Box 59"/>
          <p:cNvSpPr/>
          <p:nvPr/>
        </p:nvSpPr>
        <p:spPr>
          <a:xfrm>
            <a:off x="6019920" y="227016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3%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2" name="Text Box 60"/>
          <p:cNvSpPr/>
          <p:nvPr/>
        </p:nvSpPr>
        <p:spPr>
          <a:xfrm>
            <a:off x="4952880" y="227016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3%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3" name="Text Box 61"/>
          <p:cNvSpPr/>
          <p:nvPr/>
        </p:nvSpPr>
        <p:spPr>
          <a:xfrm>
            <a:off x="7162920" y="227016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3%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4" name="Text Box 62"/>
          <p:cNvSpPr/>
          <p:nvPr/>
        </p:nvSpPr>
        <p:spPr>
          <a:xfrm>
            <a:off x="3581280" y="3124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常温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5" name="Text Box 63"/>
          <p:cNvSpPr/>
          <p:nvPr/>
        </p:nvSpPr>
        <p:spPr>
          <a:xfrm>
            <a:off x="4952880" y="3124080"/>
            <a:ext cx="9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90℃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6" name="Text Box 64"/>
          <p:cNvSpPr/>
          <p:nvPr/>
        </p:nvSpPr>
        <p:spPr>
          <a:xfrm>
            <a:off x="6095880" y="3124080"/>
            <a:ext cx="114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7" name="Text Box 65"/>
          <p:cNvSpPr/>
          <p:nvPr/>
        </p:nvSpPr>
        <p:spPr>
          <a:xfrm>
            <a:off x="7086600" y="310824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研磨液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8" name="Text Box 66"/>
          <p:cNvSpPr/>
          <p:nvPr/>
        </p:nvSpPr>
        <p:spPr>
          <a:xfrm>
            <a:off x="7086600" y="3581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滴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9" name="Text Box 67"/>
          <p:cNvSpPr/>
          <p:nvPr/>
        </p:nvSpPr>
        <p:spPr>
          <a:xfrm>
            <a:off x="5867280" y="3581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滴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0" name="Line 68"/>
          <p:cNvSpPr/>
          <p:nvPr/>
        </p:nvSpPr>
        <p:spPr>
          <a:xfrm>
            <a:off x="3505320" y="3581280"/>
            <a:ext cx="12189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1" name="Line 69"/>
          <p:cNvSpPr/>
          <p:nvPr/>
        </p:nvSpPr>
        <p:spPr>
          <a:xfrm>
            <a:off x="4800600" y="35812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2" name="Rectangle 70"/>
          <p:cNvSpPr/>
          <p:nvPr/>
        </p:nvSpPr>
        <p:spPr>
          <a:xfrm>
            <a:off x="0" y="5181480"/>
            <a:ext cx="9144000" cy="7632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3" name="Text Box 71"/>
          <p:cNvSpPr/>
          <p:nvPr/>
        </p:nvSpPr>
        <p:spPr>
          <a:xfrm>
            <a:off x="213840" y="5272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新魏"/>
              </a:rPr>
              <a:t>思考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4" name="Text Box 72"/>
          <p:cNvSpPr/>
          <p:nvPr/>
        </p:nvSpPr>
        <p:spPr>
          <a:xfrm>
            <a:off x="1295280" y="5334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号与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号试管分别对照，说明什么结论？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5" name="Text Box 73"/>
          <p:cNvSpPr/>
          <p:nvPr/>
        </p:nvSpPr>
        <p:spPr>
          <a:xfrm>
            <a:off x="1295280" y="5958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号与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号试管对照，说明什么结论？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856" name="Group 74"/>
          <p:cNvGrpSpPr/>
          <p:nvPr/>
        </p:nvGrpSpPr>
        <p:grpSpPr>
          <a:xfrm>
            <a:off x="3581280" y="4038480"/>
            <a:ext cx="4724280" cy="990720"/>
            <a:chOff x="3581280" y="4038480"/>
            <a:chExt cx="4724280" cy="990720"/>
          </a:xfrm>
        </p:grpSpPr>
        <p:grpSp>
          <p:nvGrpSpPr>
            <p:cNvPr id="857" name="Group 75"/>
            <p:cNvGrpSpPr/>
            <p:nvPr/>
          </p:nvGrpSpPr>
          <p:grpSpPr>
            <a:xfrm>
              <a:off x="6813720" y="4038480"/>
              <a:ext cx="1491840" cy="990720"/>
              <a:chOff x="6813720" y="4038480"/>
              <a:chExt cx="1491840" cy="990720"/>
            </a:xfrm>
          </p:grpSpPr>
          <p:pic>
            <p:nvPicPr>
              <p:cNvPr id="858" name="Picture 76" descr=""/>
              <p:cNvPicPr/>
              <p:nvPr/>
            </p:nvPicPr>
            <p:blipFill>
              <a:blip r:embed="rId1"/>
              <a:stretch/>
            </p:blipFill>
            <p:spPr>
              <a:xfrm>
                <a:off x="6813720" y="4038480"/>
                <a:ext cx="149184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9" name="Picture 77" descr="火苗"/>
              <p:cNvPicPr/>
              <p:nvPr/>
            </p:nvPicPr>
            <p:blipFill>
              <a:blip r:embed="rId2"/>
              <a:stretch/>
            </p:blipFill>
            <p:spPr>
              <a:xfrm>
                <a:off x="7386120" y="4572720"/>
                <a:ext cx="326160" cy="146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0" name="Group 78"/>
            <p:cNvGrpSpPr/>
            <p:nvPr/>
          </p:nvGrpSpPr>
          <p:grpSpPr>
            <a:xfrm>
              <a:off x="5735880" y="4038480"/>
              <a:ext cx="1574640" cy="990720"/>
              <a:chOff x="5735880" y="4038480"/>
              <a:chExt cx="1574640" cy="990720"/>
            </a:xfrm>
          </p:grpSpPr>
          <p:pic>
            <p:nvPicPr>
              <p:cNvPr id="861" name="Picture 79" descr=""/>
              <p:cNvPicPr/>
              <p:nvPr/>
            </p:nvPicPr>
            <p:blipFill>
              <a:blip r:embed="rId3"/>
              <a:stretch/>
            </p:blipFill>
            <p:spPr>
              <a:xfrm>
                <a:off x="5735880" y="4038480"/>
                <a:ext cx="157464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2" name="Picture 80" descr="火苗"/>
              <p:cNvPicPr/>
              <p:nvPr/>
            </p:nvPicPr>
            <p:blipFill>
              <a:blip r:embed="rId4"/>
              <a:stretch/>
            </p:blipFill>
            <p:spPr>
              <a:xfrm>
                <a:off x="6461640" y="4606560"/>
                <a:ext cx="160560" cy="94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63" name="Picture 81" descr=""/>
            <p:cNvPicPr/>
            <p:nvPr/>
          </p:nvPicPr>
          <p:blipFill>
            <a:blip r:embed="rId5"/>
            <a:stretch/>
          </p:blipFill>
          <p:spPr>
            <a:xfrm>
              <a:off x="3581280" y="4038480"/>
              <a:ext cx="116028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4" name="Picture 82" descr=""/>
            <p:cNvPicPr/>
            <p:nvPr/>
          </p:nvPicPr>
          <p:blipFill>
            <a:blip r:embed="rId6"/>
            <a:stretch/>
          </p:blipFill>
          <p:spPr>
            <a:xfrm>
              <a:off x="4492800" y="4038480"/>
              <a:ext cx="1657800" cy="99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5" name="Text Box 83"/>
          <p:cNvSpPr/>
          <p:nvPr/>
        </p:nvSpPr>
        <p:spPr>
          <a:xfrm>
            <a:off x="1067400" y="2286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e89a"/>
                </a:solidFill>
                <a:latin typeface="Arial"/>
              </a:rPr>
              <a:t>比较过氧化氢在不同条件下的分解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5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Text Box 2"/>
          <p:cNvSpPr/>
          <p:nvPr/>
        </p:nvSpPr>
        <p:spPr>
          <a:xfrm>
            <a:off x="76320" y="9144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新魏"/>
              </a:rPr>
              <a:t>实验结论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67" name="Text Box 3"/>
          <p:cNvSpPr/>
          <p:nvPr/>
        </p:nvSpPr>
        <p:spPr>
          <a:xfrm>
            <a:off x="2209680" y="15238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号试管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号试管对照，说明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68" name="Text Box 4"/>
          <p:cNvSpPr/>
          <p:nvPr/>
        </p:nvSpPr>
        <p:spPr>
          <a:xfrm>
            <a:off x="2133720" y="2743200"/>
            <a:ext cx="53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号试管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号试管对照，说明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2133720" y="3976560"/>
            <a:ext cx="53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号试管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号试管对照，说明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70" name="Text Box 6"/>
          <p:cNvSpPr/>
          <p:nvPr/>
        </p:nvSpPr>
        <p:spPr>
          <a:xfrm>
            <a:off x="2133720" y="5195880"/>
            <a:ext cx="53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号试管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号试管对照，说明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871" name="Group 7"/>
          <p:cNvGrpSpPr/>
          <p:nvPr/>
        </p:nvGrpSpPr>
        <p:grpSpPr>
          <a:xfrm>
            <a:off x="-71280" y="1447920"/>
            <a:ext cx="2295000" cy="4723920"/>
            <a:chOff x="-71280" y="1447920"/>
            <a:chExt cx="2295000" cy="4723920"/>
          </a:xfrm>
        </p:grpSpPr>
        <p:grpSp>
          <p:nvGrpSpPr>
            <p:cNvPr id="872" name="Group 8"/>
            <p:cNvGrpSpPr/>
            <p:nvPr/>
          </p:nvGrpSpPr>
          <p:grpSpPr>
            <a:xfrm>
              <a:off x="717840" y="3707280"/>
              <a:ext cx="1076760" cy="1232280"/>
              <a:chOff x="717840" y="3707280"/>
              <a:chExt cx="1076760" cy="1232280"/>
            </a:xfrm>
          </p:grpSpPr>
          <p:pic>
            <p:nvPicPr>
              <p:cNvPr id="873" name="Pictur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717840" y="3707280"/>
                <a:ext cx="1076760" cy="123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4" name="Picture 10" descr="火苗"/>
              <p:cNvPicPr/>
              <p:nvPr/>
            </p:nvPicPr>
            <p:blipFill>
              <a:blip r:embed="rId2"/>
              <a:stretch/>
            </p:blipFill>
            <p:spPr>
              <a:xfrm>
                <a:off x="1131120" y="4371840"/>
                <a:ext cx="235440" cy="182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75" name="Group 11"/>
            <p:cNvGrpSpPr/>
            <p:nvPr/>
          </p:nvGrpSpPr>
          <p:grpSpPr>
            <a:xfrm>
              <a:off x="757800" y="2474640"/>
              <a:ext cx="1036440" cy="1232280"/>
              <a:chOff x="757800" y="2474640"/>
              <a:chExt cx="1036440" cy="1232280"/>
            </a:xfrm>
          </p:grpSpPr>
          <p:pic>
            <p:nvPicPr>
              <p:cNvPr id="876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757800" y="2474640"/>
                <a:ext cx="1036440" cy="123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7" name="Picture 13" descr="火苗"/>
              <p:cNvPicPr/>
              <p:nvPr/>
            </p:nvPicPr>
            <p:blipFill>
              <a:blip r:embed="rId4"/>
              <a:stretch/>
            </p:blipFill>
            <p:spPr>
              <a:xfrm>
                <a:off x="1235520" y="3180960"/>
                <a:ext cx="105480" cy="117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8" name="Picture 14" descr=""/>
            <p:cNvPicPr/>
            <p:nvPr/>
          </p:nvPicPr>
          <p:blipFill>
            <a:blip r:embed="rId5"/>
            <a:stretch/>
          </p:blipFill>
          <p:spPr>
            <a:xfrm>
              <a:off x="66600" y="1447920"/>
              <a:ext cx="829080" cy="10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9" name="Picture 15" descr=""/>
            <p:cNvPicPr/>
            <p:nvPr/>
          </p:nvPicPr>
          <p:blipFill>
            <a:blip r:embed="rId6"/>
            <a:stretch/>
          </p:blipFill>
          <p:spPr>
            <a:xfrm>
              <a:off x="782280" y="1447920"/>
              <a:ext cx="1313280" cy="10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Picture 16" descr=""/>
            <p:cNvPicPr/>
            <p:nvPr/>
          </p:nvPicPr>
          <p:blipFill>
            <a:blip r:embed="rId7"/>
            <a:stretch/>
          </p:blipFill>
          <p:spPr>
            <a:xfrm>
              <a:off x="66600" y="2680200"/>
              <a:ext cx="829080" cy="10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1" name="Text Box 17"/>
            <p:cNvSpPr/>
            <p:nvPr/>
          </p:nvSpPr>
          <p:spPr>
            <a:xfrm>
              <a:off x="536760" y="178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82" name="Text Box 18"/>
            <p:cNvSpPr/>
            <p:nvPr/>
          </p:nvSpPr>
          <p:spPr>
            <a:xfrm>
              <a:off x="1873800" y="1858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883" name="Picture 19" descr=""/>
            <p:cNvPicPr/>
            <p:nvPr/>
          </p:nvPicPr>
          <p:blipFill>
            <a:blip r:embed="rId8"/>
            <a:stretch/>
          </p:blipFill>
          <p:spPr>
            <a:xfrm>
              <a:off x="66600" y="3912480"/>
              <a:ext cx="829080" cy="10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Text Box 20"/>
            <p:cNvSpPr/>
            <p:nvPr/>
          </p:nvSpPr>
          <p:spPr>
            <a:xfrm>
              <a:off x="536760" y="302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85" name="Text Box 21"/>
            <p:cNvSpPr/>
            <p:nvPr/>
          </p:nvSpPr>
          <p:spPr>
            <a:xfrm>
              <a:off x="1412640" y="302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86" name="Text Box 22"/>
            <p:cNvSpPr/>
            <p:nvPr/>
          </p:nvSpPr>
          <p:spPr>
            <a:xfrm>
              <a:off x="536760" y="4254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87" name="Text Box 23"/>
            <p:cNvSpPr/>
            <p:nvPr/>
          </p:nvSpPr>
          <p:spPr>
            <a:xfrm>
              <a:off x="1365480" y="4254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888" name="Group 24"/>
            <p:cNvGrpSpPr/>
            <p:nvPr/>
          </p:nvGrpSpPr>
          <p:grpSpPr>
            <a:xfrm>
              <a:off x="717840" y="4939560"/>
              <a:ext cx="1076760" cy="1232280"/>
              <a:chOff x="717840" y="4939560"/>
              <a:chExt cx="1076760" cy="1232280"/>
            </a:xfrm>
          </p:grpSpPr>
          <p:pic>
            <p:nvPicPr>
              <p:cNvPr id="889" name="Picture 25" descr=""/>
              <p:cNvPicPr/>
              <p:nvPr/>
            </p:nvPicPr>
            <p:blipFill>
              <a:blip r:embed="rId9"/>
              <a:stretch/>
            </p:blipFill>
            <p:spPr>
              <a:xfrm>
                <a:off x="717840" y="4939560"/>
                <a:ext cx="1076760" cy="123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0" name="Picture 26" descr="火苗"/>
              <p:cNvPicPr/>
              <p:nvPr/>
            </p:nvPicPr>
            <p:blipFill>
              <a:blip r:embed="rId10"/>
              <a:stretch/>
            </p:blipFill>
            <p:spPr>
              <a:xfrm>
                <a:off x="1131120" y="5604120"/>
                <a:ext cx="235440" cy="182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91" name="Group 27"/>
            <p:cNvGrpSpPr/>
            <p:nvPr/>
          </p:nvGrpSpPr>
          <p:grpSpPr>
            <a:xfrm>
              <a:off x="-71280" y="4939560"/>
              <a:ext cx="1036440" cy="1232280"/>
              <a:chOff x="-71280" y="4939560"/>
              <a:chExt cx="1036440" cy="1232280"/>
            </a:xfrm>
          </p:grpSpPr>
          <p:pic>
            <p:nvPicPr>
              <p:cNvPr id="892" name="Picture 28" descr=""/>
              <p:cNvPicPr/>
              <p:nvPr/>
            </p:nvPicPr>
            <p:blipFill>
              <a:blip r:embed="rId11"/>
              <a:stretch/>
            </p:blipFill>
            <p:spPr>
              <a:xfrm>
                <a:off x="-71280" y="4939560"/>
                <a:ext cx="1036440" cy="123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Picture 29" descr="火苗"/>
              <p:cNvPicPr/>
              <p:nvPr/>
            </p:nvPicPr>
            <p:blipFill>
              <a:blip r:embed="rId12"/>
              <a:stretch/>
            </p:blipFill>
            <p:spPr>
              <a:xfrm>
                <a:off x="406440" y="5645880"/>
                <a:ext cx="105480" cy="117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94" name="Text Box 30"/>
            <p:cNvSpPr/>
            <p:nvPr/>
          </p:nvSpPr>
          <p:spPr>
            <a:xfrm>
              <a:off x="536760" y="5487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95" name="Text Box 31"/>
            <p:cNvSpPr/>
            <p:nvPr/>
          </p:nvSpPr>
          <p:spPr>
            <a:xfrm>
              <a:off x="1365480" y="5487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896" name="Rectangle 32"/>
          <p:cNvSpPr/>
          <p:nvPr/>
        </p:nvSpPr>
        <p:spPr>
          <a:xfrm>
            <a:off x="2819520" y="205740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加热可以加快过氧化氢分解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7" name="Rectangle 33"/>
          <p:cNvSpPr/>
          <p:nvPr/>
        </p:nvSpPr>
        <p:spPr>
          <a:xfrm>
            <a:off x="2819520" y="3276720"/>
            <a:ext cx="4724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FeCl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能催化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H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分解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8" name="Rectangle 34"/>
          <p:cNvSpPr/>
          <p:nvPr/>
        </p:nvSpPr>
        <p:spPr>
          <a:xfrm>
            <a:off x="2743200" y="452592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过氧化氢酶能催化过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H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分解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9" name="Text Box 35"/>
          <p:cNvSpPr/>
          <p:nvPr/>
        </p:nvSpPr>
        <p:spPr>
          <a:xfrm>
            <a:off x="2743200" y="574524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过氧化氢酶的催化效率比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FeCl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高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0" name="Text Box 36"/>
          <p:cNvSpPr/>
          <p:nvPr/>
        </p:nvSpPr>
        <p:spPr>
          <a:xfrm>
            <a:off x="991440" y="2286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e89a"/>
                </a:solidFill>
                <a:latin typeface="Arial"/>
              </a:rPr>
              <a:t>比较过氧化氢在不同条件下的分解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8229600" cy="1066680"/>
          </a:xfrm>
          <a:prstGeom prst="rect">
            <a:avLst/>
          </a:prstGeom>
          <a:solidFill>
            <a:srgbClr val="518cd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实验结论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加热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zh-CN" sz="2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3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过氧化氢酶都能够促进过氧化氢的分解；酶的催化效率高于无机催化剂，酶的催化作用具有高效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38"/>
          <p:cNvSpPr/>
          <p:nvPr/>
        </p:nvSpPr>
        <p:spPr>
          <a:xfrm>
            <a:off x="1452960" y="3352680"/>
            <a:ext cx="68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1" lang="zh-CN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3" name="Text Box 39"/>
          <p:cNvSpPr/>
          <p:nvPr/>
        </p:nvSpPr>
        <p:spPr>
          <a:xfrm>
            <a:off x="1494360" y="4495680"/>
            <a:ext cx="54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肝脏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研磨液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4" name="Text Box 40"/>
          <p:cNvSpPr/>
          <p:nvPr/>
        </p:nvSpPr>
        <p:spPr>
          <a:xfrm>
            <a:off x="81360" y="6095880"/>
            <a:ext cx="68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1" lang="zh-CN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5" name="Text Box 41"/>
          <p:cNvSpPr/>
          <p:nvPr/>
        </p:nvSpPr>
        <p:spPr>
          <a:xfrm>
            <a:off x="0" y="61722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肝脏研磨液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23360" y="8524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e89a"/>
                </a:solidFill>
                <a:latin typeface="Arial"/>
                <a:ea typeface="宋体"/>
              </a:rPr>
              <a:t>二、酶的作用</a:t>
            </a:r>
            <a:endParaRPr b="1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7" name="Text Box 3"/>
          <p:cNvSpPr/>
          <p:nvPr/>
        </p:nvSpPr>
        <p:spPr>
          <a:xfrm>
            <a:off x="365040" y="147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908" name=""/>
          <p:cNvGraphicFramePr/>
          <p:nvPr/>
        </p:nvGraphicFramePr>
        <p:xfrm>
          <a:off x="0" y="685800"/>
          <a:ext cx="9144000" cy="4267080"/>
        </p:xfrm>
        <a:graphic>
          <a:graphicData uri="http://schemas.openxmlformats.org/drawingml/2006/table">
            <a:tbl>
              <a:tblPr/>
              <a:tblGrid>
                <a:gridCol w="814320"/>
                <a:gridCol w="1548000"/>
                <a:gridCol w="1295280"/>
                <a:gridCol w="1143000"/>
                <a:gridCol w="1295280"/>
                <a:gridCol w="1219320"/>
                <a:gridCol w="1828800"/>
              </a:tblGrid>
              <a:tr h="439560">
                <a:tc gridSpan="2"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步骤</a:t>
                      </a:r>
                      <a:endParaRPr b="0" lang="en-US" sz="2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试管编号</a:t>
                      </a:r>
                      <a:endParaRPr b="0" lang="en-US" sz="2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说明</a:t>
                      </a:r>
                      <a:endParaRPr b="0" lang="en-US" sz="2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73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8120">
                <a:tc rowSpan="2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</a:t>
                      </a:r>
                      <a:endParaRPr b="0" lang="en-US" sz="2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85e25"/>
                          </a:solidFill>
                          <a:latin typeface="黑体"/>
                          <a:ea typeface="黑体"/>
                        </a:rPr>
                        <a:t>H</a:t>
                      </a:r>
                      <a:r>
                        <a:rPr b="1" lang="zh-CN" sz="2000" spc="-1" strike="noStrike" baseline="-25000">
                          <a:solidFill>
                            <a:srgbClr val="185e25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185e25"/>
                          </a:solidFill>
                          <a:latin typeface="黑体"/>
                          <a:ea typeface="黑体"/>
                        </a:rPr>
                        <a:t>O</a:t>
                      </a:r>
                      <a:r>
                        <a:rPr b="1" lang="zh-CN" sz="2000" spc="-1" strike="noStrike" baseline="-25000">
                          <a:solidFill>
                            <a:srgbClr val="185e25"/>
                          </a:solidFill>
                          <a:latin typeface="黑体"/>
                          <a:ea typeface="黑体"/>
                        </a:rPr>
                        <a:t>2 </a:t>
                      </a:r>
                      <a:r>
                        <a:rPr b="1" lang="zh-CN" sz="2000" spc="-1" strike="noStrike">
                          <a:solidFill>
                            <a:srgbClr val="185e25"/>
                          </a:solidFill>
                          <a:latin typeface="黑体"/>
                          <a:ea typeface="黑体"/>
                        </a:rPr>
                        <a:t>浓度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%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%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%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%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85e25"/>
                          </a:solidFill>
                          <a:latin typeface="黑体"/>
                          <a:ea typeface="黑体"/>
                        </a:rPr>
                        <a:t>剂量        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ml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ml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ml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ml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rowSpan="2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二</a:t>
                      </a:r>
                      <a:endParaRPr b="0" lang="en-US" sz="2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85e25"/>
                          </a:solidFill>
                          <a:latin typeface="黑体"/>
                          <a:ea typeface="黑体"/>
                        </a:rPr>
                        <a:t>反应条件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常温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90℃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FeCl</a:t>
                      </a:r>
                      <a:r>
                        <a:rPr b="0" lang="zh-CN" sz="2000" spc="-1" strike="noStrike" baseline="-25000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溶液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新鲜肝脏研磨液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85e25"/>
                          </a:solidFill>
                          <a:latin typeface="黑体"/>
                          <a:ea typeface="黑体"/>
                        </a:rPr>
                        <a:t>剂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85e25"/>
                          </a:solidFill>
                          <a:latin typeface="黑体"/>
                          <a:ea typeface="黑体"/>
                        </a:rPr>
                        <a:t>量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滴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滴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8160">
                <a:tc rowSpan="2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结果</a:t>
                      </a:r>
                      <a:endParaRPr b="0" lang="en-US" sz="2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85e25"/>
                          </a:solidFill>
                          <a:latin typeface="黑体"/>
                          <a:ea typeface="黑体"/>
                        </a:rPr>
                        <a:t>气泡产生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85e25"/>
                          </a:solidFill>
                          <a:latin typeface="黑体"/>
                          <a:ea typeface="黑体"/>
                        </a:rPr>
                        <a:t>卫生香燃烧</a:t>
                      </a:r>
                      <a:endParaRPr b="0" lang="en-US" sz="20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9" name="Text Box 66"/>
          <p:cNvSpPr/>
          <p:nvPr/>
        </p:nvSpPr>
        <p:spPr>
          <a:xfrm>
            <a:off x="2438280" y="533520"/>
            <a:ext cx="1127160" cy="398880"/>
          </a:xfrm>
          <a:prstGeom prst="rect">
            <a:avLst/>
          </a:prstGeom>
          <a:solidFill>
            <a:srgbClr val="185e25"/>
          </a:solidFill>
          <a:ln w="9360">
            <a:solidFill>
              <a:srgbClr val="dde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隶书"/>
              </a:rPr>
              <a:t>对照组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0" name="Text Box 67"/>
          <p:cNvSpPr/>
          <p:nvPr/>
        </p:nvSpPr>
        <p:spPr>
          <a:xfrm>
            <a:off x="3962520" y="533520"/>
            <a:ext cx="3047760" cy="398880"/>
          </a:xfrm>
          <a:prstGeom prst="rect">
            <a:avLst/>
          </a:prstGeom>
          <a:solidFill>
            <a:srgbClr val="185e25"/>
          </a:solidFill>
          <a:ln w="9360">
            <a:solidFill>
              <a:srgbClr val="dde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隶书"/>
              </a:rPr>
              <a:t>实验组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1" name="Text Box 68"/>
          <p:cNvSpPr/>
          <p:nvPr/>
        </p:nvSpPr>
        <p:spPr>
          <a:xfrm>
            <a:off x="529560" y="7632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新魏"/>
              </a:rPr>
              <a:t>科学方法分析 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12" name="Group 69"/>
          <p:cNvGrpSpPr/>
          <p:nvPr/>
        </p:nvGrpSpPr>
        <p:grpSpPr>
          <a:xfrm>
            <a:off x="2514600" y="3809880"/>
            <a:ext cx="4723920" cy="990720"/>
            <a:chOff x="2514600" y="3809880"/>
            <a:chExt cx="4723920" cy="990720"/>
          </a:xfrm>
        </p:grpSpPr>
        <p:grpSp>
          <p:nvGrpSpPr>
            <p:cNvPr id="913" name="Group 70"/>
            <p:cNvGrpSpPr/>
            <p:nvPr/>
          </p:nvGrpSpPr>
          <p:grpSpPr>
            <a:xfrm>
              <a:off x="5746680" y="3809880"/>
              <a:ext cx="1491840" cy="990720"/>
              <a:chOff x="5746680" y="3809880"/>
              <a:chExt cx="1491840" cy="990720"/>
            </a:xfrm>
          </p:grpSpPr>
          <p:pic>
            <p:nvPicPr>
              <p:cNvPr id="914" name="Picture 71" descr=""/>
              <p:cNvPicPr/>
              <p:nvPr/>
            </p:nvPicPr>
            <p:blipFill>
              <a:blip r:embed="rId1"/>
              <a:stretch/>
            </p:blipFill>
            <p:spPr>
              <a:xfrm>
                <a:off x="5746680" y="3809880"/>
                <a:ext cx="149184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5" name="Picture 72" descr="火苗"/>
              <p:cNvPicPr/>
              <p:nvPr/>
            </p:nvPicPr>
            <p:blipFill>
              <a:blip r:embed="rId2"/>
              <a:stretch/>
            </p:blipFill>
            <p:spPr>
              <a:xfrm>
                <a:off x="6319080" y="4344120"/>
                <a:ext cx="326160" cy="146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6" name="Group 73"/>
            <p:cNvGrpSpPr/>
            <p:nvPr/>
          </p:nvGrpSpPr>
          <p:grpSpPr>
            <a:xfrm>
              <a:off x="4669200" y="3809880"/>
              <a:ext cx="1574280" cy="990720"/>
              <a:chOff x="4669200" y="3809880"/>
              <a:chExt cx="1574280" cy="990720"/>
            </a:xfrm>
          </p:grpSpPr>
          <p:pic>
            <p:nvPicPr>
              <p:cNvPr id="917" name="Picture 74" descr=""/>
              <p:cNvPicPr/>
              <p:nvPr/>
            </p:nvPicPr>
            <p:blipFill>
              <a:blip r:embed="rId3"/>
              <a:stretch/>
            </p:blipFill>
            <p:spPr>
              <a:xfrm>
                <a:off x="4669200" y="3809880"/>
                <a:ext cx="157428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8" name="Picture 75" descr="火苗"/>
              <p:cNvPicPr/>
              <p:nvPr/>
            </p:nvPicPr>
            <p:blipFill>
              <a:blip r:embed="rId4"/>
              <a:stretch/>
            </p:blipFill>
            <p:spPr>
              <a:xfrm>
                <a:off x="5394960" y="4377960"/>
                <a:ext cx="160560" cy="94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19" name="Picture 76" descr=""/>
            <p:cNvPicPr/>
            <p:nvPr/>
          </p:nvPicPr>
          <p:blipFill>
            <a:blip r:embed="rId5"/>
            <a:stretch/>
          </p:blipFill>
          <p:spPr>
            <a:xfrm>
              <a:off x="2514600" y="3809880"/>
              <a:ext cx="115992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77" descr=""/>
            <p:cNvPicPr/>
            <p:nvPr/>
          </p:nvPicPr>
          <p:blipFill>
            <a:blip r:embed="rId6"/>
            <a:stretch/>
          </p:blipFill>
          <p:spPr>
            <a:xfrm>
              <a:off x="3426120" y="3809880"/>
              <a:ext cx="1657800" cy="99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Text Box 78"/>
          <p:cNvSpPr/>
          <p:nvPr/>
        </p:nvSpPr>
        <p:spPr>
          <a:xfrm>
            <a:off x="862200" y="54100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应遵循的原则：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2" name="Text Box 79"/>
          <p:cNvSpPr/>
          <p:nvPr/>
        </p:nvSpPr>
        <p:spPr>
          <a:xfrm>
            <a:off x="3429000" y="52578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等量性原则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3" name="Text Box 80"/>
          <p:cNvSpPr/>
          <p:nvPr/>
        </p:nvSpPr>
        <p:spPr>
          <a:xfrm>
            <a:off x="3429000" y="58672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单一变量原则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4" name="Text Box 81"/>
          <p:cNvSpPr/>
          <p:nvPr/>
        </p:nvSpPr>
        <p:spPr>
          <a:xfrm>
            <a:off x="1981080" y="5653080"/>
            <a:ext cx="5334120" cy="520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楷体"/>
              </a:rPr>
              <a:t>随自变量的变化而变化的变量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5" name="Line 82"/>
          <p:cNvSpPr/>
          <p:nvPr/>
        </p:nvSpPr>
        <p:spPr>
          <a:xfrm>
            <a:off x="2362320" y="3124080"/>
            <a:ext cx="12952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6" name="Line 83"/>
          <p:cNvSpPr/>
          <p:nvPr/>
        </p:nvSpPr>
        <p:spPr>
          <a:xfrm>
            <a:off x="3733920" y="3124080"/>
            <a:ext cx="11430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7" name="Text Box 84"/>
          <p:cNvSpPr/>
          <p:nvPr/>
        </p:nvSpPr>
        <p:spPr>
          <a:xfrm>
            <a:off x="4038480" y="5043600"/>
            <a:ext cx="3276720" cy="520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楷体"/>
              </a:rPr>
              <a:t>人为改变的变量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8" name="Text Box 85"/>
          <p:cNvSpPr/>
          <p:nvPr/>
        </p:nvSpPr>
        <p:spPr>
          <a:xfrm>
            <a:off x="1981080" y="6262560"/>
            <a:ext cx="5334120" cy="520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楷体"/>
              </a:rPr>
              <a:t>实验中可能存在的一些可变变量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9" name="Text Box 86"/>
          <p:cNvSpPr/>
          <p:nvPr/>
        </p:nvSpPr>
        <p:spPr>
          <a:xfrm>
            <a:off x="7391520" y="5043600"/>
            <a:ext cx="1752480" cy="520560"/>
          </a:xfrm>
          <a:prstGeom prst="rect">
            <a:avLst/>
          </a:prstGeom>
          <a:solidFill>
            <a:srgbClr val="185e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自变量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0" name="Text Box 87"/>
          <p:cNvSpPr/>
          <p:nvPr/>
        </p:nvSpPr>
        <p:spPr>
          <a:xfrm>
            <a:off x="7391520" y="5638680"/>
            <a:ext cx="1752480" cy="520560"/>
          </a:xfrm>
          <a:prstGeom prst="rect">
            <a:avLst/>
          </a:prstGeom>
          <a:solidFill>
            <a:srgbClr val="185e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因变量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1" name="Text Box 88"/>
          <p:cNvSpPr/>
          <p:nvPr/>
        </p:nvSpPr>
        <p:spPr>
          <a:xfrm>
            <a:off x="7391520" y="6262560"/>
            <a:ext cx="1752480" cy="520560"/>
          </a:xfrm>
          <a:prstGeom prst="rect">
            <a:avLst/>
          </a:prstGeom>
          <a:solidFill>
            <a:srgbClr val="185e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无关变量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2" name="Text Box 89"/>
          <p:cNvSpPr/>
          <p:nvPr/>
        </p:nvSpPr>
        <p:spPr>
          <a:xfrm>
            <a:off x="7391520" y="6248520"/>
            <a:ext cx="1752480" cy="520560"/>
          </a:xfrm>
          <a:prstGeom prst="rect">
            <a:avLst/>
          </a:prstGeom>
          <a:solidFill>
            <a:srgbClr val="185e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无关变量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3" name="Text Box 90"/>
          <p:cNvSpPr/>
          <p:nvPr/>
        </p:nvSpPr>
        <p:spPr>
          <a:xfrm>
            <a:off x="152280" y="762120"/>
            <a:ext cx="2057400" cy="642600"/>
          </a:xfrm>
          <a:prstGeom prst="rect">
            <a:avLst/>
          </a:prstGeom>
          <a:solidFill>
            <a:srgbClr val="185e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对照实验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4" name="Text Box 91"/>
          <p:cNvSpPr/>
          <p:nvPr/>
        </p:nvSpPr>
        <p:spPr>
          <a:xfrm>
            <a:off x="7467480" y="762120"/>
            <a:ext cx="1600200" cy="642600"/>
          </a:xfrm>
          <a:prstGeom prst="rect">
            <a:avLst/>
          </a:prstGeom>
          <a:solidFill>
            <a:srgbClr val="185e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变量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5" name="Text Box 92"/>
          <p:cNvSpPr/>
          <p:nvPr/>
        </p:nvSpPr>
        <p:spPr>
          <a:xfrm>
            <a:off x="3506760" y="838080"/>
            <a:ext cx="2923920" cy="642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楷体"/>
              </a:rPr>
              <a:t>实验中可以变化的因素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936" name="ShockwaveFlash1"/>
          <p:cNvGraphicFramePr/>
          <p:nvPr/>
        </p:nvGraphicFramePr>
        <p:xfrm>
          <a:off x="76320" y="6553080"/>
          <a:ext cx="106668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7" name="ShockwaveFlash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320" y="6553080"/>
                    <a:ext cx="1066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8" name="WordArt 94"/>
          <p:cNvSpPr txBox="1"/>
          <p:nvPr/>
        </p:nvSpPr>
        <p:spPr>
          <a:xfrm>
            <a:off x="6923160" y="1600200"/>
            <a:ext cx="1522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39" name="WordArt 95"/>
          <p:cNvSpPr txBox="1"/>
          <p:nvPr/>
        </p:nvSpPr>
        <p:spPr>
          <a:xfrm>
            <a:off x="5715000" y="1600200"/>
            <a:ext cx="1522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40" name="WordArt 96"/>
          <p:cNvSpPr txBox="1"/>
          <p:nvPr/>
        </p:nvSpPr>
        <p:spPr>
          <a:xfrm>
            <a:off x="4560840" y="1600200"/>
            <a:ext cx="1522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41" name="WordArt 97"/>
          <p:cNvSpPr txBox="1"/>
          <p:nvPr/>
        </p:nvSpPr>
        <p:spPr>
          <a:xfrm>
            <a:off x="4560840" y="2114640"/>
            <a:ext cx="1522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42" name="WordArt 98"/>
          <p:cNvSpPr txBox="1"/>
          <p:nvPr/>
        </p:nvSpPr>
        <p:spPr>
          <a:xfrm>
            <a:off x="5715000" y="2133720"/>
            <a:ext cx="1522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43" name="WordArt 99"/>
          <p:cNvSpPr txBox="1"/>
          <p:nvPr/>
        </p:nvSpPr>
        <p:spPr>
          <a:xfrm>
            <a:off x="6923160" y="2114640"/>
            <a:ext cx="1522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44" name="WordArt 100"/>
          <p:cNvSpPr txBox="1"/>
          <p:nvPr/>
        </p:nvSpPr>
        <p:spPr>
          <a:xfrm>
            <a:off x="5715000" y="3124080"/>
            <a:ext cx="1522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45" name="WordArt 101"/>
          <p:cNvSpPr txBox="1"/>
          <p:nvPr/>
        </p:nvSpPr>
        <p:spPr>
          <a:xfrm>
            <a:off x="6923160" y="3181320"/>
            <a:ext cx="1522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46" name="WordArt 102"/>
          <p:cNvSpPr txBox="1"/>
          <p:nvPr/>
        </p:nvSpPr>
        <p:spPr>
          <a:xfrm>
            <a:off x="3429000" y="1600200"/>
            <a:ext cx="1522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47" name="WordArt 103"/>
          <p:cNvSpPr txBox="1"/>
          <p:nvPr/>
        </p:nvSpPr>
        <p:spPr>
          <a:xfrm>
            <a:off x="3429000" y="2133720"/>
            <a:ext cx="1522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6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9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0463 L -0.00417 -0.37315 E">
                                      <p:cBhvr>
                                        <p:cTn id="219" dur="2000" fill="hold"/>
                                        <p:tgtEl>
                                          <p:spTgt spid="9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0672 L -0.00417 -0.23101 E">
                                      <p:cBhvr>
                                        <p:cTn id="223" dur="2000" fill="hold"/>
                                        <p:tgtEl>
                                          <p:spTgt spid="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-0.00649 L -0.00417 -0.66204 E">
                                      <p:cBhvr>
                                        <p:cTn id="237" dur="2000" fill="hold"/>
                                        <p:tgtEl>
                                          <p:spTgt spid="9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-0.0044 L -0.00417 -0.44884 E">
                                      <p:cBhvr>
                                        <p:cTn id="239" dur="2000" fill="hold"/>
                                        <p:tgtEl>
                                          <p:spTgt spid="9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4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6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2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4343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de89a"/>
                </a:solidFill>
                <a:latin typeface="Arial"/>
              </a:rPr>
              <a:t>酶在细胞代谢中的作用</a:t>
            </a:r>
            <a:endParaRPr b="1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971440" y="2898720"/>
            <a:ext cx="3048120" cy="12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谢谢指正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5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95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8T04:58:19Z</dcterms:modified>
  <cp:revision>1</cp:revision>
  <dc:subject/>
  <dc:title>PowerPoint 演示文稿</dc:title>
</cp:coreProperties>
</file>