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8EC-3B85-4A4C-A314-D1C6742A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E16-5942-459A-B0E3-C68262C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CCF0E-17BE-49FC-96F0-1B22F8E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D5270-8F64-4CDD-8A4B-D779C725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DCA7-9BCA-4CC1-9716-36BB0177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F31F1-93E2-412B-91FD-01C91DA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982F0-4B1D-420D-9E66-67B3F9C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F1DD-CA46-45F1-8C1A-B012C2F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E009C-32D1-40B0-BF2E-7646AB94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EAB7-F1DC-4576-B9B2-809F1B06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E993-6D26-4004-BD96-B6599395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5A0CB-EAC0-46E6-BB02-0E66291C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251-DC50-48E1-AA95-F17F6F5F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ACBEE-5B11-494D-A6DC-1324036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248D8-0E56-45DA-A0C6-518B4FA3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8D334-F956-4FD3-BCF4-249E004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A6776-51B1-4BA5-97CA-2A560B3A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D06EC-3812-4B1D-8DBE-EC683E0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26F74-2455-493F-B2A5-C817A9E0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41008-F85A-4E14-B0C8-1A4F09E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F7985-AC9E-458C-BB04-D26D9C18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F55E3-6F80-4458-8FEB-0DB3675F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F65A5-EA18-4C40-8A16-91034EE6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EB4-3866-4AE4-89ED-795FCE7B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9B402-E7C5-47D9-B6DA-5061581F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659F4-69FC-4A60-BA8D-2CCBAAAA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49D22-4E14-49DE-8B39-86594355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6AE3D-A027-49BB-B8DB-29CDFD36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344EB-1492-4C06-B09C-07A3E929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94259-BF17-4A56-BD33-B4EDEECC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641AF-31A5-44E0-99AD-A269DDA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8C091-E902-4CE7-8578-9946103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03819-2344-495F-9A70-5483A34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CDC76-A6C5-4B3A-8325-F518162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BFE-C33F-492B-8B5E-37B28E39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DD7F-D46A-49C9-BF9E-1DA1FF58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EE41-25E1-4D29-BCEF-8B0E72B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F87B5-B074-42FA-9636-EF8FA3EC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6B26E-908F-4710-A721-56367E4C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DC5F2-6815-4442-B55B-F23ED34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97624-BFF4-4068-AC9D-85E0F06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B03F1-8DD9-4A49-82D2-060151AE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2005D-C759-4C77-9E82-6ECD8DE9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1D78A-9F24-4ECA-BD70-8F74A59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8A592-C6F7-4AA9-82EC-DFD1578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7FB-982D-40D7-A558-23E9ADD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6564A-A6EF-4E5B-B47C-B0CEBBA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668F8-43EF-49D6-83A6-048F526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7D95C-D306-4891-B3A8-581F17CE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625FC-929A-4703-883F-1DD0BE39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8D3F4-E886-4F2D-A8A9-3155247F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FC687-DF80-4662-9194-1F2C48C1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15DEF-0BBE-44D3-869F-D6D082D6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9F9C7-2CE8-468D-A3D5-EF8CCD25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2E0A8-940D-40D6-9022-D5CA5248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69843-6E51-4ADB-8ACA-C59C3821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6CB-02EF-408B-9FE7-B1D613E0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64E09-1D55-40E5-B1A9-638D151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C2988-2E2F-4B01-84B1-835E335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678BA-D88D-4062-BFF0-FF102AD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BCD3D-2A36-4099-A9E2-A6EF057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F2607-01AA-4FA2-BD95-0A0AD35E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CFAEE-7BAF-480D-BF3E-D0C6C984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99088-EB8C-45AD-9080-33418A2F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92B54-D605-4557-AADC-75552D1D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D2536-C653-425F-87F9-7BAB788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9BD77-989D-4D7E-8205-D682EA5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34C8-E0F1-4873-964F-3DF8EF8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FE46C-3DD0-42D6-B99F-EABF383F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51102-D3F0-4D06-8A17-D10A2B2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63987-926E-49EE-A7FC-96ED6B0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AA1C5-A159-4E2E-B159-99996037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2898D-11DD-47CD-80C0-3A81294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4574A-C039-4676-8C96-5AFF49C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76D9B-6809-4E19-BE77-E01265BA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43A0A-96C2-4931-BEC2-B4375425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4607B-090C-420F-8D41-BBAF3A14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1051F-5968-4689-B6B7-A428FA42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254B-6D6C-4230-9CA5-9ADD0075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DDDE9-D674-4A3F-9036-E4B8CE47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DBC2E-EB62-4EB3-A9B6-611B60AE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1C2A4-7600-4910-AA32-2EF0191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7C3B4-F191-4D22-85C1-9FDFB03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9097A-15A1-4210-BC61-1D16B67A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E4641-E125-4055-B5E8-D63892E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51C21-B31A-4D11-ACCE-1E6D808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4785B-CB32-426C-8513-2806D94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D59FD-9A36-48BE-BC3C-CBB8FB4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FCEFE-5606-4B21-9357-D5C10C7F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005-B46A-40C1-80D3-9E247622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38163-8049-428C-9700-097C30C3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782B-CA0B-4756-86F9-F92A083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526-44AC-486F-A146-8746FDC8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EA6-FEB4-4DE1-A3E0-ACF8BB2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0A44-DC26-46A5-91CD-1D805842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A749-B241-4002-9331-F378E929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C44-8E4F-433A-85CE-A7551097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70A5-BD7B-438D-B20B-3DD53CEC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D3C9-B720-42ED-8AF1-27A4952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AEE6-7C63-4C45-9D04-305ACD87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A4B2-B6D6-4EA5-98E9-E5C7A92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3AF1-55AA-474F-A708-719B4ACF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F425-5935-4D47-B346-268C4405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E91-855E-4973-857A-EB2C1FB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DC52-3D54-4667-885C-DA6A0BEA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3A40-FF24-47A0-8489-F2267A5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B7CE-19AE-448D-A840-3AC8AD9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0C2F-FBD5-4284-8617-4038FB3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8739-4642-482D-B70E-A1391713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5B53-B2CC-473F-BAD3-E8FBE48E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149E-4CFF-466F-A230-09EDD5FF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C035-CA74-4D9A-B177-2017FFF6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0BD4-A585-44E4-8682-4DA96CD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CD69-E7E7-4A41-9D98-10B0E7E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443-C678-4C2A-93C5-75519F1A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4E31-4B78-43BC-AC2D-BA7EE85F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2990-BBE4-4B17-88C4-A336123D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CC52-56E2-4982-BD78-ECA3956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77F5-D7E9-4569-96CA-D35693C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E605D-6D6A-4715-AA1A-6A558DC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25B1-EA3F-4EC6-B5DD-D768B0A6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154C-492F-4AD9-98CF-ED1E10A3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D5ED-3731-4226-A141-B3C61446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FF4D-EDF0-439F-8D94-94060DF1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BF10-32C8-4558-894C-0A02665C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84C-46B2-405E-B3DF-9B98687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A6D1-7E62-4000-AD58-BB8B518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7680-9FE9-49F7-90EC-1413F7F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B4D3-99A6-4BF5-AF08-A73E995F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07DC-783D-452E-B819-E63EE14B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7FD8-16CB-49A0-8867-56ECA2F9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DD6D-DC48-49C0-B600-28CBF21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2CBD-89CC-40C6-AC35-1298736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C63D9-243A-41E0-BD3D-E504CDA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50CA0-28E3-42D2-ADE9-95AC917E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D68D-CAB5-44BB-9F81-75C83F7A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5F1-B466-43DE-8280-0449DAB8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BDE7-F704-42CF-B9FB-48E2D105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FD22-1FEF-46DB-8D6A-3C77EBEF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6F00-1829-4C49-B059-3DD9719D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6961-E8DD-4412-AF10-A6BC1C95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11EB-17B4-4168-896D-FD648BC1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6FF7-32F8-48C4-B62E-AA281611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67341-50C3-490A-A821-FA1FDC6C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17440-F272-498A-8A75-1B5EB52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DAA7C-9D47-4E15-92CB-B6F7CF3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F0BA-7C02-489E-8514-666DD7C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929-E04E-422A-8986-257A946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34DE-9A88-456B-B9EE-147E9BAB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03E0-C004-43CE-9DB4-82294B86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8B1FA-96BB-475C-A662-E0CB068E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DDF8-09D3-4908-ACC5-5A3B4268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D0DD-7309-46D3-9D6A-539639C5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565CB-96E9-4C0E-95C5-F3C9045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0AC8-0F50-43BF-9280-1876508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CD49-28FC-46B6-AAED-097CB8C3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158D-D5DD-4B3D-A2A4-3BDA915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85C6-86B2-49DA-AD51-2ACAB00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EF9-1A09-4958-BA1D-ACE9846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45BA-EC21-4685-93A4-591DBEE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83C5-E4C9-449A-B07D-79AE76F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5926-EDF3-405F-B775-531C28A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2921-6E3C-47CC-B1D3-0BB561AA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689AE-3886-4582-99D7-1EF59BB8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B5EE-75D8-42FB-9676-C704E945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0ADFE-5CA9-4F79-B57C-02D9EBFD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E2DBA-2310-49F2-AC8D-7A18E0D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989CC-70ED-46C3-A3C6-767AC9C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81B6-6E65-4F9F-8983-D340AB61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068-AC51-4A48-9595-72F8CFD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6339B-F48D-4115-B91F-F2E99E62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39C60-9BB7-4C1F-BE06-B0AACAF1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E89B0-4AD0-486F-955C-D3DDB2E0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303F-31B0-4BE5-93B9-653F182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0BB68-453A-4E8D-9FCC-B2D8B5A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F745C-B850-4390-8343-EAAC3F03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7A838-AC58-48E2-804B-1ED55B5C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28EE1-1F10-40E2-AC82-F9571EB4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C751-49E0-46ED-A588-C12289D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E4B63-A451-4BE9-B4E4-EEFF9D54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istrator\桌面\面具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Administrator\桌面\成熟的人需要面具。戴上，坚强面对社会；摘下，温柔面对家人。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AF2E-8D3B-4447-8045-A01204189E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A01-8AF4-48D4-8E97-B595B15EEB7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748-4062-4907-92F9-0B265CE7448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3459-CCB7-4BFA-BC45-6FCE023D4EA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DA9-3570-448D-A3A0-2A9472B78E0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EB2-BD09-44C7-AA07-445ED2C0551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A068-5ECB-436B-8C2F-0A2492F80E7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5669-3F36-4C93-8584-3AA57FAF179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CCA5-BB34-43F6-9611-0B22753435C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AA42-81D6-4233-B177-1A547E98AA0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878-6936-4795-A5EB-BB553F47302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413-8843-467C-AE76-B2F5843F1C5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5483-5BFF-4F60-AC37-BA5D0A7ADFC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istrator\桌面\面具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istrator\桌面\面具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istrator\桌面\成熟的人需要面具。戴上，坚强面对社会；摘下，温柔面对家人。副本.png"/>
          <p:cNvPicPr/>
          <p:nvPr/>
        </p:nvPicPr>
        <p:blipFill>
          <a:blip r:embed="rId4"/>
          <a:srcRect l="11192" t="0" r="47742" b="26536"/>
          <a:stretch/>
        </p:blipFill>
        <p:spPr>
          <a:xfrm>
            <a:off x="0" y="0"/>
            <a:ext cx="2035080" cy="273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76C7-F70B-448A-AB9C-23045E76E8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Administrator\桌面\面具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istrator\桌面\2副本.png"/>
          <p:cNvPicPr/>
          <p:nvPr/>
        </p:nvPicPr>
        <p:blipFill>
          <a:blip r:embed="rId3"/>
          <a:stretch/>
        </p:blipFill>
        <p:spPr>
          <a:xfrm>
            <a:off x="6978600" y="5410080"/>
            <a:ext cx="1406520" cy="149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Administrator\桌面\22.png"/>
          <p:cNvPicPr/>
          <p:nvPr/>
        </p:nvPicPr>
        <p:blipFill>
          <a:blip r:embed="rId4"/>
          <a:srcRect l="30528" t="29902" r="51474" b="43251"/>
          <a:stretch/>
        </p:blipFill>
        <p:spPr>
          <a:xfrm flipH="1" rot="756000">
            <a:off x="7803720" y="5438880"/>
            <a:ext cx="1282680" cy="1434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DFC-A918-4D5A-ABE7-4E78A7E9E9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8B4-26A8-4173-92AE-2723F4CA10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685-4DAE-40BD-B96D-6C4FA2615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ABE8-F9D9-4025-B412-D653C5C2A0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88AF-4611-4862-9485-AA145133D9A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C78D-8234-4F66-AE42-32ACB3D45D9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D9D7-0BC2-4C00-9D08-E406ACFD54E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42A6-D3E9-4086-8A29-1F24A66B097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9C6-350E-4951-B829-7B78F0D93C9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7FF-44A8-45B1-A704-A7E6CC3452E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4FCB-8053-4421-B59A-363621648B8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CD63-93E5-4B0B-AE7A-31ADC6CD3D8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FF9-3199-4E0D-A1C2-B9B42434970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4"/>
          <p:cNvSpPr/>
          <p:nvPr/>
        </p:nvSpPr>
        <p:spPr>
          <a:xfrm>
            <a:off x="6156360" y="1413000"/>
            <a:ext cx="178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53735"/>
                </a:solidFill>
                <a:latin typeface="方正毡笔黑简体"/>
                <a:ea typeface="方正毡笔黑简体"/>
              </a:rPr>
              <a:t>面具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3"/>
          <p:cNvSpPr/>
          <p:nvPr/>
        </p:nvSpPr>
        <p:spPr>
          <a:xfrm>
            <a:off x="2928960" y="227664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53735"/>
                </a:solidFill>
                <a:latin typeface="方正毡笔黑简体"/>
                <a:ea typeface="方正毡笔黑简体"/>
              </a:rPr>
              <a:t>成熟的人需要面具。戴上，坚强面对社会；摘下，温柔面对家人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3"/>
          <p:cNvSpPr/>
          <p:nvPr/>
        </p:nvSpPr>
        <p:spPr>
          <a:xfrm>
            <a:off x="2124000" y="245412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53735"/>
                </a:solidFill>
                <a:latin typeface="方正毡笔黑简体"/>
                <a:ea typeface="方正毡笔黑简体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2:41:18Z</dcterms:created>
  <dc:creator>Administrator</dc:creator>
  <dc:description/>
  <cp:keywords/>
  <dc:language>en-US</dc:language>
  <cp:lastModifiedBy>a</cp:lastModifiedBy>
  <dcterms:modified xsi:type="dcterms:W3CDTF">2014-07-20T08:02:4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