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E5D-0B68-4E14-B89C-5A62871E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07F-E331-4219-A211-0FC9D438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AACDB-8695-4084-B648-FE0A2999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76894-F377-412D-AE9F-9DCB766E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71DC8-C45E-4516-BE74-BCC1A396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560B4-C350-498D-B43A-242F03E9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E5F2B-4205-46B4-AB5A-FB036C3B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D0A9D-79E1-44F3-B96E-BF5481FD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63DB5-29BC-4400-94EB-A0404290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B28D4-25E6-4B44-90ED-7B532D19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99A68-F347-4397-AC48-BE7F5433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31F2C-F69D-471A-9F7D-5C2B5E9D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C3C-42FB-4D73-A671-188913A6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FFA64-CDCE-4824-A2E7-F586EBD8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11267-0760-4966-BCC9-E5948F28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04C32-F265-4164-8FF2-62F0FBD7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3EAAC-FE27-43C5-A169-B854D0F0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1ECAD-AC79-4914-9EFC-EF84A87B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7D1A7-46DB-4FAC-B54E-6A63629E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65ECD-F5F2-47BC-AE12-91144876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4F4F4-DB40-46B5-8EF1-18AFA85E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8534F-EF76-489E-B4FC-10EEBE58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93ADD-23CB-4F5F-9747-F5D29488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381-75E0-4086-8DF9-D9541478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01151-3AA8-4D01-8A36-ECBCD1A8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AB64F-72F6-4336-BC61-44D8707B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C51BE-1EE1-41AF-B8A1-C7350133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C6017-6C38-41DB-BDFF-0AE94E08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FB95D-1CDB-4E35-98BA-ED490ADC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C807E-9753-4C58-A1F3-DBE6DC95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E2A2C-9DA4-4F46-B0C1-AB6EBA19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5CE51-1364-4158-BA59-232075FE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40F82-8038-4552-A048-BA447323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3311B-A686-40A1-99C0-D2512E81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7145-5D18-4AE3-8C87-50238930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3F702-819E-478F-9C05-C59AB631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77E91-ADA8-4392-9478-F5ED4427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911BE-179D-4C8E-AD08-10802BC7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85471-7816-4F97-9D3F-6B9B5A19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4C9E0-21E1-4FBE-9B78-88925721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21DF6-51C5-4E7C-BBAE-B2A18740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13129-C7AE-4CFC-9110-B002FDE9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F8912-C4C7-4932-8CDE-1198410E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84DF3-8208-4B39-8645-8332035D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3BCE3-069B-4C8C-9CF4-B7245506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9CA0-89AF-430D-B1D5-963BFA98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247F1-39AA-493C-BD16-605F3206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08DC6-2A65-45DF-A5F6-264FA58E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DB42F-F507-4DD4-B612-D629CFDB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55B98-332E-47B5-A4CB-3C560ED3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0DF94-9B35-4D9E-B411-09B3A687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12AC4-7ED6-43BA-8264-8A45192B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33516-AC30-4286-B447-C958B651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356B3-7346-43B3-B3ED-420D6179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E9A19-7FBE-4A80-B523-19D41F9F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729BA-EEF2-4180-821C-294DD2F9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43FE-4F6F-4BC3-A27E-B45C8448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5D727-7BED-437E-88F1-4D1D196E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C0C15D-99BD-45F9-8E3A-BC631A4B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16B0C-BE1C-405A-BB9F-D76E585E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1BFB0-62A5-40B5-B416-916842D7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7C204-47C5-4BD1-BF25-3552512B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69931-95C2-4B8C-83D9-881F60A1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E3DE1-7514-46C9-BC73-D8E847AD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B1F820-A58A-4365-BA3E-DE37E825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08217-07C8-4A73-BCC5-9F6B5C5A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E8098-77F3-4F6C-B6BB-506134A0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64A1-76A8-495A-9395-2F0405F8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23BBD-DE30-44B7-92C1-ED3A771A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4A0D8-29F6-4528-B242-C3D8B534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0D474-5B14-4D4C-B38B-9330E02D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BD1C7-A7E9-4369-9152-0A11D8F5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6E9BC-1747-4CE3-A984-EF203C0B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86713-B722-44BF-AFC9-E7E289BF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862FD9-5BCF-4529-AB81-73A30B4E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4F9E46-8B07-4EBE-A876-0AA174D8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38140-245C-4777-BD07-C932E638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A677-19DB-4B1B-8157-781D03DB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583A-18F3-457A-98C4-90EC15FA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EE98-88F5-4DF4-A0A8-2C927A22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5ED-204A-4767-AD7D-B8E3E02B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5FD8-28CD-4CCF-8EBF-7C2ADD6B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6327-3091-4EF6-B36F-304B9C7C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7F94-7764-4088-AEF7-5380DBCF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17DD-6DCD-4AE8-AAAF-921709BA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0116-F31C-4232-9F23-DADD03F2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05D18-CF99-4BA5-BE55-4F91B290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29A5F-88A5-4863-A8F1-AE6A0CFC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73A07-8E55-43AB-83C0-29AB64F0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7C9E3-6585-4651-876E-B02B5210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32565-4459-462A-BA48-87D4604F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FC9-E441-4D48-A203-C1576E25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8DFE6-B543-4C96-A19B-EEFA40CB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5B481-0907-42A0-BF42-9EC578CC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B004D-A2C0-4CA3-B70B-20A83E7D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8757D-8538-4CBA-B702-8D46DF19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ADCD3-CB43-4B85-888B-0853DE38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6A817-A137-49A2-AA95-A45B07A0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AA5C2-DD86-44EA-8AC0-4240E1CB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272A5-25E8-4833-A012-76691125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2CB28-A0E2-4B11-9BA4-81D67BDA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3B033-70D1-4393-8945-20DA6E70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709-B6C5-43A7-AE9F-6134C2AC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F9C49-43AC-4B5A-8196-506142B1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02ED1-5368-4DDF-ACE3-66D1CD3F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C6C9F-4ACF-4A33-B3FE-31124665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5ECF5-D1E0-43B7-B459-FC160B58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4E701-3592-4B59-865B-BA60AA51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02142-CB38-4472-B872-E7B02399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6B8AE-11BD-4542-8695-9FBD2E86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2E63D-53C5-4D1D-90F9-7093D447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7A77B-D196-4601-ABED-C450B246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556F3-2965-4A1D-9FA4-62807424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E0B-DA2D-436A-89AB-1AD4CA63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A3604-0C27-4B06-AA5F-E9327E01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4166B-84CB-4CD1-B4D7-5999DF59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4E750-B716-4204-8A1F-BC8FBA08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B938B-85FF-4F30-AAAC-8F6F70D7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64FFA-4166-4BAA-AFD5-7A0DF9F8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2C4C6-620D-487B-B3AF-485BEBC2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2B620-FAD9-4BDF-9CD1-C2E4EC59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7E1EB-F541-4213-956B-BD89D126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B05C8-716F-4CBB-AC92-D9E3B0C6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6865D-DD8D-432C-B5CF-D8ECE824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C56-DA9F-40EB-9716-4068350F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66A6B-16D7-4BB8-83C8-24D29725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2BD4D-5BF4-4C14-991E-FFF49443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A3414-4F4C-424F-83F1-3289113A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30319-4AA1-4A27-B016-55A35F53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3A057-BE3B-4BDF-A369-5CD6909D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5ACEB-5463-4812-B8EE-7392607E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F60BA-FD30-4331-AC6A-F2DDAD3F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95E06-6C6F-4C64-BB7B-BA41619B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94AAE-3ACD-497B-8759-926352EA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DB53F-5BE7-4A8A-8C65-607547FC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B84-1FC5-40D6-8B14-37F024E8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A60F9-D84B-480D-B9A8-E8D6BC7F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59926-D020-4E7C-BB95-8631E474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17676-4956-41B9-979D-97CFDCD9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919FB-8318-4978-A450-DFE1116F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40732-61EB-4970-902F-537EC78D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64CB8-E9E9-4518-8D8C-705E4C43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B1007-60B9-42C0-84C0-E3DCDA98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B5B0B-104E-43DA-8BB3-EE988E61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CD28F-20B9-443F-A30F-734F38BC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4DA95-2E61-4A38-8EAF-7EF7E966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701-61D3-4EED-96D7-7E1F4C6A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A80C0-E717-4881-80EE-59374AF3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FBE16-B548-4544-AE30-991C5E3D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2A8B4-5B69-4124-95C9-84D99BF2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C45CD-341B-4DCC-969C-FD083A63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DD6FA-26B1-4733-9E50-1D6C6C23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ECC20-485E-4FCD-8767-552C8D2F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E4C50-A435-4278-909F-96A339F0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68C13-E383-496C-B9B1-18B103C4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E07AB-2B50-4F27-AEF9-536681C1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09F5A-B794-4E84-8633-9E8E0D50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55F-D359-428A-8657-27679896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F088F-7BFA-4442-ACC4-3A21CF46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0CEEF-6370-4947-AFDC-80C93023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A8CF0-1E3D-4924-99A2-97718390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D53AF-ACEC-4B89-9ED8-5BD83587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4F674-7C77-4585-AD7D-0338CDFE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1B5E6-5348-43E4-8126-CAF12EC2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727FA-4396-4BC2-9E3A-F34F4026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C9286-7BE7-42FB-9D24-DD2233FD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D615B-8C57-43E0-AF5C-046E8681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8A8D6-5E4B-4A4F-9B9A-93FA7D52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Administrator\桌面\33.jpg"/>
          <p:cNvPicPr/>
          <p:nvPr/>
        </p:nvPicPr>
        <p:blipFill>
          <a:blip r:embed="rId2"/>
          <a:stretch/>
        </p:blipFill>
        <p:spPr>
          <a:xfrm>
            <a:off x="0" y="-60480"/>
            <a:ext cx="9144000" cy="5797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C:\Documents and Settings\Administrator\桌面\莲 (11).png"/>
          <p:cNvPicPr/>
          <p:nvPr/>
        </p:nvPicPr>
        <p:blipFill>
          <a:blip r:embed="rId3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:\Documents and Settings\Administrator\桌面\莲 2(1).png"/>
          <p:cNvPicPr/>
          <p:nvPr/>
        </p:nvPicPr>
        <p:blipFill>
          <a:blip r:embed="rId4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矩形 10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12" descr="C:\Documents and Settings\Administrator\桌面\2.png"/>
          <p:cNvPicPr/>
          <p:nvPr/>
        </p:nvPicPr>
        <p:blipFill>
          <a:blip r:embed="rId5"/>
          <a:stretch/>
        </p:blipFill>
        <p:spPr>
          <a:xfrm rot="20068800">
            <a:off x="1619280" y="-104760"/>
            <a:ext cx="3017880" cy="3249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D460-95C3-4D3A-80DF-3C74FA2D43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0692-894F-4AA5-9D8A-52113C58E979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95DD-0B2E-4DF5-8774-883095516E18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AE34-F447-40A3-83B5-54F917A1CB36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6FEB-E781-4B24-B29C-A82488061911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033F-F6CA-456D-87B5-75D732B85F59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B6D5-66A4-4BC5-8354-9E703DA08811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4AFD-E31B-4946-B193-0883689FDF45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7A31-5D35-4EE3-9FC9-E0002F46D324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40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48F9-9ABB-4FAB-B368-FCEF9EB9D535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41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42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BA30-A90A-4B55-A7DC-BA6403C11B60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6" descr="C:\Documents and Settings\Administrator\桌面\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矩形 7"/>
          <p:cNvSpPr/>
          <p:nvPr/>
        </p:nvSpPr>
        <p:spPr>
          <a:xfrm>
            <a:off x="395280" y="-92160"/>
            <a:ext cx="8353440" cy="590256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Documents and Settings\Administrator\桌面\莲 2(1).png"/>
          <p:cNvPicPr/>
          <p:nvPr/>
        </p:nvPicPr>
        <p:blipFill>
          <a:blip r:embed="rId4"/>
          <a:stretch/>
        </p:blipFill>
        <p:spPr>
          <a:xfrm>
            <a:off x="549360" y="0"/>
            <a:ext cx="1182600" cy="1204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8B72-BE46-49F0-89DF-DF0D560C08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0761-DDCC-447C-BCA6-333CD717DD1A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A82E-E5AF-44CC-9203-906DE4D021F1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F898-3C8D-4650-A931-6838C059ACD6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C114-FC57-49BB-907D-A21D459DDDF1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A935-CF17-4D3B-B7E9-4B7798A9B841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AEC0-0467-4988-8757-4BCC7850A3EF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2298-4F51-4A81-825F-E0104D18F4B2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28FA-9BC7-46FB-95D9-155F42C000B2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224D-3D52-4AA6-A98C-4607DE7DC10B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755F-4BA5-41F6-B60A-BE1943C989DD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7D17-BC93-4926-91CB-A9637CDA877C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C153-09EF-4027-B8B5-DB6E6159A664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014E-F3E3-45B8-94CC-8611D7747AE0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C890-1DA6-431A-846E-CDDB2F5EE197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extBox 39" descr=""/>
          <p:cNvPicPr/>
          <p:nvPr/>
        </p:nvPicPr>
        <p:blipFill>
          <a:blip r:embed="rId1"/>
          <a:stretch/>
        </p:blipFill>
        <p:spPr>
          <a:xfrm>
            <a:off x="-277920" y="480960"/>
            <a:ext cx="3624480" cy="1865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汉鼎简魏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6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587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588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89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0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592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593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94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5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6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597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598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99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0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1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602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603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04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5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6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75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7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75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TextBox 2" descr=""/>
          <p:cNvPicPr/>
          <p:nvPr/>
        </p:nvPicPr>
        <p:blipFill>
          <a:blip r:embed="rId1"/>
          <a:stretch/>
        </p:blipFill>
        <p:spPr>
          <a:xfrm>
            <a:off x="-277920" y="480960"/>
            <a:ext cx="4776840" cy="1865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613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Box 7"/>
            <p:cNvSpPr/>
            <p:nvPr/>
          </p:nvSpPr>
          <p:spPr>
            <a:xfrm rot="20926800">
              <a:off x="2360160" y="2964960"/>
              <a:ext cx="38898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/>
  <dc:description/>
  <cp:keywords/>
  <dc:language>en-US</dc:language>
  <cp:lastModifiedBy>a</cp:lastModifiedBy>
  <dcterms:modified xsi:type="dcterms:W3CDTF">2014-07-21T06:54:15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