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</p:sldIdLst>
  <p:sldSz cx="9144000" cy="5040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7749-956E-4B8C-8CB6-B229EEC7B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1384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A1D9-AB84-48B7-A616-201527900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E4108B-0E5F-4670-BB37-DC8C5F2A5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0A7575-F3B1-4600-9810-C723D2CAA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01240"/>
            <a:ext cx="8229600" cy="38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C1726C-0BAB-4C41-9DC6-CEA01E13F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C458F8-458C-4502-9C60-DE9D901D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427F34-3573-43CD-9271-FD99C9FD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5F80A3-2FD5-4B15-92F7-371FE594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291384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D2B796-0093-4A23-818B-EC7DAD3AF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ED9FD3-D8BE-47BC-8DFD-C2CE32DBB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814910-57E6-44C6-8EDC-823A3CA35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200247-64E4-4927-8504-10142C43D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FC48-AB53-49C3-870E-1A1C8E3FC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CDA5A0-BB11-413C-B5B9-D4AC7B914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4DC28F-047A-477A-8443-CE8C0E507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23D6F1-D970-4C9D-9822-B9FCAEF9B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3A8594-0897-4AB2-9714-F5AA470DF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01240"/>
            <a:ext cx="8229600" cy="38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3B300A-F170-4C9C-8BD5-3C550EE07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6803AD-E74D-4EF4-97D0-7E21DFE4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201EE1-C182-4D56-9EF3-579177A2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AC33DA-C6E5-4221-A8FD-6621E652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291384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E2AF67-D562-4C6D-B8F9-D6F468B0E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2E91D6-90A4-4D54-A1EB-993BC1CB6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EEBD-9EA9-4F51-A6B8-F96E5B6C8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9293F4-AD01-4E7F-A539-79D309C51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470A59-4170-47D5-93B8-475378023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CF0520-9162-4742-81B3-F01E61C34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9F176F-4F6F-4FD1-AF42-090CCCB69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2C4FB8-A5E8-473C-A7C2-7D5E5853B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FECF17-B5D6-4688-8DB5-061916383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01240"/>
            <a:ext cx="8229600" cy="38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2CEEDB-9A09-4482-A20F-961EC6FD0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561E29-7DC1-4719-A97F-C1C11C8F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4D639E-33B4-4BB5-BA6B-2E64B93C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BF26A0-637E-4852-A089-1E840CE9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6EE8C-9B84-4965-A3D0-4249C4DEB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291384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F34640-C7F9-41A1-AAD1-CD74A1953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3A0B28-FB8C-4FBA-B75C-8A7F62EC8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8108E3-F391-4F42-8E96-3E0D23D0A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623A7E-8672-4A41-A79C-A358AE2FE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D94D7F-7622-4BD7-A409-FC2370171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21DEDF-FD5A-4FBA-AA42-CB26F101C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5232BF-3073-413D-AFED-5B608645A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B37141-BEB3-4A9D-A8CC-E1B7AEE4D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01240"/>
            <a:ext cx="8229600" cy="38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AB68E0-5397-43DF-9A2E-EE269CA7B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71772E-81DF-4534-8B5F-591DAE30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021EA-1D06-4D19-A958-652F03C58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DBFB3F-8FCA-4B4D-AE33-71D6F5D1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7AD689-1A2C-4D29-B94E-B68A3B4D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291384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65AF37-E96A-4D38-99C3-45B0819F8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D64EE3-DADF-4670-B662-1647D28BD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29FC6D-739A-475B-9973-FD948F00D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5B9B4A-DA4F-4CC8-8368-47FAAC6E8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80AF49-C21D-4CD2-B602-FB3290758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867B05-C336-4A03-AAED-18F2A3890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8533C3-644B-4B0E-B968-850055E40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D2A8CA-F15F-4DA9-960D-432451282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3210B-B949-470F-B398-1D4F5BDB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01240"/>
            <a:ext cx="8229600" cy="38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7D96F9-4745-48D1-AF90-E4B3A90A2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326E7C-F428-4FB2-8C8E-37212B5D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779694-7CCA-4B48-9F4E-B774C87E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2AE411-75AD-40D3-B440-C4D6B8B3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291384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A39A9A-8E7B-4B78-A311-0C13B1D4B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0AD7F5-335E-4534-9E7D-4AFC34B91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911A6E-7F54-4AEE-A4FC-5A39F7BF7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7B558E-7A6C-4842-A082-78837599F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81421A-BE8C-4F54-A771-AFB53FF4B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D8E06C-0704-4CE9-909D-2EFAD5031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B6944-C432-40F2-BF7C-95DBCD7E2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72B873-B21D-488B-8D1B-41FDB1791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F5F68A-CBD5-4D83-B6E2-D2CA42F30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457200" y="201240"/>
            <a:ext cx="8229600" cy="38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23E9A3-2BF0-4016-A080-101251C16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152697-56A6-45FE-903D-D56DD2EE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7424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B44C16-A703-4FC1-8670-ECE7A56E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8D063D-8F46-4EE5-BA68-0ACD60D5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7200" y="291384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E093B3-3BDD-47C3-8050-5D97960F8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7424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7836B3-4846-486F-8315-6FD6A7CF6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3964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2208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5720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3964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2208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939441-334C-4530-961F-13FF6AF85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EC399-3B54-4579-BABC-3015273DD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01240"/>
            <a:ext cx="8229600" cy="38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3B864-D7E1-4E77-A508-6E0D678EC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42F26-AC16-4AB9-B638-935A16DF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C94D-79E2-4A2E-A498-03D23D866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2A1DF-29B0-4A08-8BFC-3375A421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522B2-0FBE-4BE8-8D2E-780110CC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291384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67EC5-4E3A-477F-AE71-B4304125F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3B4FD-1266-460F-9949-A3E369613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1FB30-8533-4B90-919C-FE8A15A77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7244F-02FC-47CB-BEFB-34EC94176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5194B-CAFA-44A4-A27D-6FFDD7D7B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1B8E9-4C00-4304-842C-4F3A009AA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C65FF-9CE5-45F9-87B4-046A89B79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5254C-2A7E-49B4-8954-270859B76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6389-BE2F-4B18-8476-29EC01FC0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01240"/>
            <a:ext cx="8229600" cy="38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D84BE-7331-4446-A7DC-D33E3E35B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12E7C-3DA8-43A9-9A1A-E7807C9D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1E7FA-CEF0-4397-AE86-342DA4BE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3140D-943F-4DCB-B58D-48EFA6A9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291384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BCFB2-865F-4C47-9952-633301998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EC077-69D6-4F7A-AD73-1F4007E47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41D0A-2498-4659-B8E6-099BC343E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DF76E-D4C4-4CB2-9023-FBDA3A97D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7576A-B77C-4E0D-8198-95302C1CA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7A4A4-B452-45CE-AC15-5A4DFF3C3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3BEA-C307-4C5D-8ECC-39AC69D24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66027-CC86-41D2-A86A-A0BC11FFE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3A984-3EC9-4536-8E6E-4905AA066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01240"/>
            <a:ext cx="8229600" cy="38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59866-CF16-4EF2-9B34-FEAA0FE61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F9D40-F547-4AAB-AF1D-D87D178B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04E9E-6362-4CE7-A482-33B8BDBB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6EE21-A758-4F70-BD35-5CCFBED0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291384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4B583-55A7-4382-B60E-352327050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0A05B-3253-47C3-8A92-87083ACB2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BC70B-0087-4682-819F-CA013A1F7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9AF95-DD7D-4693-BECA-071E931CE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82ED-CA9E-4A6B-8DDC-E93A10905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19546-D737-46AE-A7AE-ABC9257D2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5D274-D0BB-49E8-8B0C-1E9F29743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1E546-2A16-4111-9335-78305248E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7BB7C-E5DE-4CCF-9212-F7B9FD6EA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01240"/>
            <a:ext cx="8229600" cy="38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0C301-6800-4400-9B0C-CB11E90AF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B15F0-0ABF-4A31-B71D-6021CE3A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2CDD6-7185-4FEC-84BA-271C6953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0B836-5A91-49A5-A014-396DE7A0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291384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D8277-4BD8-4BDE-AB11-166BDCF87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B8A9D-0EB2-4FCE-A376-8B794D26B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1240"/>
            <a:ext cx="8229600" cy="38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3200-FC5D-418D-9551-706B9B8FA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CC8A3-ADB0-4BD7-8E71-FE9864563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8DBDA-5174-4310-8FD7-976B1D6C6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0E2124-8B73-467E-9C18-A3DE9921C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99E73-2694-4CA0-882D-9DF37C918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E44B8-3C7E-495E-9BC2-ADADC3223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C10E3-A5E7-4D20-AF34-BD0462C07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01240"/>
            <a:ext cx="8229600" cy="38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45A34-DF44-44B6-ACAC-4A774DBE7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4E0D3-9EE4-47EB-B1D9-6ABCDF69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A39B10-1E8B-4F58-883C-FFB4FC52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21562-310C-4802-B794-C4790EAF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01FB-0B77-42BE-A28C-4FFEEEFB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291384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ABB8F2-E483-4D23-923A-461AF78DF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F502A-A42B-4CDE-9415-CB4D61CA9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2F5C8-44E9-45D8-BC17-DF49B8BD7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D45F4-6521-4109-84E4-9A4BE8CDA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2B28F1-D879-423B-96D6-402DD3649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DC92B4-F3C6-4CC1-AD94-CF64C7DCD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AB1229-10AA-4503-8505-FEF170AB0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51398-C8A0-44AF-B24B-094A3F5C9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01240"/>
            <a:ext cx="8229600" cy="38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EA021-D25D-4C0D-AA01-5F518B1FA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706709-C858-46C0-85F4-093FCADC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6B9A-7F0F-4962-B9DA-BF9B4280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B80B39-B1D2-4B79-9386-C9B2260E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22A15-D2E8-42BE-BCA8-F6B32C43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291384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943E67-7F1D-45DF-8A4A-E6E0D60F2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E54E26-29D8-43F9-B57D-24F00CF71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933BA-E4B7-402C-810A-7A6BAF3C3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FF92D8-9794-4FD7-8EFA-B613D1E8E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6E34FC-1EFB-43D4-9256-124049916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CBD4F0-F7C4-40BE-8040-A31CAFB45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28B6A-1BBE-423C-880C-381D4A4FD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1907FE-245B-49C4-9B8F-E1B64D547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0132-4F9A-4665-8D30-9EA1AEEBB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01240"/>
            <a:ext cx="8229600" cy="38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D91B98-1697-422F-BE0D-497094621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A57023-F6B2-4EC0-AF30-9D0C26E9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A7BD3B-F81E-4EAB-87BB-34AEB554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BDB397-0907-40FD-ADC5-4EC41874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291384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2C62A1-F5DA-42C6-8FBD-34509DE96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5E1393-410B-48D5-9BF0-490606F26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DA052C-D3DE-4A8A-95FE-F20AC1BED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EB9ED0-C0ED-46C7-A5B8-AD65D210B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82DAEA-FD0E-49EF-99A3-6413F7AA5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1188C2-B9AB-4078-846A-616C063CD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KEA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KE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  <a:p>
            <a:pPr lvl="1" marL="59436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KE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  <a:p>
            <a:pPr lvl="2" marL="914400" indent="-18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KE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  <a:p>
            <a:pPr lvl="3" marL="1280160" indent="-182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KE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  <a:p>
            <a:pPr lvl="4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KE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  <a:p>
            <a:pPr lvl="5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KE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  <a:p>
            <a:pPr lvl="6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KE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7172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IKEA Sans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IKEA Sans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7172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7172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IKEA Sans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F0C8A-A2AC-4C7A-AEFD-35538C2DFE62}" type="slidenum">
              <a:rPr b="0" lang="zh-CN" sz="1200" spc="-1" strike="noStrike">
                <a:solidFill>
                  <a:srgbClr val="898989"/>
                </a:solidFill>
                <a:latin typeface="IKEA Sans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KE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098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66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174680" indent="-1666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1511280" indent="-1666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1511280" indent="-1666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1511280" indent="-1666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4589640"/>
            <a:ext cx="213372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IKEA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D213B-C895-429E-9985-DC5F12CF1525}" type="datetime">
              <a:rPr b="0" lang="zh-CN" sz="1000" spc="-1" strike="noStrike">
                <a:solidFill>
                  <a:srgbClr val="000000"/>
                </a:solidFill>
                <a:latin typeface="IKEA Sans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4589640"/>
            <a:ext cx="289584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4589640"/>
            <a:ext cx="213372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IKEA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96822-8754-49AD-B879-28F6BE45CB3E}" type="slidenum">
              <a:rPr b="0" lang="zh-CN" sz="1000" spc="-1" strike="noStrike">
                <a:solidFill>
                  <a:srgbClr val="000000"/>
                </a:solidFill>
                <a:latin typeface="IKEA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IKE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098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66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174680" indent="-1666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1511280" indent="-1666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1511280" indent="-1666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1511280" indent="-1666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4589640"/>
            <a:ext cx="213372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IKEA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091DA-0CA6-4C3C-B405-16CB4D4D431A}" type="datetime">
              <a:rPr b="0" lang="zh-CN" sz="1000" spc="-1" strike="noStrike">
                <a:solidFill>
                  <a:srgbClr val="000000"/>
                </a:solidFill>
                <a:latin typeface="IKEA Sans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4589640"/>
            <a:ext cx="289584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4589640"/>
            <a:ext cx="213372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IKEA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77B62-6B95-4A8C-A573-34B69D9EE19C}" type="slidenum">
              <a:rPr b="0" lang="zh-CN" sz="1000" spc="-1" strike="noStrike">
                <a:solidFill>
                  <a:srgbClr val="000000"/>
                </a:solidFill>
                <a:latin typeface="IKEA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IKE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098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66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174680" indent="-1666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1511280" indent="-1666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1511280" indent="-1666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1511280" indent="-1666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4589640"/>
            <a:ext cx="213372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IKEA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68715-0E60-49B4-8CE4-905407360C7B}" type="datetime">
              <a:rPr b="0" lang="zh-CN" sz="1000" spc="-1" strike="noStrike">
                <a:solidFill>
                  <a:srgbClr val="000000"/>
                </a:solidFill>
                <a:latin typeface="IKEA Sans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4589640"/>
            <a:ext cx="289584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4589640"/>
            <a:ext cx="213372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IKEA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A7F75-A0EA-4CAD-916B-DB7F16EC2E30}" type="slidenum">
              <a:rPr b="0" lang="zh-CN" sz="1000" spc="-1" strike="noStrike">
                <a:solidFill>
                  <a:srgbClr val="000000"/>
                </a:solidFill>
                <a:latin typeface="IKEA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IKE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098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66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174680" indent="-1666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1511280" indent="-1666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1511280" indent="-1666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1511280" indent="-1666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4589640"/>
            <a:ext cx="213372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IKEA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DF32D-1E43-4D17-B488-4BB5A601671D}" type="datetime">
              <a:rPr b="0" lang="zh-CN" sz="1000" spc="-1" strike="noStrike">
                <a:solidFill>
                  <a:srgbClr val="000000"/>
                </a:solidFill>
                <a:latin typeface="IKEA Sans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4589640"/>
            <a:ext cx="289584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4589640"/>
            <a:ext cx="213372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IKEA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64C46-3C61-4839-A9A4-B48FC9484FB3}" type="slidenum">
              <a:rPr b="0" lang="zh-CN" sz="1000" spc="-1" strike="noStrike">
                <a:solidFill>
                  <a:srgbClr val="000000"/>
                </a:solidFill>
                <a:latin typeface="IKEA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IKE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098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66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174680" indent="-1666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1511280" indent="-1666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1511280" indent="-1666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1511280" indent="-1666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40"/>
          </p:nvPr>
        </p:nvSpPr>
        <p:spPr>
          <a:xfrm>
            <a:off x="456840" y="4589640"/>
            <a:ext cx="213372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IKEA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CC8D9-A732-492D-AE3E-4D1B38E74DEF}" type="datetime">
              <a:rPr b="0" lang="zh-CN" sz="1000" spc="-1" strike="noStrike">
                <a:solidFill>
                  <a:srgbClr val="000000"/>
                </a:solidFill>
                <a:latin typeface="IKEA Sans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41"/>
          </p:nvPr>
        </p:nvSpPr>
        <p:spPr>
          <a:xfrm>
            <a:off x="3124080" y="4589640"/>
            <a:ext cx="289584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42"/>
          </p:nvPr>
        </p:nvSpPr>
        <p:spPr>
          <a:xfrm>
            <a:off x="6552720" y="4589640"/>
            <a:ext cx="213372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IKEA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3F01E-8C51-43CC-AC3D-9293ABE5D67B}" type="slidenum">
              <a:rPr b="0" lang="zh-CN" sz="1000" spc="-1" strike="noStrike">
                <a:solidFill>
                  <a:srgbClr val="000000"/>
                </a:solidFill>
                <a:latin typeface="IKEA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IKE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7407360" y="0"/>
            <a:ext cx="1260360" cy="433440"/>
            <a:chOff x="7407360" y="0"/>
            <a:chExt cx="1260360" cy="433440"/>
          </a:xfrm>
        </p:grpSpPr>
        <p:sp>
          <p:nvSpPr>
            <p:cNvPr id="42" name="矩形 7"/>
            <p:cNvSpPr/>
            <p:nvPr/>
          </p:nvSpPr>
          <p:spPr>
            <a:xfrm>
              <a:off x="7407360" y="0"/>
              <a:ext cx="1260360" cy="389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KEA Sans"/>
              </a:endParaRPr>
            </a:p>
          </p:txBody>
        </p:sp>
        <p:pic>
          <p:nvPicPr>
            <p:cNvPr id="43" name="Picture 2" descr=""/>
            <p:cNvPicPr/>
            <p:nvPr/>
          </p:nvPicPr>
          <p:blipFill>
            <a:blip r:embed="rId2">
              <a:biLevel thresh="50000"/>
            </a:blip>
            <a:stretch/>
          </p:blipFill>
          <p:spPr>
            <a:xfrm>
              <a:off x="7421040" y="0"/>
              <a:ext cx="1246680" cy="433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KEA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KE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  <a:p>
            <a:pPr lvl="1" marL="59436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KE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  <a:p>
            <a:pPr lvl="2" marL="914400" indent="-18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KE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  <a:p>
            <a:pPr lvl="3" marL="1280160" indent="-182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KE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  <a:p>
            <a:pPr lvl="4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KE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  <a:p>
            <a:pPr lvl="5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KE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  <a:p>
            <a:pPr lvl="6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KE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467172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IKEA Sans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IKEA Sans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467172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467172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IKEA Sans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91DB2-A924-4851-9F75-FD65CAB774CD}" type="slidenum">
              <a:rPr b="0" lang="zh-CN" sz="1200" spc="-1" strike="noStrike">
                <a:solidFill>
                  <a:srgbClr val="898989"/>
                </a:solidFill>
                <a:latin typeface="IKEA Sans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KE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098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66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174680" indent="-1666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1511280" indent="-1666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1511280" indent="-1666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1511280" indent="-1666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4589640"/>
            <a:ext cx="213372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4A89E-0AA6-4A37-B6CE-724C4BDB2295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4589640"/>
            <a:ext cx="289584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4589640"/>
            <a:ext cx="213372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E4F9F-E945-467F-B908-E0452018BF16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IKE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098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66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174680" indent="-1666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1511280" indent="-1666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1511280" indent="-1666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1511280" indent="-1666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4589640"/>
            <a:ext cx="213372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IKEA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F716E-DAB1-4786-8FEA-8E311C2C23C7}" type="datetime">
              <a:rPr b="0" lang="zh-CN" sz="1000" spc="-1" strike="noStrike">
                <a:solidFill>
                  <a:srgbClr val="000000"/>
                </a:solidFill>
                <a:latin typeface="IKEA Sans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4589640"/>
            <a:ext cx="289584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4589640"/>
            <a:ext cx="213372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IKEA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EAE6C-FC72-4CFB-8D6B-7BB0AFABA79D}" type="slidenum">
              <a:rPr b="0" lang="zh-CN" sz="1000" spc="-1" strike="noStrike">
                <a:solidFill>
                  <a:srgbClr val="000000"/>
                </a:solidFill>
                <a:latin typeface="IKEA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IKE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098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66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174680" indent="-1666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1511280" indent="-1666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1511280" indent="-1666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1511280" indent="-1666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4589640"/>
            <a:ext cx="213372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IKEA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D6B05-E7B6-4DF2-A57D-06FCCFCCB4E3}" type="datetime">
              <a:rPr b="0" lang="zh-CN" sz="1000" spc="-1" strike="noStrike">
                <a:solidFill>
                  <a:srgbClr val="000000"/>
                </a:solidFill>
                <a:latin typeface="IKEA Sans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4589640"/>
            <a:ext cx="289584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4589640"/>
            <a:ext cx="213372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IKEA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CCCD4-2B60-412E-ACE6-FC204D435964}" type="slidenum">
              <a:rPr b="0" lang="zh-CN" sz="1000" spc="-1" strike="noStrike">
                <a:solidFill>
                  <a:srgbClr val="000000"/>
                </a:solidFill>
                <a:latin typeface="IKEA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IKE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098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66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174680" indent="-1666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1511280" indent="-1666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1511280" indent="-1666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1511280" indent="-1666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4589640"/>
            <a:ext cx="213372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IKEA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526DE-FEFC-4E0C-9526-9724A6F7E24D}" type="datetime">
              <a:rPr b="0" lang="zh-CN" sz="1000" spc="-1" strike="noStrike">
                <a:solidFill>
                  <a:srgbClr val="000000"/>
                </a:solidFill>
                <a:latin typeface="IKEA Sans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4589640"/>
            <a:ext cx="289584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4589640"/>
            <a:ext cx="213372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IKEA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83554-7E80-4B0C-B562-49BF4177BC72}" type="slidenum">
              <a:rPr b="0" lang="zh-CN" sz="1000" spc="-1" strike="noStrike">
                <a:solidFill>
                  <a:srgbClr val="000000"/>
                </a:solidFill>
                <a:latin typeface="IKEA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IKE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098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66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174680" indent="-1666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1511280" indent="-1666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1511280" indent="-1666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1511280" indent="-1666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4589640"/>
            <a:ext cx="213372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IKEA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D8AEB-1470-4C7B-A45E-141F89A3ADAC}" type="datetime">
              <a:rPr b="0" lang="zh-CN" sz="1000" spc="-1" strike="noStrike">
                <a:solidFill>
                  <a:srgbClr val="000000"/>
                </a:solidFill>
                <a:latin typeface="IKEA Sans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4589640"/>
            <a:ext cx="289584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4589640"/>
            <a:ext cx="213372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IKEA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2017C-AD69-4635-AE7F-3D972B277F0E}" type="slidenum">
              <a:rPr b="0" lang="zh-CN" sz="1000" spc="-1" strike="noStrike">
                <a:solidFill>
                  <a:srgbClr val="000000"/>
                </a:solidFill>
                <a:latin typeface="IKEA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IKE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098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66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174680" indent="-1666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1511280" indent="-1666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1511280" indent="-1666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1511280" indent="-1666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4589640"/>
            <a:ext cx="213372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IKEA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95DB1-E03C-484B-B561-0FA0BCD68E0E}" type="datetime">
              <a:rPr b="0" lang="zh-CN" sz="1000" spc="-1" strike="noStrike">
                <a:solidFill>
                  <a:srgbClr val="000000"/>
                </a:solidFill>
                <a:latin typeface="IKEA Sans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4589640"/>
            <a:ext cx="289584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4589640"/>
            <a:ext cx="213372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IKEA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7FBEB-9A2C-4A9D-8F73-BEFFE4747E63}" type="slidenum">
              <a:rPr b="0" lang="zh-CN" sz="1000" spc="-1" strike="noStrike">
                <a:solidFill>
                  <a:srgbClr val="000000"/>
                </a:solidFill>
                <a:latin typeface="IKEA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IKE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098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66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174680" indent="-1666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1511280" indent="-1666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1511280" indent="-1666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1511280" indent="-1666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4589640"/>
            <a:ext cx="213372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IKEA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58B02-E5C7-4C5B-A2CE-71E94CCC647E}" type="datetime">
              <a:rPr b="0" lang="zh-CN" sz="1000" spc="-1" strike="noStrike">
                <a:solidFill>
                  <a:srgbClr val="000000"/>
                </a:solidFill>
                <a:latin typeface="IKEA Sans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4589640"/>
            <a:ext cx="289584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4589640"/>
            <a:ext cx="213372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IKEA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AE418-0DEC-4D12-BF64-2B8E072B81FF}" type="slidenum">
              <a:rPr b="0" lang="zh-CN" sz="1000" spc="-1" strike="noStrike">
                <a:solidFill>
                  <a:srgbClr val="000000"/>
                </a:solidFill>
                <a:latin typeface="IKEA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IKE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040360"/>
          </a:xfrm>
          <a:prstGeom prst="rect">
            <a:avLst/>
          </a:prstGeom>
          <a:ln w="0">
            <a:noFill/>
          </a:ln>
        </p:spPr>
      </p:pic>
      <p:sp>
        <p:nvSpPr>
          <p:cNvPr id="578" name="矩形 9"/>
          <p:cNvSpPr/>
          <p:nvPr/>
        </p:nvSpPr>
        <p:spPr>
          <a:xfrm>
            <a:off x="-81000" y="2070000"/>
            <a:ext cx="9225000" cy="2656080"/>
          </a:xfrm>
          <a:prstGeom prst="rect">
            <a:avLst/>
          </a:prstGeom>
          <a:solidFill>
            <a:srgbClr val="f2f2f2">
              <a:alpha val="78000"/>
            </a:srgbClr>
          </a:solidFill>
          <a:ln w="0">
            <a:noFill/>
          </a:ln>
          <a:effectLst>
            <a:outerShdw dist="38160" dir="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grpSp>
        <p:nvGrpSpPr>
          <p:cNvPr id="579" name="Group 4"/>
          <p:cNvGrpSpPr/>
          <p:nvPr/>
        </p:nvGrpSpPr>
        <p:grpSpPr>
          <a:xfrm>
            <a:off x="3132000" y="3635280"/>
            <a:ext cx="2416320" cy="1000080"/>
            <a:chOff x="3132000" y="3635280"/>
            <a:chExt cx="2416320" cy="1000080"/>
          </a:xfrm>
        </p:grpSpPr>
        <p:grpSp>
          <p:nvGrpSpPr>
            <p:cNvPr id="580" name="Group 5"/>
            <p:cNvGrpSpPr/>
            <p:nvPr/>
          </p:nvGrpSpPr>
          <p:grpSpPr>
            <a:xfrm>
              <a:off x="3596400" y="3635280"/>
              <a:ext cx="1951920" cy="749520"/>
              <a:chOff x="3596400" y="3635280"/>
              <a:chExt cx="1951920" cy="749520"/>
            </a:xfrm>
          </p:grpSpPr>
          <p:pic>
            <p:nvPicPr>
              <p:cNvPr id="581" name="Picture 2" descr=""/>
              <p:cNvPicPr/>
              <p:nvPr/>
            </p:nvPicPr>
            <p:blipFill>
              <a:blip r:embed="rId2"/>
              <a:srcRect l="0" t="0" r="3486" b="0"/>
              <a:stretch/>
            </p:blipFill>
            <p:spPr>
              <a:xfrm>
                <a:off x="3596400" y="3635280"/>
                <a:ext cx="1951920" cy="70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2" name="TextBox 12"/>
              <p:cNvSpPr/>
              <p:nvPr/>
            </p:nvSpPr>
            <p:spPr>
              <a:xfrm>
                <a:off x="3927600" y="4123440"/>
                <a:ext cx="131472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—— </a:t>
                </a:r>
                <a:r>
                  <a:rPr b="1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面试技巧集萃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——</a:t>
                </a:r>
                <a:endParaRPr b="0" lang="en-US" sz="1100" spc="-1" strike="noStrike">
                  <a:solidFill>
                    <a:srgbClr val="000000"/>
                  </a:solidFill>
                  <a:latin typeface="IKEA Sans"/>
                </a:endParaRPr>
              </a:p>
            </p:txBody>
          </p:sp>
        </p:grpSp>
        <p:sp>
          <p:nvSpPr>
            <p:cNvPr id="583" name="TextBox 14"/>
            <p:cNvSpPr/>
            <p:nvPr/>
          </p:nvSpPr>
          <p:spPr>
            <a:xfrm>
              <a:off x="3132000" y="4389120"/>
              <a:ext cx="184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KEA Sans"/>
              </a:endParaRPr>
            </a:p>
          </p:txBody>
        </p:sp>
      </p:grpSp>
      <p:grpSp>
        <p:nvGrpSpPr>
          <p:cNvPr id="584" name="Group 9"/>
          <p:cNvGrpSpPr/>
          <p:nvPr/>
        </p:nvGrpSpPr>
        <p:grpSpPr>
          <a:xfrm>
            <a:off x="2738520" y="2612880"/>
            <a:ext cx="3040560" cy="703440"/>
            <a:chOff x="2738520" y="2612880"/>
            <a:chExt cx="3040560" cy="703440"/>
          </a:xfrm>
        </p:grpSpPr>
        <p:sp>
          <p:nvSpPr>
            <p:cNvPr id="585" name="矩形 8"/>
            <p:cNvSpPr/>
            <p:nvPr/>
          </p:nvSpPr>
          <p:spPr>
            <a:xfrm>
              <a:off x="3769560" y="2612880"/>
              <a:ext cx="2009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面试着装指南</a:t>
              </a:r>
              <a:endParaRPr b="0" lang="en-US" sz="4000" spc="-1" strike="noStrike">
                <a:solidFill>
                  <a:srgbClr val="000000"/>
                </a:solidFill>
                <a:latin typeface="IKEA Sans"/>
              </a:endParaRPr>
            </a:p>
          </p:txBody>
        </p:sp>
        <p:sp>
          <p:nvSpPr>
            <p:cNvPr id="586" name="圆角矩形 3"/>
            <p:cNvSpPr/>
            <p:nvPr/>
          </p:nvSpPr>
          <p:spPr>
            <a:xfrm>
              <a:off x="2738520" y="2818080"/>
              <a:ext cx="404640" cy="405360"/>
            </a:xfrm>
            <a:custGeom>
              <a:avLst/>
              <a:gdLst>
                <a:gd name="textAreaLeft" fmla="*/ 19440 w 404640"/>
                <a:gd name="textAreaRight" fmla="*/ 385200 w 404640"/>
                <a:gd name="textAreaTop" fmla="*/ 19440 h 405360"/>
                <a:gd name="textAreaBottom" fmla="*/ 385920 h 405360"/>
              </a:gdLst>
              <a:ahLst/>
              <a:rect l="textAreaLeft" t="textAreaTop" r="textAreaRight" b="textAreaBottom"/>
              <a:pathLst>
                <a:path w="21600" h="21638">
                  <a:moveTo>
                    <a:pt x="3600" y="0"/>
                  </a:moveTo>
                  <a:arcTo wR="3600" hR="3600" stAng="16200000" swAng="-5400000"/>
                  <a:lnTo>
                    <a:pt x="0" y="18038"/>
                  </a:lnTo>
                  <a:arcTo wR="3600" hR="3600" stAng="10800000" swAng="-5400000"/>
                  <a:lnTo>
                    <a:pt x="18000" y="2163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5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华康俪金黑W8(P)"/>
                  <a:ea typeface="华康俪金黑W8(P)"/>
                </a:rPr>
                <a:t>肆</a:t>
              </a:r>
              <a:endParaRPr b="0" lang="en-US" sz="2400" spc="-1" strike="noStrike">
                <a:solidFill>
                  <a:srgbClr val="000000"/>
                </a:solidFill>
                <a:latin typeface="IKEA Sans"/>
              </a:endParaRPr>
            </a:p>
          </p:txBody>
        </p:sp>
      </p:grp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2" descr=""/>
          <p:cNvPicPr/>
          <p:nvPr/>
        </p:nvPicPr>
        <p:blipFill>
          <a:blip r:embed="rId1"/>
          <a:stretch/>
        </p:blipFill>
        <p:spPr>
          <a:xfrm>
            <a:off x="501480" y="317520"/>
            <a:ext cx="3067200" cy="4600440"/>
          </a:xfrm>
          <a:prstGeom prst="rect">
            <a:avLst/>
          </a:prstGeom>
          <a:ln w="0">
            <a:noFill/>
          </a:ln>
        </p:spPr>
      </p:pic>
      <p:grpSp>
        <p:nvGrpSpPr>
          <p:cNvPr id="588" name="Group 3"/>
          <p:cNvGrpSpPr/>
          <p:nvPr/>
        </p:nvGrpSpPr>
        <p:grpSpPr>
          <a:xfrm>
            <a:off x="259200" y="90720"/>
            <a:ext cx="550440" cy="2444400"/>
            <a:chOff x="259200" y="90720"/>
            <a:chExt cx="550440" cy="2444400"/>
          </a:xfrm>
        </p:grpSpPr>
        <p:sp>
          <p:nvSpPr>
            <p:cNvPr id="589" name="TextBox 2"/>
            <p:cNvSpPr/>
            <p:nvPr/>
          </p:nvSpPr>
          <p:spPr>
            <a:xfrm>
              <a:off x="354960" y="1703520"/>
              <a:ext cx="45468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·</a:t>
              </a:r>
              <a:r>
                <a:rPr b="0" lang="zh-CN" sz="18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男士</a:t>
              </a:r>
              <a:endParaRPr b="0" lang="en-US" sz="1800" spc="-1" strike="noStrike">
                <a:solidFill>
                  <a:srgbClr val="000000"/>
                </a:solidFill>
                <a:latin typeface="IKEA Sans"/>
              </a:endParaRPr>
            </a:p>
          </p:txBody>
        </p:sp>
        <p:sp>
          <p:nvSpPr>
            <p:cNvPr id="590" name="TextBox 3"/>
            <p:cNvSpPr/>
            <p:nvPr/>
          </p:nvSpPr>
          <p:spPr>
            <a:xfrm>
              <a:off x="259200" y="415800"/>
              <a:ext cx="454680" cy="15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·</a:t>
              </a:r>
              <a:endParaRPr b="0" lang="en-US" sz="1800" spc="-1" strike="noStrike">
                <a:solidFill>
                  <a:srgbClr val="000000"/>
                </a:solidFill>
                <a:latin typeface="IKEA Sans"/>
              </a:endParaRPr>
            </a:p>
          </p:txBody>
        </p:sp>
        <p:sp>
          <p:nvSpPr>
            <p:cNvPr id="591" name="TextBox 14"/>
            <p:cNvSpPr/>
            <p:nvPr/>
          </p:nvSpPr>
          <p:spPr>
            <a:xfrm>
              <a:off x="354960" y="90720"/>
              <a:ext cx="454680" cy="19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面试着装指南</a:t>
              </a:r>
              <a:endParaRPr b="0" lang="en-US" sz="1800" spc="-1" strike="noStrike">
                <a:solidFill>
                  <a:srgbClr val="000000"/>
                </a:solidFill>
                <a:latin typeface="IKEA Sans"/>
              </a:endParaRPr>
            </a:p>
          </p:txBody>
        </p:sp>
      </p:grpSp>
      <p:grpSp>
        <p:nvGrpSpPr>
          <p:cNvPr id="592" name="Group 7"/>
          <p:cNvGrpSpPr/>
          <p:nvPr/>
        </p:nvGrpSpPr>
        <p:grpSpPr>
          <a:xfrm>
            <a:off x="2502000" y="539640"/>
            <a:ext cx="6175440" cy="441000"/>
            <a:chOff x="2502000" y="539640"/>
            <a:chExt cx="6175440" cy="441000"/>
          </a:xfrm>
        </p:grpSpPr>
        <p:sp>
          <p:nvSpPr>
            <p:cNvPr id="593" name="直接连接符 7"/>
            <p:cNvSpPr/>
            <p:nvPr/>
          </p:nvSpPr>
          <p:spPr>
            <a:xfrm>
              <a:off x="2502000" y="629280"/>
              <a:ext cx="1980000" cy="0"/>
            </a:xfrm>
            <a:prstGeom prst="line">
              <a:avLst/>
            </a:prstGeom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KEA Sans"/>
              </a:endParaRPr>
            </a:p>
          </p:txBody>
        </p:sp>
        <p:grpSp>
          <p:nvGrpSpPr>
            <p:cNvPr id="594" name="Group 9"/>
            <p:cNvGrpSpPr/>
            <p:nvPr/>
          </p:nvGrpSpPr>
          <p:grpSpPr>
            <a:xfrm>
              <a:off x="4470480" y="539640"/>
              <a:ext cx="4206960" cy="441000"/>
              <a:chOff x="4470480" y="539640"/>
              <a:chExt cx="4206960" cy="441000"/>
            </a:xfrm>
          </p:grpSpPr>
          <p:sp>
            <p:nvSpPr>
              <p:cNvPr id="595" name="矩形 8"/>
              <p:cNvSpPr/>
              <p:nvPr/>
            </p:nvSpPr>
            <p:spPr>
              <a:xfrm>
                <a:off x="4470480" y="734400"/>
                <a:ext cx="4206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IKEA Sans"/>
                    <a:ea typeface="微软雅黑"/>
                  </a:rPr>
                  <a:t>不宜太长。最好在几天前理发，尽量避免在面试前一天理发，以免看上去不够自然。</a:t>
                </a:r>
                <a:endParaRPr b="0" lang="en-US" sz="1000" spc="-1" strike="noStrike">
                  <a:solidFill>
                    <a:srgbClr val="000000"/>
                  </a:solidFill>
                  <a:latin typeface="IKEA Sans"/>
                </a:endParaRPr>
              </a:p>
            </p:txBody>
          </p:sp>
          <p:grpSp>
            <p:nvGrpSpPr>
              <p:cNvPr id="596" name="Group 11"/>
              <p:cNvGrpSpPr/>
              <p:nvPr/>
            </p:nvGrpSpPr>
            <p:grpSpPr>
              <a:xfrm>
                <a:off x="4571640" y="539640"/>
                <a:ext cx="405000" cy="276480"/>
                <a:chOff x="4571640" y="539640"/>
                <a:chExt cx="405000" cy="276480"/>
              </a:xfrm>
            </p:grpSpPr>
            <p:sp>
              <p:nvSpPr>
                <p:cNvPr id="597" name="矩形 9"/>
                <p:cNvSpPr/>
                <p:nvPr/>
              </p:nvSpPr>
              <p:spPr>
                <a:xfrm>
                  <a:off x="4571640" y="584280"/>
                  <a:ext cx="405000" cy="1803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IKEA Sans"/>
                  </a:endParaRPr>
                </a:p>
              </p:txBody>
            </p:sp>
            <p:sp>
              <p:nvSpPr>
                <p:cNvPr id="598" name="TextBox 10"/>
                <p:cNvSpPr/>
                <p:nvPr/>
              </p:nvSpPr>
              <p:spPr>
                <a:xfrm>
                  <a:off x="4605120" y="539640"/>
                  <a:ext cx="3636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ffffff"/>
                      </a:solidFill>
                      <a:latin typeface="IKEA Sans"/>
                      <a:ea typeface="微软雅黑"/>
                    </a:rPr>
                    <a:t>发型</a:t>
                  </a:r>
                  <a:endParaRPr b="0" lang="en-US" sz="1200" spc="-1" strike="noStrike">
                    <a:solidFill>
                      <a:srgbClr val="000000"/>
                    </a:solidFill>
                    <a:latin typeface="IKEA Sans"/>
                  </a:endParaRPr>
                </a:p>
              </p:txBody>
            </p:sp>
          </p:grpSp>
        </p:grpSp>
      </p:grpSp>
      <p:sp>
        <p:nvSpPr>
          <p:cNvPr id="599" name="直接连接符 15"/>
          <p:cNvSpPr/>
          <p:nvPr/>
        </p:nvSpPr>
        <p:spPr>
          <a:xfrm>
            <a:off x="2232000" y="1790640"/>
            <a:ext cx="224964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grpSp>
        <p:nvGrpSpPr>
          <p:cNvPr id="600" name="Group 15"/>
          <p:cNvGrpSpPr/>
          <p:nvPr/>
        </p:nvGrpSpPr>
        <p:grpSpPr>
          <a:xfrm>
            <a:off x="4470480" y="1655640"/>
            <a:ext cx="4206960" cy="440640"/>
            <a:chOff x="4470480" y="1655640"/>
            <a:chExt cx="4206960" cy="440640"/>
          </a:xfrm>
        </p:grpSpPr>
        <p:sp>
          <p:nvSpPr>
            <p:cNvPr id="601" name="矩形 24"/>
            <p:cNvSpPr/>
            <p:nvPr/>
          </p:nvSpPr>
          <p:spPr>
            <a:xfrm>
              <a:off x="4470480" y="1850040"/>
              <a:ext cx="4206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IKEA Sans"/>
                  <a:ea typeface="微软雅黑"/>
                </a:rPr>
                <a:t>纯真丝的领带，或者</a:t>
              </a:r>
              <a:r>
                <a:rPr b="0" lang="en-US" sz="1000" spc="-1" strike="noStrike">
                  <a:solidFill>
                    <a:srgbClr val="000000"/>
                  </a:solidFill>
                  <a:latin typeface="IKEA Sans"/>
                  <a:ea typeface="微软雅黑"/>
                </a:rPr>
                <a:t>50%</a:t>
              </a:r>
              <a:r>
                <a:rPr b="0" lang="zh-CN" sz="1000" spc="-1" strike="noStrike">
                  <a:solidFill>
                    <a:srgbClr val="000000"/>
                  </a:solidFill>
                  <a:latin typeface="IKEA Sans"/>
                  <a:ea typeface="微软雅黑"/>
                </a:rPr>
                <a:t>的羊毛和</a:t>
              </a:r>
              <a:r>
                <a:rPr b="0" lang="en-US" sz="1000" spc="-1" strike="noStrike">
                  <a:solidFill>
                    <a:srgbClr val="000000"/>
                  </a:solidFill>
                  <a:latin typeface="IKEA Sans"/>
                  <a:ea typeface="微软雅黑"/>
                </a:rPr>
                <a:t>50%</a:t>
              </a:r>
              <a:r>
                <a:rPr b="0" lang="zh-CN" sz="1000" spc="-1" strike="noStrike">
                  <a:solidFill>
                    <a:srgbClr val="000000"/>
                  </a:solidFill>
                  <a:latin typeface="IKEA Sans"/>
                  <a:ea typeface="微软雅黑"/>
                </a:rPr>
                <a:t>的真丝混合织成的领带应该是你面试时的选择。 </a:t>
              </a:r>
              <a:endParaRPr b="0" lang="en-US" sz="1000" spc="-1" strike="noStrike">
                <a:solidFill>
                  <a:srgbClr val="000000"/>
                </a:solidFill>
                <a:latin typeface="IKEA Sans"/>
              </a:endParaRPr>
            </a:p>
          </p:txBody>
        </p:sp>
        <p:grpSp>
          <p:nvGrpSpPr>
            <p:cNvPr id="602" name="Group 17"/>
            <p:cNvGrpSpPr/>
            <p:nvPr/>
          </p:nvGrpSpPr>
          <p:grpSpPr>
            <a:xfrm>
              <a:off x="4571640" y="1655640"/>
              <a:ext cx="405000" cy="276480"/>
              <a:chOff x="4571640" y="1655640"/>
              <a:chExt cx="405000" cy="276480"/>
            </a:xfrm>
          </p:grpSpPr>
          <p:sp>
            <p:nvSpPr>
              <p:cNvPr id="603" name="矩形 26"/>
              <p:cNvSpPr/>
              <p:nvPr/>
            </p:nvSpPr>
            <p:spPr>
              <a:xfrm>
                <a:off x="4571640" y="1700280"/>
                <a:ext cx="405000" cy="1796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KEA Sans"/>
                </a:endParaRPr>
              </a:p>
            </p:txBody>
          </p:sp>
          <p:sp>
            <p:nvSpPr>
              <p:cNvPr id="604" name="TextBox 27"/>
              <p:cNvSpPr/>
              <p:nvPr/>
            </p:nvSpPr>
            <p:spPr>
              <a:xfrm>
                <a:off x="4605120" y="1655640"/>
                <a:ext cx="363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IKEA Sans"/>
                    <a:ea typeface="微软雅黑"/>
                  </a:rPr>
                  <a:t>领带</a:t>
                </a:r>
                <a:endParaRPr b="0" lang="en-US" sz="1200" spc="-1" strike="noStrike">
                  <a:solidFill>
                    <a:srgbClr val="000000"/>
                  </a:solidFill>
                  <a:latin typeface="IKEA Sans"/>
                </a:endParaRPr>
              </a:p>
            </p:txBody>
          </p:sp>
        </p:grpSp>
      </p:grpSp>
      <p:sp>
        <p:nvSpPr>
          <p:cNvPr id="605" name="直接连接符 30"/>
          <p:cNvSpPr/>
          <p:nvPr/>
        </p:nvSpPr>
        <p:spPr>
          <a:xfrm>
            <a:off x="2322360" y="1214280"/>
            <a:ext cx="215928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grpSp>
        <p:nvGrpSpPr>
          <p:cNvPr id="606" name="Group 21"/>
          <p:cNvGrpSpPr/>
          <p:nvPr/>
        </p:nvGrpSpPr>
        <p:grpSpPr>
          <a:xfrm>
            <a:off x="4470480" y="1125360"/>
            <a:ext cx="4206960" cy="440640"/>
            <a:chOff x="4470480" y="1125360"/>
            <a:chExt cx="4206960" cy="440640"/>
          </a:xfrm>
        </p:grpSpPr>
        <p:sp>
          <p:nvSpPr>
            <p:cNvPr id="607" name="矩形 32"/>
            <p:cNvSpPr/>
            <p:nvPr/>
          </p:nvSpPr>
          <p:spPr>
            <a:xfrm>
              <a:off x="4470480" y="1319760"/>
              <a:ext cx="4206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IKEA Sans"/>
                  <a:ea typeface="微软雅黑"/>
                </a:rPr>
                <a:t>原则</a:t>
              </a:r>
              <a:r>
                <a:rPr b="0" lang="en-US" sz="1000" spc="-1" strike="noStrike">
                  <a:solidFill>
                    <a:srgbClr val="000000"/>
                  </a:solidFill>
                  <a:latin typeface="IKEA Sans"/>
                  <a:ea typeface="微软雅黑"/>
                </a:rPr>
                <a:t>1</a:t>
              </a:r>
              <a:r>
                <a:rPr b="0" lang="zh-CN" sz="1000" spc="-1" strike="noStrike">
                  <a:solidFill>
                    <a:srgbClr val="000000"/>
                  </a:solidFill>
                  <a:latin typeface="IKEA Sans"/>
                  <a:ea typeface="微软雅黑"/>
                </a:rPr>
                <a:t>：总是穿长袖衬衫；原则</a:t>
              </a:r>
              <a:r>
                <a:rPr b="0" lang="en-US" sz="1000" spc="-1" strike="noStrike">
                  <a:solidFill>
                    <a:srgbClr val="000000"/>
                  </a:solidFill>
                  <a:latin typeface="IKEA Sans"/>
                  <a:ea typeface="微软雅黑"/>
                </a:rPr>
                <a:t>2</a:t>
              </a:r>
              <a:r>
                <a:rPr b="0" lang="zh-CN" sz="1000" spc="-1" strike="noStrike">
                  <a:solidFill>
                    <a:srgbClr val="000000"/>
                  </a:solidFill>
                  <a:latin typeface="IKEA Sans"/>
                  <a:ea typeface="微软雅黑"/>
                </a:rPr>
                <a:t>：总是穿白色或淡蓝色衬衫。</a:t>
              </a:r>
              <a:endParaRPr b="0" lang="en-US" sz="1000" spc="-1" strike="noStrike">
                <a:solidFill>
                  <a:srgbClr val="000000"/>
                </a:solidFill>
                <a:latin typeface="IKEA Sans"/>
              </a:endParaRPr>
            </a:p>
          </p:txBody>
        </p:sp>
        <p:grpSp>
          <p:nvGrpSpPr>
            <p:cNvPr id="608" name="Group 23"/>
            <p:cNvGrpSpPr/>
            <p:nvPr/>
          </p:nvGrpSpPr>
          <p:grpSpPr>
            <a:xfrm>
              <a:off x="4571640" y="1125360"/>
              <a:ext cx="405000" cy="276480"/>
              <a:chOff x="4571640" y="1125360"/>
              <a:chExt cx="405000" cy="276480"/>
            </a:xfrm>
          </p:grpSpPr>
          <p:sp>
            <p:nvSpPr>
              <p:cNvPr id="609" name="矩形 34"/>
              <p:cNvSpPr/>
              <p:nvPr/>
            </p:nvSpPr>
            <p:spPr>
              <a:xfrm>
                <a:off x="4571640" y="1170000"/>
                <a:ext cx="405000" cy="1796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KEA Sans"/>
                </a:endParaRPr>
              </a:p>
            </p:txBody>
          </p:sp>
          <p:sp>
            <p:nvSpPr>
              <p:cNvPr id="610" name="TextBox 35"/>
              <p:cNvSpPr/>
              <p:nvPr/>
            </p:nvSpPr>
            <p:spPr>
              <a:xfrm>
                <a:off x="4605120" y="1125360"/>
                <a:ext cx="363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IKEA Sans"/>
                    <a:ea typeface="微软雅黑"/>
                  </a:rPr>
                  <a:t>衬衫</a:t>
                </a:r>
                <a:endParaRPr b="0" lang="en-US" sz="1200" spc="-1" strike="noStrike">
                  <a:solidFill>
                    <a:srgbClr val="000000"/>
                  </a:solidFill>
                  <a:latin typeface="IKEA Sans"/>
                </a:endParaRPr>
              </a:p>
            </p:txBody>
          </p:sp>
        </p:grpSp>
      </p:grpSp>
      <p:sp>
        <p:nvSpPr>
          <p:cNvPr id="611" name="直接连接符 37"/>
          <p:cNvSpPr/>
          <p:nvPr/>
        </p:nvSpPr>
        <p:spPr>
          <a:xfrm>
            <a:off x="2232000" y="2511360"/>
            <a:ext cx="224964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grpSp>
        <p:nvGrpSpPr>
          <p:cNvPr id="612" name="Group 27"/>
          <p:cNvGrpSpPr/>
          <p:nvPr/>
        </p:nvGrpSpPr>
        <p:grpSpPr>
          <a:xfrm>
            <a:off x="4470480" y="2376360"/>
            <a:ext cx="4206960" cy="601560"/>
            <a:chOff x="4470480" y="2376360"/>
            <a:chExt cx="4206960" cy="601560"/>
          </a:xfrm>
        </p:grpSpPr>
        <p:sp>
          <p:nvSpPr>
            <p:cNvPr id="613" name="矩形 39"/>
            <p:cNvSpPr/>
            <p:nvPr/>
          </p:nvSpPr>
          <p:spPr>
            <a:xfrm>
              <a:off x="4470480" y="2579400"/>
              <a:ext cx="4206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IKEA Sans"/>
                  <a:ea typeface="微软雅黑"/>
                </a:rPr>
                <a:t>颜色：藏青色、黑色最佳。</a:t>
              </a:r>
              <a:endParaRPr b="0" lang="en-US" sz="1000" spc="-1" strike="noStrike">
                <a:solidFill>
                  <a:srgbClr val="000000"/>
                </a:solidFill>
                <a:latin typeface="IKEA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IKEA Sans"/>
                  <a:ea typeface="微软雅黑"/>
                </a:rPr>
                <a:t>质地：纯羊毛，在视觉效果上比任何其他衣料都要好。</a:t>
              </a:r>
              <a:endParaRPr b="0" lang="en-US" sz="1000" spc="-1" strike="noStrike">
                <a:solidFill>
                  <a:srgbClr val="000000"/>
                </a:solidFill>
                <a:latin typeface="IKEA Sans"/>
              </a:endParaRPr>
            </a:p>
          </p:txBody>
        </p:sp>
        <p:grpSp>
          <p:nvGrpSpPr>
            <p:cNvPr id="614" name="Group 29"/>
            <p:cNvGrpSpPr/>
            <p:nvPr/>
          </p:nvGrpSpPr>
          <p:grpSpPr>
            <a:xfrm>
              <a:off x="4571640" y="2376360"/>
              <a:ext cx="405000" cy="276480"/>
              <a:chOff x="4571640" y="2376360"/>
              <a:chExt cx="405000" cy="276480"/>
            </a:xfrm>
          </p:grpSpPr>
          <p:sp>
            <p:nvSpPr>
              <p:cNvPr id="615" name="矩形 41"/>
              <p:cNvSpPr/>
              <p:nvPr/>
            </p:nvSpPr>
            <p:spPr>
              <a:xfrm>
                <a:off x="4571640" y="2421000"/>
                <a:ext cx="405000" cy="180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KEA Sans"/>
                </a:endParaRPr>
              </a:p>
            </p:txBody>
          </p:sp>
          <p:sp>
            <p:nvSpPr>
              <p:cNvPr id="616" name="TextBox 42"/>
              <p:cNvSpPr/>
              <p:nvPr/>
            </p:nvSpPr>
            <p:spPr>
              <a:xfrm>
                <a:off x="4605120" y="2376360"/>
                <a:ext cx="363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IKEA Sans"/>
                    <a:ea typeface="微软雅黑"/>
                  </a:rPr>
                  <a:t>西装</a:t>
                </a:r>
                <a:endParaRPr b="0" lang="en-US" sz="1200" spc="-1" strike="noStrike">
                  <a:solidFill>
                    <a:srgbClr val="000000"/>
                  </a:solidFill>
                  <a:latin typeface="IKEA Sans"/>
                </a:endParaRPr>
              </a:p>
            </p:txBody>
          </p:sp>
        </p:grpSp>
      </p:grpSp>
      <p:sp>
        <p:nvSpPr>
          <p:cNvPr id="617" name="直接连接符 43"/>
          <p:cNvSpPr/>
          <p:nvPr/>
        </p:nvSpPr>
        <p:spPr>
          <a:xfrm>
            <a:off x="2035080" y="4140360"/>
            <a:ext cx="244656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grpSp>
        <p:nvGrpSpPr>
          <p:cNvPr id="618" name="Group 33"/>
          <p:cNvGrpSpPr/>
          <p:nvPr/>
        </p:nvGrpSpPr>
        <p:grpSpPr>
          <a:xfrm>
            <a:off x="4470480" y="4049640"/>
            <a:ext cx="4206960" cy="601560"/>
            <a:chOff x="4470480" y="4049640"/>
            <a:chExt cx="4206960" cy="601560"/>
          </a:xfrm>
        </p:grpSpPr>
        <p:sp>
          <p:nvSpPr>
            <p:cNvPr id="619" name="矩形 45"/>
            <p:cNvSpPr/>
            <p:nvPr/>
          </p:nvSpPr>
          <p:spPr>
            <a:xfrm>
              <a:off x="4470480" y="4252680"/>
              <a:ext cx="4206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IKEA Sans"/>
                  <a:ea typeface="微软雅黑"/>
                </a:rPr>
                <a:t>颜色：黑色或棕色最佳。</a:t>
              </a:r>
              <a:endParaRPr b="0" lang="en-US" sz="1000" spc="-1" strike="noStrike">
                <a:solidFill>
                  <a:srgbClr val="000000"/>
                </a:solidFill>
                <a:latin typeface="IKEA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IKEA Sans"/>
                  <a:ea typeface="微软雅黑"/>
                </a:rPr>
                <a:t>系鞋带的皮鞋是最保守的选择，无带的也较大方得体。</a:t>
              </a:r>
              <a:endParaRPr b="0" lang="en-US" sz="1000" spc="-1" strike="noStrike">
                <a:solidFill>
                  <a:srgbClr val="000000"/>
                </a:solidFill>
                <a:latin typeface="IKEA Sans"/>
              </a:endParaRPr>
            </a:p>
          </p:txBody>
        </p:sp>
        <p:grpSp>
          <p:nvGrpSpPr>
            <p:cNvPr id="620" name="Group 35"/>
            <p:cNvGrpSpPr/>
            <p:nvPr/>
          </p:nvGrpSpPr>
          <p:grpSpPr>
            <a:xfrm>
              <a:off x="4571640" y="4049640"/>
              <a:ext cx="405000" cy="276480"/>
              <a:chOff x="4571640" y="4049640"/>
              <a:chExt cx="405000" cy="276480"/>
            </a:xfrm>
          </p:grpSpPr>
          <p:sp>
            <p:nvSpPr>
              <p:cNvPr id="621" name="矩形 47"/>
              <p:cNvSpPr/>
              <p:nvPr/>
            </p:nvSpPr>
            <p:spPr>
              <a:xfrm>
                <a:off x="4571640" y="4094280"/>
                <a:ext cx="405000" cy="180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KEA Sans"/>
                </a:endParaRPr>
              </a:p>
            </p:txBody>
          </p:sp>
          <p:sp>
            <p:nvSpPr>
              <p:cNvPr id="622" name="TextBox 48"/>
              <p:cNvSpPr/>
              <p:nvPr/>
            </p:nvSpPr>
            <p:spPr>
              <a:xfrm>
                <a:off x="4605120" y="4049640"/>
                <a:ext cx="363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IKEA Sans"/>
                    <a:ea typeface="微软雅黑"/>
                  </a:rPr>
                  <a:t>皮鞋</a:t>
                </a:r>
                <a:endParaRPr b="0" lang="en-US" sz="1200" spc="-1" strike="noStrike">
                  <a:solidFill>
                    <a:srgbClr val="000000"/>
                  </a:solidFill>
                  <a:latin typeface="IKEA Sans"/>
                </a:endParaRPr>
              </a:p>
            </p:txBody>
          </p:sp>
        </p:grpSp>
      </p:grpSp>
      <p:grpSp>
        <p:nvGrpSpPr>
          <p:cNvPr id="623" name="Group 38"/>
          <p:cNvGrpSpPr/>
          <p:nvPr/>
        </p:nvGrpSpPr>
        <p:grpSpPr>
          <a:xfrm>
            <a:off x="4470480" y="3284640"/>
            <a:ext cx="4206960" cy="601200"/>
            <a:chOff x="4470480" y="3284640"/>
            <a:chExt cx="4206960" cy="601200"/>
          </a:xfrm>
        </p:grpSpPr>
        <p:sp>
          <p:nvSpPr>
            <p:cNvPr id="624" name="矩形 51"/>
            <p:cNvSpPr/>
            <p:nvPr/>
          </p:nvSpPr>
          <p:spPr>
            <a:xfrm>
              <a:off x="4470480" y="3487320"/>
              <a:ext cx="4206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IKEA Sans"/>
                  <a:ea typeface="微软雅黑"/>
                </a:rPr>
                <a:t>颜色：黑色最佳。</a:t>
              </a:r>
              <a:endParaRPr b="0" lang="en-US" sz="1000" spc="-1" strike="noStrike">
                <a:solidFill>
                  <a:srgbClr val="000000"/>
                </a:solidFill>
                <a:latin typeface="IKEA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IKEA Sans"/>
                  <a:ea typeface="微软雅黑"/>
                </a:rPr>
                <a:t>长度：应该以你跷腿时不露出太多的胫骨为宜。</a:t>
              </a:r>
              <a:endParaRPr b="0" lang="en-US" sz="1000" spc="-1" strike="noStrike">
                <a:solidFill>
                  <a:srgbClr val="000000"/>
                </a:solidFill>
                <a:latin typeface="IKEA Sans"/>
              </a:endParaRPr>
            </a:p>
          </p:txBody>
        </p:sp>
        <p:grpSp>
          <p:nvGrpSpPr>
            <p:cNvPr id="625" name="Group 40"/>
            <p:cNvGrpSpPr/>
            <p:nvPr/>
          </p:nvGrpSpPr>
          <p:grpSpPr>
            <a:xfrm>
              <a:off x="4571640" y="3284640"/>
              <a:ext cx="405000" cy="276480"/>
              <a:chOff x="4571640" y="3284640"/>
              <a:chExt cx="405000" cy="276480"/>
            </a:xfrm>
          </p:grpSpPr>
          <p:sp>
            <p:nvSpPr>
              <p:cNvPr id="626" name="矩形 53"/>
              <p:cNvSpPr/>
              <p:nvPr/>
            </p:nvSpPr>
            <p:spPr>
              <a:xfrm>
                <a:off x="4571640" y="3329280"/>
                <a:ext cx="405000" cy="180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KEA Sans"/>
                </a:endParaRPr>
              </a:p>
            </p:txBody>
          </p:sp>
          <p:sp>
            <p:nvSpPr>
              <p:cNvPr id="627" name="TextBox 54"/>
              <p:cNvSpPr/>
              <p:nvPr/>
            </p:nvSpPr>
            <p:spPr>
              <a:xfrm>
                <a:off x="4605120" y="3284640"/>
                <a:ext cx="363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IKEA Sans"/>
                    <a:ea typeface="微软雅黑"/>
                  </a:rPr>
                  <a:t>袜子</a:t>
                </a:r>
                <a:endParaRPr b="0" lang="en-US" sz="1200" spc="-1" strike="noStrike">
                  <a:solidFill>
                    <a:srgbClr val="000000"/>
                  </a:solidFill>
                  <a:latin typeface="IKEA Sans"/>
                </a:endParaRPr>
              </a:p>
            </p:txBody>
          </p:sp>
        </p:grpSp>
      </p:grp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Picture 2" descr=""/>
          <p:cNvPicPr/>
          <p:nvPr/>
        </p:nvPicPr>
        <p:blipFill>
          <a:blip r:embed="rId1"/>
          <a:stretch/>
        </p:blipFill>
        <p:spPr>
          <a:xfrm>
            <a:off x="1117440" y="317520"/>
            <a:ext cx="1835280" cy="4600440"/>
          </a:xfrm>
          <a:prstGeom prst="rect">
            <a:avLst/>
          </a:prstGeom>
          <a:ln w="0">
            <a:noFill/>
          </a:ln>
        </p:spPr>
      </p:pic>
      <p:grpSp>
        <p:nvGrpSpPr>
          <p:cNvPr id="629" name="Group 3"/>
          <p:cNvGrpSpPr/>
          <p:nvPr/>
        </p:nvGrpSpPr>
        <p:grpSpPr>
          <a:xfrm>
            <a:off x="259200" y="90720"/>
            <a:ext cx="550440" cy="2444400"/>
            <a:chOff x="259200" y="90720"/>
            <a:chExt cx="550440" cy="2444400"/>
          </a:xfrm>
        </p:grpSpPr>
        <p:sp>
          <p:nvSpPr>
            <p:cNvPr id="630" name="TextBox 2"/>
            <p:cNvSpPr/>
            <p:nvPr/>
          </p:nvSpPr>
          <p:spPr>
            <a:xfrm>
              <a:off x="354960" y="1703520"/>
              <a:ext cx="45468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·</a:t>
              </a:r>
              <a:r>
                <a:rPr b="0" lang="zh-CN" sz="18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女士</a:t>
              </a:r>
              <a:endParaRPr b="0" lang="en-US" sz="1800" spc="-1" strike="noStrike">
                <a:solidFill>
                  <a:srgbClr val="000000"/>
                </a:solidFill>
                <a:latin typeface="IKEA Sans"/>
              </a:endParaRPr>
            </a:p>
          </p:txBody>
        </p:sp>
        <p:sp>
          <p:nvSpPr>
            <p:cNvPr id="631" name="TextBox 3"/>
            <p:cNvSpPr/>
            <p:nvPr/>
          </p:nvSpPr>
          <p:spPr>
            <a:xfrm>
              <a:off x="259200" y="415800"/>
              <a:ext cx="454680" cy="15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·</a:t>
              </a:r>
              <a:endParaRPr b="0" lang="en-US" sz="1800" spc="-1" strike="noStrike">
                <a:solidFill>
                  <a:srgbClr val="000000"/>
                </a:solidFill>
                <a:latin typeface="IKEA Sans"/>
              </a:endParaRPr>
            </a:p>
          </p:txBody>
        </p:sp>
        <p:sp>
          <p:nvSpPr>
            <p:cNvPr id="632" name="TextBox 14"/>
            <p:cNvSpPr/>
            <p:nvPr/>
          </p:nvSpPr>
          <p:spPr>
            <a:xfrm>
              <a:off x="354960" y="90720"/>
              <a:ext cx="454680" cy="19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面试着装指南</a:t>
              </a:r>
              <a:endParaRPr b="0" lang="en-US" sz="1800" spc="-1" strike="noStrike">
                <a:solidFill>
                  <a:srgbClr val="000000"/>
                </a:solidFill>
                <a:latin typeface="IKEA Sans"/>
              </a:endParaRPr>
            </a:p>
          </p:txBody>
        </p:sp>
      </p:grpSp>
      <p:grpSp>
        <p:nvGrpSpPr>
          <p:cNvPr id="633" name="Group 7"/>
          <p:cNvGrpSpPr/>
          <p:nvPr/>
        </p:nvGrpSpPr>
        <p:grpSpPr>
          <a:xfrm>
            <a:off x="3357720" y="1246320"/>
            <a:ext cx="1618920" cy="463680"/>
            <a:chOff x="3357720" y="1246320"/>
            <a:chExt cx="1618920" cy="463680"/>
          </a:xfrm>
        </p:grpSpPr>
        <p:sp>
          <p:nvSpPr>
            <p:cNvPr id="634" name="矩形 8"/>
            <p:cNvSpPr/>
            <p:nvPr/>
          </p:nvSpPr>
          <p:spPr>
            <a:xfrm>
              <a:off x="3357720" y="1463760"/>
              <a:ext cx="161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IKEA Sans"/>
                  <a:ea typeface="微软雅黑"/>
                </a:rPr>
                <a:t>裁剪合体，气质凸显。</a:t>
              </a:r>
              <a:endParaRPr b="0" lang="en-US" sz="1000" spc="-1" strike="noStrike">
                <a:solidFill>
                  <a:srgbClr val="000000"/>
                </a:solidFill>
                <a:latin typeface="IKEA Sans"/>
              </a:endParaRPr>
            </a:p>
          </p:txBody>
        </p:sp>
        <p:grpSp>
          <p:nvGrpSpPr>
            <p:cNvPr id="635" name="Group 9"/>
            <p:cNvGrpSpPr/>
            <p:nvPr/>
          </p:nvGrpSpPr>
          <p:grpSpPr>
            <a:xfrm>
              <a:off x="3458880" y="1246320"/>
              <a:ext cx="611640" cy="276480"/>
              <a:chOff x="3458880" y="1246320"/>
              <a:chExt cx="611640" cy="276480"/>
            </a:xfrm>
          </p:grpSpPr>
          <p:sp>
            <p:nvSpPr>
              <p:cNvPr id="636" name="矩形 9"/>
              <p:cNvSpPr/>
              <p:nvPr/>
            </p:nvSpPr>
            <p:spPr>
              <a:xfrm>
                <a:off x="3458880" y="1290960"/>
                <a:ext cx="611640" cy="1796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KEA Sans"/>
                </a:endParaRPr>
              </a:p>
            </p:txBody>
          </p:sp>
          <p:sp>
            <p:nvSpPr>
              <p:cNvPr id="637" name="TextBox 10"/>
              <p:cNvSpPr/>
              <p:nvPr/>
            </p:nvSpPr>
            <p:spPr>
              <a:xfrm>
                <a:off x="3542760" y="1246320"/>
                <a:ext cx="45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IKEA Sans"/>
                    <a:ea typeface="微软雅黑"/>
                  </a:rPr>
                  <a:t>小西装</a:t>
                </a:r>
                <a:endParaRPr b="0" lang="en-US" sz="1200" spc="-1" strike="noStrike">
                  <a:solidFill>
                    <a:srgbClr val="000000"/>
                  </a:solidFill>
                  <a:latin typeface="IKEA Sans"/>
                </a:endParaRPr>
              </a:p>
            </p:txBody>
          </p:sp>
        </p:grpSp>
      </p:grpSp>
      <p:grpSp>
        <p:nvGrpSpPr>
          <p:cNvPr id="638" name="Group 12"/>
          <p:cNvGrpSpPr/>
          <p:nvPr/>
        </p:nvGrpSpPr>
        <p:grpSpPr>
          <a:xfrm>
            <a:off x="3357720" y="1722600"/>
            <a:ext cx="4206600" cy="463680"/>
            <a:chOff x="3357720" y="1722600"/>
            <a:chExt cx="4206600" cy="463680"/>
          </a:xfrm>
        </p:grpSpPr>
        <p:sp>
          <p:nvSpPr>
            <p:cNvPr id="639" name="矩形 55"/>
            <p:cNvSpPr/>
            <p:nvPr/>
          </p:nvSpPr>
          <p:spPr>
            <a:xfrm>
              <a:off x="3357720" y="1940040"/>
              <a:ext cx="4206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IKEA Sans"/>
                  <a:ea typeface="微软雅黑"/>
                </a:rPr>
                <a:t>面试的最好选择之一，不论是外加小西装，还是搭配一件合身的大开口毛衣都很不错。</a:t>
              </a:r>
              <a:endParaRPr b="0" lang="en-US" sz="1000" spc="-1" strike="noStrike">
                <a:solidFill>
                  <a:srgbClr val="000000"/>
                </a:solidFill>
                <a:latin typeface="IKEA Sans"/>
              </a:endParaRPr>
            </a:p>
          </p:txBody>
        </p:sp>
        <p:grpSp>
          <p:nvGrpSpPr>
            <p:cNvPr id="640" name="Group 14"/>
            <p:cNvGrpSpPr/>
            <p:nvPr/>
          </p:nvGrpSpPr>
          <p:grpSpPr>
            <a:xfrm>
              <a:off x="3458880" y="1722600"/>
              <a:ext cx="405000" cy="276480"/>
              <a:chOff x="3458880" y="1722600"/>
              <a:chExt cx="405000" cy="276480"/>
            </a:xfrm>
          </p:grpSpPr>
          <p:sp>
            <p:nvSpPr>
              <p:cNvPr id="641" name="矩形 57"/>
              <p:cNvSpPr/>
              <p:nvPr/>
            </p:nvSpPr>
            <p:spPr>
              <a:xfrm>
                <a:off x="3458880" y="1767240"/>
                <a:ext cx="405000" cy="1800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KEA Sans"/>
                </a:endParaRPr>
              </a:p>
            </p:txBody>
          </p:sp>
          <p:sp>
            <p:nvSpPr>
              <p:cNvPr id="642" name="TextBox 58"/>
              <p:cNvSpPr/>
              <p:nvPr/>
            </p:nvSpPr>
            <p:spPr>
              <a:xfrm>
                <a:off x="3492360" y="1722600"/>
                <a:ext cx="363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IKEA Sans"/>
                    <a:ea typeface="微软雅黑"/>
                  </a:rPr>
                  <a:t>衬衫</a:t>
                </a:r>
                <a:endParaRPr b="0" lang="en-US" sz="1200" spc="-1" strike="noStrike">
                  <a:solidFill>
                    <a:srgbClr val="000000"/>
                  </a:solidFill>
                  <a:latin typeface="IKEA Sans"/>
                </a:endParaRPr>
              </a:p>
            </p:txBody>
          </p:sp>
        </p:grpSp>
      </p:grpSp>
      <p:grpSp>
        <p:nvGrpSpPr>
          <p:cNvPr id="643" name="Group 17"/>
          <p:cNvGrpSpPr/>
          <p:nvPr/>
        </p:nvGrpSpPr>
        <p:grpSpPr>
          <a:xfrm>
            <a:off x="3357720" y="3465360"/>
            <a:ext cx="4206600" cy="464040"/>
            <a:chOff x="3357720" y="3465360"/>
            <a:chExt cx="4206600" cy="464040"/>
          </a:xfrm>
        </p:grpSpPr>
        <p:sp>
          <p:nvSpPr>
            <p:cNvPr id="644" name="矩形 60"/>
            <p:cNvSpPr/>
            <p:nvPr/>
          </p:nvSpPr>
          <p:spPr>
            <a:xfrm>
              <a:off x="3357720" y="3683160"/>
              <a:ext cx="4206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IKEA Sans"/>
                  <a:ea typeface="微软雅黑"/>
                </a:rPr>
                <a:t>带来干练的中性魅力。</a:t>
              </a:r>
              <a:endParaRPr b="0" lang="en-US" sz="1000" spc="-1" strike="noStrike">
                <a:solidFill>
                  <a:srgbClr val="000000"/>
                </a:solidFill>
                <a:latin typeface="IKEA Sans"/>
              </a:endParaRPr>
            </a:p>
          </p:txBody>
        </p:sp>
        <p:grpSp>
          <p:nvGrpSpPr>
            <p:cNvPr id="645" name="Group 19"/>
            <p:cNvGrpSpPr/>
            <p:nvPr/>
          </p:nvGrpSpPr>
          <p:grpSpPr>
            <a:xfrm>
              <a:off x="3458880" y="3465360"/>
              <a:ext cx="792000" cy="276480"/>
              <a:chOff x="3458880" y="3465360"/>
              <a:chExt cx="792000" cy="276480"/>
            </a:xfrm>
          </p:grpSpPr>
          <p:sp>
            <p:nvSpPr>
              <p:cNvPr id="646" name="矩形 62"/>
              <p:cNvSpPr/>
              <p:nvPr/>
            </p:nvSpPr>
            <p:spPr>
              <a:xfrm>
                <a:off x="3458880" y="3510000"/>
                <a:ext cx="792000" cy="1800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KEA Sans"/>
                </a:endParaRPr>
              </a:p>
            </p:txBody>
          </p:sp>
          <p:sp>
            <p:nvSpPr>
              <p:cNvPr id="647" name="TextBox 63"/>
              <p:cNvSpPr/>
              <p:nvPr/>
            </p:nvSpPr>
            <p:spPr>
              <a:xfrm>
                <a:off x="3593520" y="3465360"/>
                <a:ext cx="546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IKEA Sans"/>
                    <a:ea typeface="微软雅黑"/>
                  </a:rPr>
                  <a:t>直筒长裤</a:t>
                </a:r>
                <a:endParaRPr b="0" lang="en-US" sz="1200" spc="-1" strike="noStrike">
                  <a:solidFill>
                    <a:srgbClr val="000000"/>
                  </a:solidFill>
                  <a:latin typeface="IKEA Sans"/>
                </a:endParaRPr>
              </a:p>
            </p:txBody>
          </p:sp>
        </p:grpSp>
      </p:grpSp>
      <p:grpSp>
        <p:nvGrpSpPr>
          <p:cNvPr id="648" name="Group 22"/>
          <p:cNvGrpSpPr/>
          <p:nvPr/>
        </p:nvGrpSpPr>
        <p:grpSpPr>
          <a:xfrm>
            <a:off x="3357720" y="2424240"/>
            <a:ext cx="4206600" cy="464040"/>
            <a:chOff x="3357720" y="2424240"/>
            <a:chExt cx="4206600" cy="464040"/>
          </a:xfrm>
        </p:grpSpPr>
        <p:sp>
          <p:nvSpPr>
            <p:cNvPr id="649" name="矩形 65"/>
            <p:cNvSpPr/>
            <p:nvPr/>
          </p:nvSpPr>
          <p:spPr>
            <a:xfrm>
              <a:off x="3357720" y="2642040"/>
              <a:ext cx="4206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IKEA Sans"/>
                  <a:ea typeface="微软雅黑"/>
                </a:rPr>
                <a:t>当地搭配一些饰品无疑会使你的形象锦上添花，但搭配饰品也应讲求少而精，一条丝巾，一枚胸花，一条项链，就能恰到好处地体现你的气质和神韵。</a:t>
              </a:r>
              <a:endParaRPr b="0" lang="en-US" sz="1000" spc="-1" strike="noStrike">
                <a:solidFill>
                  <a:srgbClr val="000000"/>
                </a:solidFill>
                <a:latin typeface="IKEA Sans"/>
              </a:endParaRPr>
            </a:p>
          </p:txBody>
        </p:sp>
        <p:grpSp>
          <p:nvGrpSpPr>
            <p:cNvPr id="650" name="Group 24"/>
            <p:cNvGrpSpPr/>
            <p:nvPr/>
          </p:nvGrpSpPr>
          <p:grpSpPr>
            <a:xfrm>
              <a:off x="3458880" y="2424240"/>
              <a:ext cx="405000" cy="276480"/>
              <a:chOff x="3458880" y="2424240"/>
              <a:chExt cx="405000" cy="276480"/>
            </a:xfrm>
          </p:grpSpPr>
          <p:sp>
            <p:nvSpPr>
              <p:cNvPr id="651" name="矩形 67"/>
              <p:cNvSpPr/>
              <p:nvPr/>
            </p:nvSpPr>
            <p:spPr>
              <a:xfrm>
                <a:off x="3458880" y="2468880"/>
                <a:ext cx="405000" cy="1800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KEA Sans"/>
                </a:endParaRPr>
              </a:p>
            </p:txBody>
          </p:sp>
          <p:sp>
            <p:nvSpPr>
              <p:cNvPr id="652" name="TextBox 68"/>
              <p:cNvSpPr/>
              <p:nvPr/>
            </p:nvSpPr>
            <p:spPr>
              <a:xfrm>
                <a:off x="3492360" y="2424240"/>
                <a:ext cx="363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IKEA Sans"/>
                    <a:ea typeface="微软雅黑"/>
                  </a:rPr>
                  <a:t>配饰</a:t>
                </a:r>
                <a:endParaRPr b="0" lang="en-US" sz="1200" spc="-1" strike="noStrike">
                  <a:solidFill>
                    <a:srgbClr val="000000"/>
                  </a:solidFill>
                  <a:latin typeface="IKEA Sans"/>
                </a:endParaRPr>
              </a:p>
            </p:txBody>
          </p:sp>
        </p:grpSp>
      </p:grpSp>
      <p:sp>
        <p:nvSpPr>
          <p:cNvPr id="653" name="直接连接符 5"/>
          <p:cNvSpPr/>
          <p:nvPr/>
        </p:nvSpPr>
        <p:spPr>
          <a:xfrm flipH="1">
            <a:off x="2501640" y="1384200"/>
            <a:ext cx="8874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654" name="直接连接符 11"/>
          <p:cNvSpPr/>
          <p:nvPr/>
        </p:nvSpPr>
        <p:spPr>
          <a:xfrm flipH="1" flipV="1">
            <a:off x="2035080" y="1856880"/>
            <a:ext cx="1354320" cy="324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655" name="直接连接符 13"/>
          <p:cNvSpPr/>
          <p:nvPr/>
        </p:nvSpPr>
        <p:spPr>
          <a:xfrm flipH="1" flipV="1">
            <a:off x="2501640" y="2557080"/>
            <a:ext cx="887400" cy="468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656" name="直接连接符 19"/>
          <p:cNvSpPr/>
          <p:nvPr/>
        </p:nvSpPr>
        <p:spPr>
          <a:xfrm flipH="1" flipV="1">
            <a:off x="2276280" y="3600000"/>
            <a:ext cx="1112760" cy="324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grpSp>
        <p:nvGrpSpPr>
          <p:cNvPr id="657" name="Group 31"/>
          <p:cNvGrpSpPr/>
          <p:nvPr/>
        </p:nvGrpSpPr>
        <p:grpSpPr>
          <a:xfrm>
            <a:off x="3357720" y="596880"/>
            <a:ext cx="4206600" cy="463680"/>
            <a:chOff x="3357720" y="596880"/>
            <a:chExt cx="4206600" cy="463680"/>
          </a:xfrm>
        </p:grpSpPr>
        <p:sp>
          <p:nvSpPr>
            <p:cNvPr id="658" name="矩形 75"/>
            <p:cNvSpPr/>
            <p:nvPr/>
          </p:nvSpPr>
          <p:spPr>
            <a:xfrm>
              <a:off x="3357720" y="814320"/>
              <a:ext cx="4206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IKEA Sans"/>
                  <a:ea typeface="微软雅黑"/>
                </a:rPr>
                <a:t>用薄而透明的粉底营造健康的肤色，用浅色口红增加自然美感，用棕色眉笔调整眉形，用睫毛膏让眼睛更加有神。越淡雅自然。</a:t>
              </a:r>
              <a:endParaRPr b="0" lang="en-US" sz="1000" spc="-1" strike="noStrike">
                <a:solidFill>
                  <a:srgbClr val="000000"/>
                </a:solidFill>
                <a:latin typeface="IKEA Sans"/>
              </a:endParaRPr>
            </a:p>
          </p:txBody>
        </p:sp>
        <p:grpSp>
          <p:nvGrpSpPr>
            <p:cNvPr id="659" name="Group 33"/>
            <p:cNvGrpSpPr/>
            <p:nvPr/>
          </p:nvGrpSpPr>
          <p:grpSpPr>
            <a:xfrm>
              <a:off x="3458880" y="596880"/>
              <a:ext cx="405000" cy="276480"/>
              <a:chOff x="3458880" y="596880"/>
              <a:chExt cx="405000" cy="276480"/>
            </a:xfrm>
          </p:grpSpPr>
          <p:sp>
            <p:nvSpPr>
              <p:cNvPr id="660" name="矩形 77"/>
              <p:cNvSpPr/>
              <p:nvPr/>
            </p:nvSpPr>
            <p:spPr>
              <a:xfrm>
                <a:off x="3458880" y="641520"/>
                <a:ext cx="405000" cy="1800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KEA Sans"/>
                </a:endParaRPr>
              </a:p>
            </p:txBody>
          </p:sp>
          <p:sp>
            <p:nvSpPr>
              <p:cNvPr id="661" name="TextBox 78"/>
              <p:cNvSpPr/>
              <p:nvPr/>
            </p:nvSpPr>
            <p:spPr>
              <a:xfrm>
                <a:off x="3492360" y="596880"/>
                <a:ext cx="363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IKEA Sans"/>
                    <a:ea typeface="微软雅黑"/>
                  </a:rPr>
                  <a:t>淡妆</a:t>
                </a:r>
                <a:endParaRPr b="0" lang="en-US" sz="1200" spc="-1" strike="noStrike">
                  <a:solidFill>
                    <a:srgbClr val="000000"/>
                  </a:solidFill>
                  <a:latin typeface="IKEA Sans"/>
                </a:endParaRPr>
              </a:p>
            </p:txBody>
          </p:sp>
        </p:grpSp>
      </p:grpSp>
      <p:sp>
        <p:nvSpPr>
          <p:cNvPr id="662" name="直接连接符 22"/>
          <p:cNvSpPr/>
          <p:nvPr/>
        </p:nvSpPr>
        <p:spPr>
          <a:xfrm flipH="1">
            <a:off x="2097000" y="735120"/>
            <a:ext cx="12924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3" name="Group 2"/>
          <p:cNvGrpSpPr/>
          <p:nvPr/>
        </p:nvGrpSpPr>
        <p:grpSpPr>
          <a:xfrm>
            <a:off x="1211400" y="0"/>
            <a:ext cx="6222960" cy="5040360"/>
            <a:chOff x="1211400" y="0"/>
            <a:chExt cx="6222960" cy="5040360"/>
          </a:xfrm>
        </p:grpSpPr>
        <p:sp>
          <p:nvSpPr>
            <p:cNvPr id="664" name="矩形 4"/>
            <p:cNvSpPr/>
            <p:nvPr/>
          </p:nvSpPr>
          <p:spPr>
            <a:xfrm>
              <a:off x="1697760" y="0"/>
              <a:ext cx="4944240" cy="53568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2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2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2900" spc="-1" strike="noStrike">
                <a:solidFill>
                  <a:srgbClr val="000000"/>
                </a:solidFill>
                <a:latin typeface="IKEA Sans"/>
              </a:endParaRPr>
            </a:p>
          </p:txBody>
        </p:sp>
        <p:pic>
          <p:nvPicPr>
            <p:cNvPr id="66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211400" y="1260000"/>
              <a:ext cx="6222960" cy="378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6" name="TextBox 7"/>
            <p:cNvSpPr/>
            <p:nvPr/>
          </p:nvSpPr>
          <p:spPr>
            <a:xfrm rot="20926800">
              <a:off x="2621160" y="2609640"/>
              <a:ext cx="3430440" cy="88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23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3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23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23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23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2300" spc="-1" strike="noStrike">
                <a:solidFill>
                  <a:srgbClr val="000000"/>
                </a:solidFill>
                <a:latin typeface="IKE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4T07:50:35Z</dcterms:created>
  <dc:creator>sg</dc:creator>
  <dc:description/>
  <dc:language>en-US</dc:language>
  <cp:lastModifiedBy>a</cp:lastModifiedBy>
  <dcterms:modified xsi:type="dcterms:W3CDTF">2015-01-14T07:51:08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